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DE9-C4FC-4D04-8744-CC5C88EC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DEF-169A-46F5-B159-B77D708F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41F-A1D6-4DE7-B715-B075A691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A21-E764-44FA-9280-AD796989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4433-DEFE-4472-9B88-D4F14024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9743-D98B-46E3-A98B-DFE1F6CF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82A1-84A1-4A10-AD5D-C53F968D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4D6C-F776-4751-9EF1-E6883C4A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BDD2-DE93-4C20-97D9-0229D6E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646A-0A91-450E-A818-F477247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F79B-1601-4540-A350-2CDD0961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333-CB46-40F2-BD59-E5BBA3C6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7AD4-F3E7-4C70-BD41-B8FAAE34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5D3C-E168-4418-B23B-9631E0F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678B-535C-4D42-BD42-621C9341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D3B1-6394-451B-8C03-CEA32A5E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A329-2146-4752-9DBE-5F470FB5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747-78F1-4E99-A43E-22EA6F6B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383-3965-4C35-BE16-A78BF97C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836-A6CC-4D7B-A4C0-21F3C3F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504-8B31-4B14-B725-2BC23474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C61-2D93-448F-81C6-7EA0477F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ADE-BC5C-4F46-8380-C14CEC3A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E62-9035-4A33-8AE4-B9E08580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F680-5255-4ADF-BBDC-BB0851426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7D45-11C1-494D-A610-C1AAF9B2E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bjective:  Students will divide fractions and mixed numb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pener:  Sol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2057400"/>
                <a:ext cx="838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990720" y="3251160"/>
                <a:ext cx="838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66680" y="4495680"/>
                <a:ext cx="685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276880" y="1946160"/>
            <a:ext cx="287280" cy="455760"/>
          </a:xfrm>
          <a:custGeom>
            <a:avLst/>
            <a:gdLst/>
            <a:ahLst/>
            <a:rect l="l" t="t" r="r" b="b"/>
            <a:pathLst>
              <a:path w="794" h="1266">
                <a:moveTo>
                  <a:pt x="15304" y="6226"/>
                </a:moveTo>
                <a:cubicBezTo>
                  <a:pt x="15394" y="6226"/>
                  <a:pt x="15420" y="6233"/>
                  <a:pt x="15453" y="6176"/>
                </a:cubicBezTo>
              </a:path>
              <a:path w="794" h="1266">
                <a:moveTo>
                  <a:pt x="14660" y="5606"/>
                </a:moveTo>
                <a:cubicBezTo>
                  <a:pt x="14708" y="5599"/>
                  <a:pt x="14718" y="5591"/>
                  <a:pt x="14759" y="5581"/>
                </a:cubicBezTo>
              </a:path>
              <a:path w="794" h="1266">
                <a:moveTo>
                  <a:pt x="14684" y="5407"/>
                </a:moveTo>
                <a:lnTo>
                  <a:pt x="14684" y="5407"/>
                </a:lnTo>
              </a:path>
              <a:path w="794" h="1266">
                <a:moveTo>
                  <a:pt x="14684" y="5829"/>
                </a:moveTo>
                <a:cubicBezTo>
                  <a:pt x="14684" y="5821"/>
                  <a:pt x="14684" y="5812"/>
                  <a:pt x="14684" y="5804"/>
                </a:cubicBezTo>
              </a:path>
              <a:path w="794" h="1266">
                <a:moveTo>
                  <a:pt x="14858" y="6375"/>
                </a:moveTo>
                <a:cubicBezTo>
                  <a:pt x="14850" y="6375"/>
                  <a:pt x="14841" y="6375"/>
                  <a:pt x="14833" y="6375"/>
                </a:cubicBezTo>
              </a:path>
              <a:path w="794" h="1266">
                <a:moveTo>
                  <a:pt x="14858" y="6672"/>
                </a:moveTo>
                <a:lnTo>
                  <a:pt x="14858" y="6672"/>
                </a:lnTo>
              </a:path>
              <a:path w="794" h="1266">
                <a:moveTo>
                  <a:pt x="15156" y="5482"/>
                </a:moveTo>
                <a:cubicBezTo>
                  <a:pt x="15131" y="5498"/>
                  <a:pt x="15110" y="5592"/>
                  <a:pt x="15180" y="5581"/>
                </a:cubicBezTo>
                <a:cubicBezTo>
                  <a:pt x="15258" y="5555"/>
                  <a:pt x="15286" y="5545"/>
                  <a:pt x="15329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7080" y="2482920"/>
            <a:ext cx="115920" cy="7128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6127" y="6896"/>
                </a:moveTo>
                <a:cubicBezTo>
                  <a:pt x="6119" y="6896"/>
                  <a:pt x="6110" y="6896"/>
                  <a:pt x="6102" y="6896"/>
                </a:cubicBezTo>
                <a:cubicBezTo>
                  <a:pt x="6164" y="6896"/>
                  <a:pt x="6216" y="6917"/>
                  <a:pt x="6276" y="6921"/>
                </a:cubicBezTo>
                <a:cubicBezTo>
                  <a:pt x="6329" y="6924"/>
                  <a:pt x="6347" y="6945"/>
                  <a:pt x="6400" y="6945"/>
                </a:cubicBezTo>
                <a:cubicBezTo>
                  <a:pt x="6408" y="6945"/>
                  <a:pt x="6416" y="6945"/>
                  <a:pt x="6424" y="6945"/>
                </a:cubicBezTo>
              </a:path>
              <a:path w="323" h="199">
                <a:moveTo>
                  <a:pt x="6201" y="7094"/>
                </a:moveTo>
                <a:cubicBezTo>
                  <a:pt x="6193" y="7094"/>
                  <a:pt x="6184" y="7094"/>
                  <a:pt x="6176" y="7094"/>
                </a:cubicBezTo>
                <a:cubicBezTo>
                  <a:pt x="6251" y="7094"/>
                  <a:pt x="6325" y="7094"/>
                  <a:pt x="6400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62120" y="2143080"/>
            <a:ext cx="696960" cy="642960"/>
          </a:xfrm>
          <a:custGeom>
            <a:avLst/>
            <a:gdLst/>
            <a:ahLst/>
            <a:rect l="l" t="t" r="r" b="b"/>
            <a:pathLst>
              <a:path w="1936" h="1787">
                <a:moveTo>
                  <a:pt x="7789" y="7069"/>
                </a:moveTo>
                <a:cubicBezTo>
                  <a:pt x="7775" y="7030"/>
                  <a:pt x="7739" y="7045"/>
                  <a:pt x="7689" y="7045"/>
                </a:cubicBezTo>
                <a:cubicBezTo>
                  <a:pt x="7643" y="7045"/>
                  <a:pt x="7566" y="7073"/>
                  <a:pt x="7541" y="7119"/>
                </a:cubicBezTo>
                <a:cubicBezTo>
                  <a:pt x="7493" y="7208"/>
                  <a:pt x="7582" y="7204"/>
                  <a:pt x="7640" y="7268"/>
                </a:cubicBezTo>
                <a:cubicBezTo>
                  <a:pt x="7695" y="7329"/>
                  <a:pt x="7757" y="7409"/>
                  <a:pt x="7764" y="7491"/>
                </a:cubicBezTo>
                <a:cubicBezTo>
                  <a:pt x="7773" y="7598"/>
                  <a:pt x="7728" y="7650"/>
                  <a:pt x="7640" y="7714"/>
                </a:cubicBezTo>
                <a:cubicBezTo>
                  <a:pt x="7623" y="7722"/>
                  <a:pt x="7607" y="7731"/>
                  <a:pt x="7590" y="7739"/>
                </a:cubicBezTo>
                <a:cubicBezTo>
                  <a:pt x="7556" y="7670"/>
                  <a:pt x="7505" y="7664"/>
                  <a:pt x="7541" y="7565"/>
                </a:cubicBezTo>
                <a:cubicBezTo>
                  <a:pt x="7565" y="7498"/>
                  <a:pt x="7588" y="7469"/>
                  <a:pt x="7640" y="7417"/>
                </a:cubicBezTo>
                <a:cubicBezTo>
                  <a:pt x="7692" y="7364"/>
                  <a:pt x="7717" y="7324"/>
                  <a:pt x="7764" y="7268"/>
                </a:cubicBezTo>
                <a:cubicBezTo>
                  <a:pt x="7806" y="7218"/>
                  <a:pt x="7813" y="7213"/>
                  <a:pt x="7813" y="7144"/>
                </a:cubicBezTo>
                <a:cubicBezTo>
                  <a:pt x="7813" y="7119"/>
                  <a:pt x="7813" y="7111"/>
                  <a:pt x="7813" y="7094"/>
                </a:cubicBezTo>
              </a:path>
              <a:path w="1936" h="1787">
                <a:moveTo>
                  <a:pt x="7144" y="6945"/>
                </a:moveTo>
                <a:cubicBezTo>
                  <a:pt x="7093" y="6920"/>
                  <a:pt x="7210" y="6909"/>
                  <a:pt x="7243" y="6896"/>
                </a:cubicBezTo>
                <a:cubicBezTo>
                  <a:pt x="7321" y="6865"/>
                  <a:pt x="7355" y="6846"/>
                  <a:pt x="7441" y="6846"/>
                </a:cubicBezTo>
                <a:cubicBezTo>
                  <a:pt x="7505" y="6846"/>
                  <a:pt x="7549" y="6821"/>
                  <a:pt x="7615" y="6821"/>
                </a:cubicBezTo>
                <a:cubicBezTo>
                  <a:pt x="7700" y="6821"/>
                  <a:pt x="7775" y="6796"/>
                  <a:pt x="7863" y="6796"/>
                </a:cubicBezTo>
                <a:cubicBezTo>
                  <a:pt x="7991" y="6796"/>
                  <a:pt x="8115" y="6791"/>
                  <a:pt x="8235" y="6821"/>
                </a:cubicBezTo>
                <a:cubicBezTo>
                  <a:pt x="8243" y="6821"/>
                  <a:pt x="8252" y="6821"/>
                  <a:pt x="8260" y="6821"/>
                </a:cubicBezTo>
              </a:path>
              <a:path w="1936" h="1787">
                <a:moveTo>
                  <a:pt x="7317" y="6052"/>
                </a:moveTo>
                <a:cubicBezTo>
                  <a:pt x="7248" y="6172"/>
                  <a:pt x="7264" y="6387"/>
                  <a:pt x="7243" y="6524"/>
                </a:cubicBezTo>
                <a:cubicBezTo>
                  <a:pt x="7225" y="6615"/>
                  <a:pt x="7216" y="6622"/>
                  <a:pt x="7218" y="6672"/>
                </a:cubicBezTo>
              </a:path>
              <a:path w="1936" h="1787">
                <a:moveTo>
                  <a:pt x="7615" y="6028"/>
                </a:moveTo>
                <a:cubicBezTo>
                  <a:pt x="7606" y="6062"/>
                  <a:pt x="7610" y="6092"/>
                  <a:pt x="7590" y="6052"/>
                </a:cubicBezTo>
                <a:cubicBezTo>
                  <a:pt x="7598" y="6015"/>
                  <a:pt x="7650" y="5901"/>
                  <a:pt x="7714" y="5953"/>
                </a:cubicBezTo>
                <a:cubicBezTo>
                  <a:pt x="7856" y="6070"/>
                  <a:pt x="7788" y="6311"/>
                  <a:pt x="7714" y="6449"/>
                </a:cubicBezTo>
                <a:cubicBezTo>
                  <a:pt x="7661" y="6548"/>
                  <a:pt x="7615" y="6569"/>
                  <a:pt x="7516" y="6598"/>
                </a:cubicBezTo>
                <a:cubicBezTo>
                  <a:pt x="7481" y="6529"/>
                  <a:pt x="7441" y="6483"/>
                  <a:pt x="7516" y="6424"/>
                </a:cubicBezTo>
                <a:cubicBezTo>
                  <a:pt x="7598" y="6360"/>
                  <a:pt x="7689" y="6316"/>
                  <a:pt x="7789" y="6375"/>
                </a:cubicBezTo>
                <a:cubicBezTo>
                  <a:pt x="7876" y="6426"/>
                  <a:pt x="7909" y="6496"/>
                  <a:pt x="7962" y="6573"/>
                </a:cubicBezTo>
                <a:cubicBezTo>
                  <a:pt x="7970" y="6581"/>
                  <a:pt x="7979" y="6590"/>
                  <a:pt x="7987" y="6598"/>
                </a:cubicBezTo>
              </a:path>
              <a:path w="1936" h="1787">
                <a:moveTo>
                  <a:pt x="8731" y="6747"/>
                </a:moveTo>
                <a:cubicBezTo>
                  <a:pt x="8802" y="6729"/>
                  <a:pt x="8871" y="6722"/>
                  <a:pt x="8954" y="6722"/>
                </a:cubicBezTo>
                <a:cubicBezTo>
                  <a:pt x="8979" y="6722"/>
                  <a:pt x="8987" y="6722"/>
                  <a:pt x="9004" y="6722"/>
                </a:cubicBezTo>
              </a:path>
              <a:path w="1936" h="1787">
                <a:moveTo>
                  <a:pt x="8806" y="6896"/>
                </a:moveTo>
                <a:cubicBezTo>
                  <a:pt x="8868" y="6927"/>
                  <a:pt x="8929" y="6921"/>
                  <a:pt x="9004" y="6921"/>
                </a:cubicBezTo>
                <a:cubicBezTo>
                  <a:pt x="9021" y="6921"/>
                  <a:pt x="9037" y="6921"/>
                  <a:pt x="9054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1946160"/>
            <a:ext cx="955800" cy="625680"/>
          </a:xfrm>
          <a:custGeom>
            <a:avLst/>
            <a:gdLst/>
            <a:ahLst/>
            <a:rect l="l" t="t" r="r" b="b"/>
            <a:pathLst>
              <a:path w="2655" h="1738">
                <a:moveTo>
                  <a:pt x="11162" y="6548"/>
                </a:moveTo>
                <a:cubicBezTo>
                  <a:pt x="11162" y="6684"/>
                  <a:pt x="11159" y="6810"/>
                  <a:pt x="11137" y="6945"/>
                </a:cubicBezTo>
                <a:cubicBezTo>
                  <a:pt x="11127" y="7003"/>
                  <a:pt x="11112" y="7128"/>
                  <a:pt x="11112" y="7069"/>
                </a:cubicBezTo>
              </a:path>
              <a:path w="2655" h="1738">
                <a:moveTo>
                  <a:pt x="11410" y="6524"/>
                </a:moveTo>
                <a:cubicBezTo>
                  <a:pt x="11436" y="6598"/>
                  <a:pt x="11530" y="6469"/>
                  <a:pt x="11584" y="6474"/>
                </a:cubicBezTo>
                <a:cubicBezTo>
                  <a:pt x="11817" y="6495"/>
                  <a:pt x="11759" y="6873"/>
                  <a:pt x="11683" y="6995"/>
                </a:cubicBezTo>
                <a:cubicBezTo>
                  <a:pt x="11583" y="7095"/>
                  <a:pt x="11575" y="7136"/>
                  <a:pt x="11485" y="7119"/>
                </a:cubicBezTo>
                <a:cubicBezTo>
                  <a:pt x="11464" y="6984"/>
                  <a:pt x="11461" y="6898"/>
                  <a:pt x="11633" y="6921"/>
                </a:cubicBezTo>
                <a:cubicBezTo>
                  <a:pt x="11723" y="6933"/>
                  <a:pt x="11723" y="6975"/>
                  <a:pt x="11757" y="7045"/>
                </a:cubicBezTo>
              </a:path>
              <a:path w="2655" h="1738">
                <a:moveTo>
                  <a:pt x="10815" y="7144"/>
                </a:moveTo>
                <a:cubicBezTo>
                  <a:pt x="10830" y="6946"/>
                  <a:pt x="10856" y="6750"/>
                  <a:pt x="10840" y="6548"/>
                </a:cubicBezTo>
                <a:cubicBezTo>
                  <a:pt x="10831" y="6436"/>
                  <a:pt x="10815" y="6338"/>
                  <a:pt x="10815" y="6226"/>
                </a:cubicBezTo>
                <a:cubicBezTo>
                  <a:pt x="11212" y="6226"/>
                  <a:pt x="11608" y="6226"/>
                  <a:pt x="12005" y="6226"/>
                </a:cubicBezTo>
              </a:path>
              <a:path w="2655" h="1738">
                <a:moveTo>
                  <a:pt x="10517" y="6325"/>
                </a:moveTo>
                <a:cubicBezTo>
                  <a:pt x="10381" y="6325"/>
                  <a:pt x="10323" y="6359"/>
                  <a:pt x="10220" y="6449"/>
                </a:cubicBezTo>
                <a:cubicBezTo>
                  <a:pt x="10212" y="6457"/>
                  <a:pt x="10203" y="6466"/>
                  <a:pt x="10195" y="6474"/>
                </a:cubicBezTo>
                <a:cubicBezTo>
                  <a:pt x="10275" y="6548"/>
                  <a:pt x="10524" y="6675"/>
                  <a:pt x="10517" y="6796"/>
                </a:cubicBezTo>
                <a:cubicBezTo>
                  <a:pt x="10473" y="6886"/>
                  <a:pt x="10467" y="6916"/>
                  <a:pt x="10393" y="6921"/>
                </a:cubicBezTo>
                <a:cubicBezTo>
                  <a:pt x="10309" y="6779"/>
                  <a:pt x="10356" y="6633"/>
                  <a:pt x="10418" y="6474"/>
                </a:cubicBezTo>
                <a:cubicBezTo>
                  <a:pt x="10455" y="6401"/>
                  <a:pt x="10472" y="6396"/>
                  <a:pt x="10468" y="6350"/>
                </a:cubicBezTo>
              </a:path>
              <a:path w="2655" h="1738">
                <a:moveTo>
                  <a:pt x="11410" y="5407"/>
                </a:moveTo>
                <a:cubicBezTo>
                  <a:pt x="11410" y="5577"/>
                  <a:pt x="11415" y="5760"/>
                  <a:pt x="11435" y="5928"/>
                </a:cubicBezTo>
                <a:cubicBezTo>
                  <a:pt x="11443" y="5996"/>
                  <a:pt x="11460" y="6036"/>
                  <a:pt x="11460" y="6102"/>
                </a:cubicBezTo>
              </a:path>
              <a:path w="2655" h="1738">
                <a:moveTo>
                  <a:pt x="12576" y="6251"/>
                </a:moveTo>
                <a:cubicBezTo>
                  <a:pt x="12653" y="6240"/>
                  <a:pt x="12720" y="6226"/>
                  <a:pt x="12799" y="6226"/>
                </a:cubicBezTo>
              </a:path>
              <a:path w="2655" h="1738">
                <a:moveTo>
                  <a:pt x="12551" y="6499"/>
                </a:moveTo>
                <a:cubicBezTo>
                  <a:pt x="12654" y="6499"/>
                  <a:pt x="12748" y="6484"/>
                  <a:pt x="12849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120" y="1820880"/>
            <a:ext cx="1536840" cy="723960"/>
          </a:xfrm>
          <a:custGeom>
            <a:avLst/>
            <a:gdLst/>
            <a:ahLst/>
            <a:rect l="l" t="t" r="r" b="b"/>
            <a:pathLst>
              <a:path w="4268" h="2010">
                <a:moveTo>
                  <a:pt x="13543" y="5631"/>
                </a:moveTo>
                <a:cubicBezTo>
                  <a:pt x="13543" y="5871"/>
                  <a:pt x="13596" y="6111"/>
                  <a:pt x="13593" y="6350"/>
                </a:cubicBezTo>
                <a:cubicBezTo>
                  <a:pt x="13592" y="6442"/>
                  <a:pt x="13568" y="6531"/>
                  <a:pt x="13568" y="6623"/>
                </a:cubicBezTo>
              </a:path>
              <a:path w="4268" h="2010">
                <a:moveTo>
                  <a:pt x="14288" y="5383"/>
                </a:moveTo>
                <a:cubicBezTo>
                  <a:pt x="14277" y="5485"/>
                  <a:pt x="14248" y="5584"/>
                  <a:pt x="14213" y="5680"/>
                </a:cubicBezTo>
                <a:cubicBezTo>
                  <a:pt x="14335" y="5680"/>
                  <a:pt x="14443" y="5709"/>
                  <a:pt x="14536" y="5631"/>
                </a:cubicBezTo>
              </a:path>
              <a:path w="4268" h="2010">
                <a:moveTo>
                  <a:pt x="14486" y="5333"/>
                </a:moveTo>
                <a:cubicBezTo>
                  <a:pt x="14486" y="5531"/>
                  <a:pt x="14486" y="5730"/>
                  <a:pt x="14486" y="5928"/>
                </a:cubicBezTo>
              </a:path>
              <a:path w="4268" h="2010">
                <a:moveTo>
                  <a:pt x="14089" y="5978"/>
                </a:moveTo>
                <a:cubicBezTo>
                  <a:pt x="14218" y="5996"/>
                  <a:pt x="14507" y="5947"/>
                  <a:pt x="14610" y="6003"/>
                </a:cubicBezTo>
                <a:cubicBezTo>
                  <a:pt x="14618" y="6019"/>
                  <a:pt x="14627" y="6036"/>
                  <a:pt x="14635" y="6052"/>
                </a:cubicBezTo>
              </a:path>
              <a:path w="4268" h="2010">
                <a:moveTo>
                  <a:pt x="14412" y="6226"/>
                </a:moveTo>
                <a:cubicBezTo>
                  <a:pt x="14337" y="6276"/>
                  <a:pt x="14313" y="6292"/>
                  <a:pt x="14263" y="6325"/>
                </a:cubicBezTo>
                <a:cubicBezTo>
                  <a:pt x="14311" y="6397"/>
                  <a:pt x="14529" y="6580"/>
                  <a:pt x="14511" y="6672"/>
                </a:cubicBezTo>
                <a:cubicBezTo>
                  <a:pt x="14472" y="6711"/>
                  <a:pt x="14470" y="6728"/>
                  <a:pt x="14436" y="6722"/>
                </a:cubicBezTo>
                <a:cubicBezTo>
                  <a:pt x="14371" y="6615"/>
                  <a:pt x="14459" y="6481"/>
                  <a:pt x="14511" y="6350"/>
                </a:cubicBezTo>
                <a:cubicBezTo>
                  <a:pt x="14531" y="6309"/>
                  <a:pt x="14550" y="6293"/>
                  <a:pt x="14511" y="6300"/>
                </a:cubicBezTo>
              </a:path>
              <a:path w="4268" h="2010">
                <a:moveTo>
                  <a:pt x="15230" y="6102"/>
                </a:moveTo>
                <a:cubicBezTo>
                  <a:pt x="15341" y="6088"/>
                  <a:pt x="15425" y="6056"/>
                  <a:pt x="15528" y="6077"/>
                </a:cubicBezTo>
              </a:path>
              <a:path w="4268" h="2010">
                <a:moveTo>
                  <a:pt x="14709" y="6648"/>
                </a:moveTo>
                <a:cubicBezTo>
                  <a:pt x="14772" y="6648"/>
                  <a:pt x="14822" y="6629"/>
                  <a:pt x="14883" y="6623"/>
                </a:cubicBezTo>
                <a:cubicBezTo>
                  <a:pt x="14891" y="6623"/>
                  <a:pt x="14900" y="6623"/>
                  <a:pt x="14908" y="6623"/>
                </a:cubicBezTo>
              </a:path>
              <a:path w="4268" h="2010">
                <a:moveTo>
                  <a:pt x="14858" y="6722"/>
                </a:moveTo>
                <a:cubicBezTo>
                  <a:pt x="14858" y="6697"/>
                  <a:pt x="14858" y="6689"/>
                  <a:pt x="14858" y="6672"/>
                </a:cubicBezTo>
              </a:path>
              <a:path w="4268" h="2010">
                <a:moveTo>
                  <a:pt x="15329" y="5333"/>
                </a:moveTo>
                <a:cubicBezTo>
                  <a:pt x="15254" y="5463"/>
                  <a:pt x="15240" y="5599"/>
                  <a:pt x="15230" y="5755"/>
                </a:cubicBezTo>
              </a:path>
              <a:path w="4268" h="2010">
                <a:moveTo>
                  <a:pt x="15081" y="6474"/>
                </a:moveTo>
                <a:cubicBezTo>
                  <a:pt x="15073" y="6532"/>
                  <a:pt x="15062" y="6589"/>
                  <a:pt x="15056" y="6648"/>
                </a:cubicBezTo>
                <a:cubicBezTo>
                  <a:pt x="15095" y="6648"/>
                  <a:pt x="15211" y="6673"/>
                  <a:pt x="15230" y="6623"/>
                </a:cubicBezTo>
                <a:cubicBezTo>
                  <a:pt x="15230" y="6606"/>
                  <a:pt x="15230" y="6590"/>
                  <a:pt x="15230" y="6573"/>
                </a:cubicBezTo>
              </a:path>
              <a:path w="4268" h="2010">
                <a:moveTo>
                  <a:pt x="15230" y="6400"/>
                </a:moveTo>
                <a:cubicBezTo>
                  <a:pt x="15230" y="6532"/>
                  <a:pt x="15230" y="6664"/>
                  <a:pt x="15230" y="6796"/>
                </a:cubicBezTo>
              </a:path>
              <a:path w="4268" h="2010">
                <a:moveTo>
                  <a:pt x="16297" y="5581"/>
                </a:moveTo>
                <a:cubicBezTo>
                  <a:pt x="16297" y="5854"/>
                  <a:pt x="16225" y="6138"/>
                  <a:pt x="16148" y="6400"/>
                </a:cubicBezTo>
                <a:cubicBezTo>
                  <a:pt x="16091" y="6549"/>
                  <a:pt x="16089" y="6568"/>
                  <a:pt x="16049" y="6648"/>
                </a:cubicBezTo>
              </a:path>
              <a:path w="4268" h="2010">
                <a:moveTo>
                  <a:pt x="17041" y="5407"/>
                </a:moveTo>
                <a:cubicBezTo>
                  <a:pt x="16970" y="5502"/>
                  <a:pt x="17007" y="5642"/>
                  <a:pt x="16991" y="5755"/>
                </a:cubicBezTo>
                <a:cubicBezTo>
                  <a:pt x="16970" y="5837"/>
                  <a:pt x="16962" y="5853"/>
                  <a:pt x="16966" y="5904"/>
                </a:cubicBezTo>
              </a:path>
              <a:path w="4268" h="2010">
                <a:moveTo>
                  <a:pt x="16718" y="5978"/>
                </a:moveTo>
                <a:cubicBezTo>
                  <a:pt x="16909" y="5887"/>
                  <a:pt x="17053" y="5837"/>
                  <a:pt x="17264" y="5829"/>
                </a:cubicBezTo>
                <a:cubicBezTo>
                  <a:pt x="17272" y="5829"/>
                  <a:pt x="17281" y="5829"/>
                  <a:pt x="17289" y="5829"/>
                </a:cubicBezTo>
              </a:path>
              <a:path w="4268" h="2010">
                <a:moveTo>
                  <a:pt x="16768" y="6251"/>
                </a:moveTo>
                <a:cubicBezTo>
                  <a:pt x="16853" y="6220"/>
                  <a:pt x="16926" y="6207"/>
                  <a:pt x="17016" y="6201"/>
                </a:cubicBezTo>
                <a:cubicBezTo>
                  <a:pt x="16991" y="6341"/>
                  <a:pt x="16836" y="6429"/>
                  <a:pt x="16818" y="6524"/>
                </a:cubicBezTo>
                <a:cubicBezTo>
                  <a:pt x="16826" y="6532"/>
                  <a:pt x="16834" y="6540"/>
                  <a:pt x="16842" y="6548"/>
                </a:cubicBezTo>
                <a:cubicBezTo>
                  <a:pt x="16926" y="6539"/>
                  <a:pt x="17005" y="6506"/>
                  <a:pt x="17090" y="6499"/>
                </a:cubicBezTo>
                <a:cubicBezTo>
                  <a:pt x="17098" y="6499"/>
                  <a:pt x="17107" y="6499"/>
                  <a:pt x="17115" y="6499"/>
                </a:cubicBezTo>
              </a:path>
              <a:path w="4268" h="2010">
                <a:moveTo>
                  <a:pt x="15701" y="6846"/>
                </a:moveTo>
                <a:cubicBezTo>
                  <a:pt x="15831" y="6911"/>
                  <a:pt x="15940" y="6959"/>
                  <a:pt x="16098" y="6970"/>
                </a:cubicBezTo>
                <a:cubicBezTo>
                  <a:pt x="16363" y="6988"/>
                  <a:pt x="16603" y="6980"/>
                  <a:pt x="16867" y="6945"/>
                </a:cubicBezTo>
                <a:cubicBezTo>
                  <a:pt x="17095" y="6915"/>
                  <a:pt x="17301" y="6841"/>
                  <a:pt x="17462" y="6672"/>
                </a:cubicBezTo>
                <a:cubicBezTo>
                  <a:pt x="17664" y="6459"/>
                  <a:pt x="17783" y="6067"/>
                  <a:pt x="17810" y="5779"/>
                </a:cubicBezTo>
                <a:cubicBezTo>
                  <a:pt x="17821" y="5664"/>
                  <a:pt x="17827" y="5515"/>
                  <a:pt x="17785" y="5407"/>
                </a:cubicBezTo>
                <a:cubicBezTo>
                  <a:pt x="17727" y="5255"/>
                  <a:pt x="17542" y="5206"/>
                  <a:pt x="17413" y="5159"/>
                </a:cubicBezTo>
                <a:cubicBezTo>
                  <a:pt x="17218" y="5088"/>
                  <a:pt x="17081" y="5042"/>
                  <a:pt x="16867" y="5060"/>
                </a:cubicBezTo>
                <a:cubicBezTo>
                  <a:pt x="16646" y="5079"/>
                  <a:pt x="16427" y="5154"/>
                  <a:pt x="16247" y="5283"/>
                </a:cubicBezTo>
                <a:cubicBezTo>
                  <a:pt x="16024" y="5444"/>
                  <a:pt x="15889" y="5660"/>
                  <a:pt x="15776" y="5904"/>
                </a:cubicBezTo>
                <a:cubicBezTo>
                  <a:pt x="15675" y="6122"/>
                  <a:pt x="15665" y="6294"/>
                  <a:pt x="15627" y="6524"/>
                </a:cubicBezTo>
                <a:cubicBezTo>
                  <a:pt x="15604" y="6661"/>
                  <a:pt x="15539" y="6814"/>
                  <a:pt x="15627" y="6945"/>
                </a:cubicBezTo>
                <a:cubicBezTo>
                  <a:pt x="15695" y="7045"/>
                  <a:pt x="15794" y="7051"/>
                  <a:pt x="15900" y="7069"/>
                </a:cubicBezTo>
                <a:cubicBezTo>
                  <a:pt x="15908" y="7069"/>
                  <a:pt x="15917" y="7069"/>
                  <a:pt x="15925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5040" y="2608200"/>
            <a:ext cx="411120" cy="436680"/>
          </a:xfrm>
          <a:custGeom>
            <a:avLst/>
            <a:gdLst/>
            <a:ahLst/>
            <a:rect l="l" t="t" r="r" b="b"/>
            <a:pathLst>
              <a:path w="1142" h="1216">
                <a:moveTo>
                  <a:pt x="11658" y="7293"/>
                </a:moveTo>
                <a:cubicBezTo>
                  <a:pt x="11599" y="7248"/>
                  <a:pt x="11508" y="7223"/>
                  <a:pt x="11435" y="7268"/>
                </a:cubicBezTo>
                <a:cubicBezTo>
                  <a:pt x="11372" y="7331"/>
                  <a:pt x="11355" y="7341"/>
                  <a:pt x="11336" y="7392"/>
                </a:cubicBezTo>
                <a:cubicBezTo>
                  <a:pt x="11403" y="7446"/>
                  <a:pt x="11660" y="7535"/>
                  <a:pt x="11633" y="7640"/>
                </a:cubicBezTo>
                <a:cubicBezTo>
                  <a:pt x="11560" y="7713"/>
                  <a:pt x="11538" y="7737"/>
                  <a:pt x="11460" y="7714"/>
                </a:cubicBezTo>
                <a:cubicBezTo>
                  <a:pt x="11432" y="7575"/>
                  <a:pt x="11503" y="7449"/>
                  <a:pt x="11609" y="7342"/>
                </a:cubicBezTo>
                <a:cubicBezTo>
                  <a:pt x="11617" y="7342"/>
                  <a:pt x="11625" y="7342"/>
                  <a:pt x="11633" y="7342"/>
                </a:cubicBezTo>
              </a:path>
              <a:path w="1142" h="1216">
                <a:moveTo>
                  <a:pt x="10765" y="7764"/>
                </a:moveTo>
                <a:cubicBezTo>
                  <a:pt x="11089" y="7717"/>
                  <a:pt x="11406" y="7674"/>
                  <a:pt x="11733" y="7665"/>
                </a:cubicBezTo>
                <a:cubicBezTo>
                  <a:pt x="11843" y="7665"/>
                  <a:pt x="11865" y="7639"/>
                  <a:pt x="11906" y="7689"/>
                </a:cubicBezTo>
              </a:path>
              <a:path w="1142" h="1216">
                <a:moveTo>
                  <a:pt x="11385" y="7962"/>
                </a:moveTo>
                <a:cubicBezTo>
                  <a:pt x="11372" y="8029"/>
                  <a:pt x="11366" y="8060"/>
                  <a:pt x="11361" y="8136"/>
                </a:cubicBezTo>
                <a:cubicBezTo>
                  <a:pt x="11511" y="8136"/>
                  <a:pt x="11561" y="8118"/>
                  <a:pt x="11683" y="8037"/>
                </a:cubicBezTo>
              </a:path>
              <a:path w="1142" h="1216">
                <a:moveTo>
                  <a:pt x="11633" y="7863"/>
                </a:moveTo>
                <a:cubicBezTo>
                  <a:pt x="11576" y="8024"/>
                  <a:pt x="11587" y="8189"/>
                  <a:pt x="11609" y="8359"/>
                </a:cubicBezTo>
                <a:cubicBezTo>
                  <a:pt x="11617" y="8392"/>
                  <a:pt x="11625" y="8425"/>
                  <a:pt x="11633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7280" y="3224160"/>
            <a:ext cx="3867120" cy="544680"/>
          </a:xfrm>
          <a:custGeom>
            <a:avLst/>
            <a:gdLst/>
            <a:ahLst/>
            <a:rect l="l" t="t" r="r" b="b"/>
            <a:pathLst>
              <a:path w="10742" h="1515">
                <a:moveTo>
                  <a:pt x="13097" y="10195"/>
                </a:moveTo>
                <a:cubicBezTo>
                  <a:pt x="13083" y="10289"/>
                  <a:pt x="13060" y="10374"/>
                  <a:pt x="13047" y="10468"/>
                </a:cubicBezTo>
              </a:path>
              <a:path w="10742" h="1515">
                <a:moveTo>
                  <a:pt x="16123" y="9550"/>
                </a:moveTo>
                <a:cubicBezTo>
                  <a:pt x="16106" y="9692"/>
                  <a:pt x="16095" y="9831"/>
                  <a:pt x="16073" y="9971"/>
                </a:cubicBezTo>
              </a:path>
              <a:path w="10742" h="1515">
                <a:moveTo>
                  <a:pt x="16619" y="10319"/>
                </a:moveTo>
                <a:cubicBezTo>
                  <a:pt x="16686" y="10332"/>
                  <a:pt x="16752" y="10347"/>
                  <a:pt x="16818" y="10368"/>
                </a:cubicBezTo>
              </a:path>
              <a:path w="10742" h="1515">
                <a:moveTo>
                  <a:pt x="20241" y="9004"/>
                </a:moveTo>
                <a:lnTo>
                  <a:pt x="20241" y="9004"/>
                </a:lnTo>
              </a:path>
              <a:path w="10742" h="1515">
                <a:moveTo>
                  <a:pt x="20166" y="9426"/>
                </a:moveTo>
                <a:lnTo>
                  <a:pt x="20166" y="9426"/>
                </a:lnTo>
              </a:path>
              <a:path w="10742" h="1515">
                <a:moveTo>
                  <a:pt x="20588" y="9847"/>
                </a:moveTo>
                <a:cubicBezTo>
                  <a:pt x="20580" y="9847"/>
                  <a:pt x="20571" y="9847"/>
                  <a:pt x="20563" y="9847"/>
                </a:cubicBezTo>
              </a:path>
              <a:path w="10742" h="1515">
                <a:moveTo>
                  <a:pt x="20513" y="10145"/>
                </a:moveTo>
                <a:cubicBezTo>
                  <a:pt x="20513" y="10153"/>
                  <a:pt x="20513" y="10162"/>
                  <a:pt x="20513" y="10170"/>
                </a:cubicBezTo>
              </a:path>
              <a:path w="10742" h="1515">
                <a:moveTo>
                  <a:pt x="21307" y="9575"/>
                </a:moveTo>
                <a:cubicBezTo>
                  <a:pt x="21382" y="9575"/>
                  <a:pt x="21424" y="9580"/>
                  <a:pt x="21481" y="9599"/>
                </a:cubicBezTo>
              </a:path>
              <a:path w="10742" h="1515">
                <a:moveTo>
                  <a:pt x="23143" y="8954"/>
                </a:moveTo>
                <a:lnTo>
                  <a:pt x="23143" y="8954"/>
                </a:lnTo>
              </a:path>
              <a:path w="10742" h="1515">
                <a:moveTo>
                  <a:pt x="23093" y="9178"/>
                </a:moveTo>
                <a:cubicBezTo>
                  <a:pt x="23093" y="9186"/>
                  <a:pt x="23093" y="9195"/>
                  <a:pt x="23093" y="9203"/>
                </a:cubicBezTo>
              </a:path>
              <a:path w="10742" h="1515">
                <a:moveTo>
                  <a:pt x="23688" y="9699"/>
                </a:moveTo>
                <a:cubicBezTo>
                  <a:pt x="23721" y="9699"/>
                  <a:pt x="23755" y="9699"/>
                  <a:pt x="23788" y="9699"/>
                </a:cubicBezTo>
              </a:path>
              <a:path w="10742" h="1515">
                <a:moveTo>
                  <a:pt x="23788" y="9699"/>
                </a:moveTo>
                <a:lnTo>
                  <a:pt x="23788" y="96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27240" y="3402000"/>
            <a:ext cx="1366920" cy="536760"/>
          </a:xfrm>
          <a:custGeom>
            <a:avLst/>
            <a:gdLst/>
            <a:ahLst/>
            <a:rect l="l" t="t" r="r" b="b"/>
            <a:pathLst>
              <a:path w="3796" h="1489">
                <a:moveTo>
                  <a:pt x="8880" y="9723"/>
                </a:moveTo>
                <a:cubicBezTo>
                  <a:pt x="8869" y="9661"/>
                  <a:pt x="8842" y="9430"/>
                  <a:pt x="8731" y="9451"/>
                </a:cubicBezTo>
                <a:cubicBezTo>
                  <a:pt x="8608" y="9474"/>
                  <a:pt x="8395" y="9879"/>
                  <a:pt x="8607" y="9872"/>
                </a:cubicBezTo>
                <a:cubicBezTo>
                  <a:pt x="8690" y="9869"/>
                  <a:pt x="8792" y="9746"/>
                  <a:pt x="8855" y="9699"/>
                </a:cubicBezTo>
                <a:cubicBezTo>
                  <a:pt x="8863" y="9691"/>
                  <a:pt x="8872" y="9682"/>
                  <a:pt x="8880" y="9674"/>
                </a:cubicBezTo>
                <a:cubicBezTo>
                  <a:pt x="8861" y="9841"/>
                  <a:pt x="8836" y="10001"/>
                  <a:pt x="8830" y="10170"/>
                </a:cubicBezTo>
                <a:cubicBezTo>
                  <a:pt x="8830" y="10195"/>
                  <a:pt x="8830" y="10203"/>
                  <a:pt x="8855" y="10195"/>
                </a:cubicBezTo>
              </a:path>
              <a:path w="3796" h="1489">
                <a:moveTo>
                  <a:pt x="8409" y="10368"/>
                </a:moveTo>
                <a:cubicBezTo>
                  <a:pt x="8622" y="10340"/>
                  <a:pt x="8864" y="10282"/>
                  <a:pt x="9079" y="10319"/>
                </a:cubicBezTo>
                <a:cubicBezTo>
                  <a:pt x="9095" y="10327"/>
                  <a:pt x="9112" y="10336"/>
                  <a:pt x="9128" y="10344"/>
                </a:cubicBezTo>
              </a:path>
              <a:path w="3796" h="1489">
                <a:moveTo>
                  <a:pt x="8607" y="10468"/>
                </a:moveTo>
                <a:cubicBezTo>
                  <a:pt x="8585" y="10627"/>
                  <a:pt x="8582" y="10777"/>
                  <a:pt x="8582" y="10939"/>
                </a:cubicBezTo>
              </a:path>
              <a:path w="3796" h="1489">
                <a:moveTo>
                  <a:pt x="8830" y="10542"/>
                </a:moveTo>
                <a:cubicBezTo>
                  <a:pt x="8969" y="10492"/>
                  <a:pt x="9199" y="10527"/>
                  <a:pt x="9103" y="10765"/>
                </a:cubicBezTo>
                <a:cubicBezTo>
                  <a:pt x="9053" y="10890"/>
                  <a:pt x="8925" y="10898"/>
                  <a:pt x="8830" y="10889"/>
                </a:cubicBezTo>
                <a:cubicBezTo>
                  <a:pt x="8865" y="10762"/>
                  <a:pt x="8937" y="10726"/>
                  <a:pt x="9079" y="10790"/>
                </a:cubicBezTo>
                <a:cubicBezTo>
                  <a:pt x="9087" y="10798"/>
                  <a:pt x="9095" y="10807"/>
                  <a:pt x="9103" y="10815"/>
                </a:cubicBezTo>
              </a:path>
              <a:path w="3796" h="1489">
                <a:moveTo>
                  <a:pt x="9773" y="10120"/>
                </a:moveTo>
                <a:cubicBezTo>
                  <a:pt x="9773" y="10218"/>
                  <a:pt x="9752" y="10352"/>
                  <a:pt x="9798" y="10443"/>
                </a:cubicBezTo>
                <a:cubicBezTo>
                  <a:pt x="9798" y="10435"/>
                  <a:pt x="9798" y="10426"/>
                  <a:pt x="9798" y="10418"/>
                </a:cubicBezTo>
              </a:path>
              <a:path w="3796" h="1489">
                <a:moveTo>
                  <a:pt x="9748" y="10319"/>
                </a:moveTo>
                <a:cubicBezTo>
                  <a:pt x="9889" y="10319"/>
                  <a:pt x="10029" y="10319"/>
                  <a:pt x="10170" y="10319"/>
                </a:cubicBezTo>
              </a:path>
              <a:path w="3796" h="1489">
                <a:moveTo>
                  <a:pt x="10939" y="9649"/>
                </a:moveTo>
                <a:cubicBezTo>
                  <a:pt x="10997" y="9630"/>
                  <a:pt x="10957" y="9514"/>
                  <a:pt x="10914" y="9475"/>
                </a:cubicBezTo>
                <a:cubicBezTo>
                  <a:pt x="10800" y="9372"/>
                  <a:pt x="10652" y="9508"/>
                  <a:pt x="10641" y="9624"/>
                </a:cubicBezTo>
                <a:cubicBezTo>
                  <a:pt x="10616" y="9885"/>
                  <a:pt x="10827" y="9821"/>
                  <a:pt x="10939" y="9699"/>
                </a:cubicBezTo>
                <a:cubicBezTo>
                  <a:pt x="10955" y="9674"/>
                  <a:pt x="10972" y="9649"/>
                  <a:pt x="10988" y="9624"/>
                </a:cubicBezTo>
                <a:cubicBezTo>
                  <a:pt x="10988" y="9761"/>
                  <a:pt x="10992" y="9888"/>
                  <a:pt x="10964" y="10021"/>
                </a:cubicBezTo>
              </a:path>
              <a:path w="3796" h="1489">
                <a:moveTo>
                  <a:pt x="10740" y="10145"/>
                </a:moveTo>
                <a:cubicBezTo>
                  <a:pt x="10926" y="10108"/>
                  <a:pt x="11096" y="10071"/>
                  <a:pt x="11286" y="10071"/>
                </a:cubicBezTo>
              </a:path>
              <a:path w="3796" h="1489">
                <a:moveTo>
                  <a:pt x="10740" y="10368"/>
                </a:moveTo>
                <a:cubicBezTo>
                  <a:pt x="10740" y="10398"/>
                  <a:pt x="10740" y="10673"/>
                  <a:pt x="10740" y="10616"/>
                </a:cubicBezTo>
              </a:path>
              <a:path w="3796" h="1489">
                <a:moveTo>
                  <a:pt x="10914" y="10319"/>
                </a:moveTo>
                <a:cubicBezTo>
                  <a:pt x="11040" y="10301"/>
                  <a:pt x="11084" y="10287"/>
                  <a:pt x="11187" y="10368"/>
                </a:cubicBezTo>
                <a:cubicBezTo>
                  <a:pt x="11252" y="10420"/>
                  <a:pt x="11055" y="10528"/>
                  <a:pt x="11038" y="10542"/>
                </a:cubicBezTo>
                <a:cubicBezTo>
                  <a:pt x="11030" y="10550"/>
                  <a:pt x="11021" y="10559"/>
                  <a:pt x="11013" y="10567"/>
                </a:cubicBezTo>
                <a:cubicBezTo>
                  <a:pt x="11088" y="10556"/>
                  <a:pt x="11221" y="10547"/>
                  <a:pt x="11286" y="10517"/>
                </a:cubicBezTo>
                <a:cubicBezTo>
                  <a:pt x="11294" y="10509"/>
                  <a:pt x="11303" y="10500"/>
                  <a:pt x="11311" y="10492"/>
                </a:cubicBezTo>
              </a:path>
              <a:path w="3796" h="1489">
                <a:moveTo>
                  <a:pt x="9748" y="10195"/>
                </a:moveTo>
                <a:cubicBezTo>
                  <a:pt x="9732" y="10195"/>
                  <a:pt x="9715" y="10195"/>
                  <a:pt x="9699" y="10195"/>
                </a:cubicBezTo>
                <a:cubicBezTo>
                  <a:pt x="9779" y="10195"/>
                  <a:pt x="9845" y="10214"/>
                  <a:pt x="9922" y="10220"/>
                </a:cubicBezTo>
                <a:cubicBezTo>
                  <a:pt x="9988" y="10225"/>
                  <a:pt x="9766" y="10243"/>
                  <a:pt x="9723" y="10244"/>
                </a:cubicBezTo>
                <a:cubicBezTo>
                  <a:pt x="9643" y="10246"/>
                  <a:pt x="9598" y="10220"/>
                  <a:pt x="9525" y="10220"/>
                </a:cubicBezTo>
                <a:cubicBezTo>
                  <a:pt x="9610" y="10281"/>
                  <a:pt x="9795" y="10287"/>
                  <a:pt x="9897" y="10294"/>
                </a:cubicBezTo>
                <a:cubicBezTo>
                  <a:pt x="10075" y="10307"/>
                  <a:pt x="10001" y="10295"/>
                  <a:pt x="10096" y="10319"/>
                </a:cubicBezTo>
                <a:cubicBezTo>
                  <a:pt x="9881" y="10319"/>
                  <a:pt x="9285" y="10319"/>
                  <a:pt x="9500" y="10319"/>
                </a:cubicBezTo>
                <a:cubicBezTo>
                  <a:pt x="9662" y="10301"/>
                  <a:pt x="9844" y="10315"/>
                  <a:pt x="9996" y="10269"/>
                </a:cubicBezTo>
              </a:path>
              <a:path w="3796" h="1489">
                <a:moveTo>
                  <a:pt x="9971" y="10021"/>
                </a:moveTo>
                <a:cubicBezTo>
                  <a:pt x="9950" y="10133"/>
                  <a:pt x="9933" y="10231"/>
                  <a:pt x="9897" y="10344"/>
                </a:cubicBezTo>
                <a:cubicBezTo>
                  <a:pt x="9827" y="10566"/>
                  <a:pt x="9896" y="10134"/>
                  <a:pt x="9897" y="10120"/>
                </a:cubicBezTo>
                <a:cubicBezTo>
                  <a:pt x="9901" y="10053"/>
                  <a:pt x="9843" y="9911"/>
                  <a:pt x="9897" y="9947"/>
                </a:cubicBezTo>
                <a:cubicBezTo>
                  <a:pt x="9877" y="10075"/>
                  <a:pt x="9837" y="10307"/>
                  <a:pt x="9847" y="10443"/>
                </a:cubicBezTo>
                <a:cubicBezTo>
                  <a:pt x="9856" y="10573"/>
                  <a:pt x="9921" y="10199"/>
                  <a:pt x="9947" y="10071"/>
                </a:cubicBezTo>
                <a:cubicBezTo>
                  <a:pt x="9947" y="10038"/>
                  <a:pt x="9947" y="10004"/>
                  <a:pt x="9947" y="9971"/>
                </a:cubicBezTo>
                <a:cubicBezTo>
                  <a:pt x="9947" y="10129"/>
                  <a:pt x="9889" y="10292"/>
                  <a:pt x="9847" y="10443"/>
                </a:cubicBezTo>
                <a:cubicBezTo>
                  <a:pt x="9810" y="10577"/>
                  <a:pt x="9822" y="10546"/>
                  <a:pt x="9872" y="10418"/>
                </a:cubicBezTo>
                <a:cubicBezTo>
                  <a:pt x="9894" y="10363"/>
                  <a:pt x="9952" y="10372"/>
                  <a:pt x="9897" y="10393"/>
                </a:cubicBezTo>
                <a:cubicBezTo>
                  <a:pt x="9889" y="10385"/>
                  <a:pt x="9880" y="10376"/>
                  <a:pt x="9872" y="10368"/>
                </a:cubicBezTo>
              </a:path>
              <a:path w="3796" h="1489">
                <a:moveTo>
                  <a:pt x="9798" y="10269"/>
                </a:moveTo>
                <a:cubicBezTo>
                  <a:pt x="9878" y="10309"/>
                  <a:pt x="10022" y="10333"/>
                  <a:pt x="10120" y="10344"/>
                </a:cubicBezTo>
                <a:cubicBezTo>
                  <a:pt x="10217" y="10354"/>
                  <a:pt x="10249" y="10333"/>
                  <a:pt x="10244" y="10344"/>
                </a:cubicBezTo>
                <a:cubicBezTo>
                  <a:pt x="10244" y="10368"/>
                  <a:pt x="10244" y="10376"/>
                  <a:pt x="10220" y="10368"/>
                </a:cubicBezTo>
              </a:path>
              <a:path w="3796" h="1489">
                <a:moveTo>
                  <a:pt x="11757" y="9947"/>
                </a:moveTo>
                <a:cubicBezTo>
                  <a:pt x="11836" y="9939"/>
                  <a:pt x="11980" y="9884"/>
                  <a:pt x="12055" y="9922"/>
                </a:cubicBezTo>
                <a:cubicBezTo>
                  <a:pt x="12055" y="9930"/>
                  <a:pt x="12055" y="9939"/>
                  <a:pt x="12055" y="9947"/>
                </a:cubicBezTo>
              </a:path>
              <a:path w="3796" h="1489">
                <a:moveTo>
                  <a:pt x="11807" y="10096"/>
                </a:moveTo>
                <a:cubicBezTo>
                  <a:pt x="11932" y="10085"/>
                  <a:pt x="12052" y="10071"/>
                  <a:pt x="12179" y="10071"/>
                </a:cubicBezTo>
                <a:cubicBezTo>
                  <a:pt x="12187" y="10071"/>
                  <a:pt x="12196" y="10071"/>
                  <a:pt x="12204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33920" y="3276720"/>
            <a:ext cx="608040" cy="482400"/>
          </a:xfrm>
          <a:custGeom>
            <a:avLst/>
            <a:gdLst/>
            <a:ahLst/>
            <a:rect l="l" t="t" r="r" b="b"/>
            <a:pathLst>
              <a:path w="1687" h="1341">
                <a:moveTo>
                  <a:pt x="12874" y="9922"/>
                </a:moveTo>
                <a:cubicBezTo>
                  <a:pt x="13025" y="9922"/>
                  <a:pt x="13195" y="9937"/>
                  <a:pt x="13345" y="9947"/>
                </a:cubicBezTo>
                <a:cubicBezTo>
                  <a:pt x="13542" y="9960"/>
                  <a:pt x="13738" y="9961"/>
                  <a:pt x="13915" y="10021"/>
                </a:cubicBezTo>
                <a:cubicBezTo>
                  <a:pt x="13923" y="10021"/>
                  <a:pt x="13932" y="10021"/>
                  <a:pt x="13940" y="10021"/>
                </a:cubicBezTo>
              </a:path>
              <a:path w="1687" h="1341">
                <a:moveTo>
                  <a:pt x="13320" y="10195"/>
                </a:moveTo>
                <a:cubicBezTo>
                  <a:pt x="13387" y="10195"/>
                  <a:pt x="13492" y="10175"/>
                  <a:pt x="13519" y="10220"/>
                </a:cubicBezTo>
                <a:cubicBezTo>
                  <a:pt x="13582" y="10323"/>
                  <a:pt x="13532" y="10365"/>
                  <a:pt x="13444" y="10418"/>
                </a:cubicBezTo>
                <a:cubicBezTo>
                  <a:pt x="13428" y="10426"/>
                  <a:pt x="13411" y="10435"/>
                  <a:pt x="13395" y="10443"/>
                </a:cubicBezTo>
                <a:cubicBezTo>
                  <a:pt x="13469" y="10428"/>
                  <a:pt x="13538" y="10399"/>
                  <a:pt x="13618" y="10393"/>
                </a:cubicBezTo>
                <a:cubicBezTo>
                  <a:pt x="13626" y="10393"/>
                  <a:pt x="13635" y="10393"/>
                  <a:pt x="13643" y="10393"/>
                </a:cubicBezTo>
              </a:path>
              <a:path w="1687" h="1341">
                <a:moveTo>
                  <a:pt x="13047" y="9103"/>
                </a:moveTo>
                <a:cubicBezTo>
                  <a:pt x="13047" y="9283"/>
                  <a:pt x="13026" y="9447"/>
                  <a:pt x="12998" y="9624"/>
                </a:cubicBezTo>
              </a:path>
              <a:path w="1687" h="1341">
                <a:moveTo>
                  <a:pt x="13469" y="9178"/>
                </a:moveTo>
                <a:cubicBezTo>
                  <a:pt x="13390" y="9231"/>
                  <a:pt x="13318" y="9271"/>
                  <a:pt x="13295" y="9351"/>
                </a:cubicBezTo>
                <a:cubicBezTo>
                  <a:pt x="13343" y="9396"/>
                  <a:pt x="13604" y="9564"/>
                  <a:pt x="13494" y="9649"/>
                </a:cubicBezTo>
                <a:cubicBezTo>
                  <a:pt x="13394" y="9689"/>
                  <a:pt x="13376" y="9718"/>
                  <a:pt x="13320" y="9674"/>
                </a:cubicBezTo>
                <a:cubicBezTo>
                  <a:pt x="13346" y="9495"/>
                  <a:pt x="13430" y="9413"/>
                  <a:pt x="13494" y="9252"/>
                </a:cubicBezTo>
                <a:cubicBezTo>
                  <a:pt x="13513" y="9204"/>
                  <a:pt x="13444" y="9227"/>
                  <a:pt x="13419" y="9227"/>
                </a:cubicBezTo>
              </a:path>
              <a:path w="1687" h="1341">
                <a:moveTo>
                  <a:pt x="14337" y="9699"/>
                </a:moveTo>
                <a:cubicBezTo>
                  <a:pt x="14329" y="9699"/>
                  <a:pt x="14320" y="9699"/>
                  <a:pt x="14312" y="9699"/>
                </a:cubicBezTo>
                <a:cubicBezTo>
                  <a:pt x="14373" y="9699"/>
                  <a:pt x="14425" y="9678"/>
                  <a:pt x="14486" y="9674"/>
                </a:cubicBezTo>
                <a:cubicBezTo>
                  <a:pt x="14494" y="9674"/>
                  <a:pt x="14503" y="9674"/>
                  <a:pt x="14511" y="9674"/>
                </a:cubicBezTo>
              </a:path>
              <a:path w="1687" h="1341">
                <a:moveTo>
                  <a:pt x="14337" y="9847"/>
                </a:moveTo>
                <a:cubicBezTo>
                  <a:pt x="14418" y="9831"/>
                  <a:pt x="14478" y="9823"/>
                  <a:pt x="14560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84920" y="3125880"/>
            <a:ext cx="3187800" cy="830160"/>
          </a:xfrm>
          <a:custGeom>
            <a:avLst/>
            <a:gdLst/>
            <a:ahLst/>
            <a:rect l="l" t="t" r="r" b="b"/>
            <a:pathLst>
              <a:path w="8857" h="2307">
                <a:moveTo>
                  <a:pt x="16446" y="9575"/>
                </a:moveTo>
                <a:cubicBezTo>
                  <a:pt x="16618" y="9598"/>
                  <a:pt x="16721" y="9668"/>
                  <a:pt x="16545" y="9823"/>
                </a:cubicBezTo>
                <a:cubicBezTo>
                  <a:pt x="16426" y="9902"/>
                  <a:pt x="16402" y="9910"/>
                  <a:pt x="16346" y="9971"/>
                </a:cubicBezTo>
                <a:cubicBezTo>
                  <a:pt x="16461" y="9971"/>
                  <a:pt x="16600" y="9939"/>
                  <a:pt x="16694" y="9996"/>
                </a:cubicBezTo>
              </a:path>
              <a:path w="8857" h="2307">
                <a:moveTo>
                  <a:pt x="16743" y="10220"/>
                </a:moveTo>
                <a:cubicBezTo>
                  <a:pt x="16922" y="10160"/>
                  <a:pt x="17003" y="9925"/>
                  <a:pt x="17016" y="9723"/>
                </a:cubicBezTo>
                <a:cubicBezTo>
                  <a:pt x="17021" y="9643"/>
                  <a:pt x="16991" y="9538"/>
                  <a:pt x="16991" y="9451"/>
                </a:cubicBezTo>
                <a:cubicBezTo>
                  <a:pt x="17381" y="9451"/>
                  <a:pt x="17919" y="9377"/>
                  <a:pt x="18256" y="9475"/>
                </a:cubicBezTo>
              </a:path>
              <a:path w="8857" h="2307">
                <a:moveTo>
                  <a:pt x="17388" y="9649"/>
                </a:moveTo>
                <a:cubicBezTo>
                  <a:pt x="17380" y="9663"/>
                  <a:pt x="17203" y="9987"/>
                  <a:pt x="17214" y="9996"/>
                </a:cubicBezTo>
                <a:cubicBezTo>
                  <a:pt x="17239" y="9988"/>
                  <a:pt x="17264" y="9979"/>
                  <a:pt x="17289" y="9971"/>
                </a:cubicBezTo>
              </a:path>
              <a:path w="8857" h="2307">
                <a:moveTo>
                  <a:pt x="17810" y="9624"/>
                </a:moveTo>
                <a:cubicBezTo>
                  <a:pt x="17714" y="9648"/>
                  <a:pt x="17623" y="9717"/>
                  <a:pt x="17537" y="9773"/>
                </a:cubicBezTo>
                <a:cubicBezTo>
                  <a:pt x="17648" y="9868"/>
                  <a:pt x="17898" y="9945"/>
                  <a:pt x="17810" y="10120"/>
                </a:cubicBezTo>
                <a:cubicBezTo>
                  <a:pt x="17732" y="10172"/>
                  <a:pt x="17703" y="10188"/>
                  <a:pt x="17636" y="10145"/>
                </a:cubicBezTo>
                <a:cubicBezTo>
                  <a:pt x="17578" y="9941"/>
                  <a:pt x="17682" y="9945"/>
                  <a:pt x="17810" y="9798"/>
                </a:cubicBezTo>
                <a:cubicBezTo>
                  <a:pt x="17810" y="9773"/>
                  <a:pt x="17810" y="9765"/>
                  <a:pt x="17810" y="9748"/>
                </a:cubicBezTo>
              </a:path>
              <a:path w="8857" h="2307">
                <a:moveTo>
                  <a:pt x="17835" y="8756"/>
                </a:moveTo>
                <a:cubicBezTo>
                  <a:pt x="17835" y="8687"/>
                  <a:pt x="17785" y="9025"/>
                  <a:pt x="17785" y="9029"/>
                </a:cubicBezTo>
                <a:cubicBezTo>
                  <a:pt x="17779" y="9080"/>
                  <a:pt x="17785" y="9147"/>
                  <a:pt x="17785" y="9203"/>
                </a:cubicBezTo>
              </a:path>
              <a:path w="8857" h="2307">
                <a:moveTo>
                  <a:pt x="17264" y="10368"/>
                </a:moveTo>
                <a:cubicBezTo>
                  <a:pt x="17264" y="10465"/>
                  <a:pt x="17234" y="10548"/>
                  <a:pt x="17214" y="10641"/>
                </a:cubicBezTo>
                <a:cubicBezTo>
                  <a:pt x="17214" y="10666"/>
                  <a:pt x="17214" y="10674"/>
                  <a:pt x="17214" y="10641"/>
                </a:cubicBezTo>
              </a:path>
              <a:path w="8857" h="2307">
                <a:moveTo>
                  <a:pt x="17413" y="10319"/>
                </a:moveTo>
                <a:cubicBezTo>
                  <a:pt x="17443" y="10342"/>
                  <a:pt x="17498" y="10361"/>
                  <a:pt x="17537" y="10368"/>
                </a:cubicBezTo>
                <a:cubicBezTo>
                  <a:pt x="17601" y="10379"/>
                  <a:pt x="17656" y="10348"/>
                  <a:pt x="17686" y="10393"/>
                </a:cubicBezTo>
                <a:cubicBezTo>
                  <a:pt x="17651" y="10497"/>
                  <a:pt x="17587" y="10536"/>
                  <a:pt x="17487" y="10592"/>
                </a:cubicBezTo>
                <a:cubicBezTo>
                  <a:pt x="17605" y="10592"/>
                  <a:pt x="17718" y="10573"/>
                  <a:pt x="17835" y="10567"/>
                </a:cubicBezTo>
                <a:cubicBezTo>
                  <a:pt x="17843" y="10567"/>
                  <a:pt x="17851" y="10567"/>
                  <a:pt x="17859" y="10567"/>
                </a:cubicBezTo>
              </a:path>
              <a:path w="8857" h="2307">
                <a:moveTo>
                  <a:pt x="16346" y="10740"/>
                </a:moveTo>
                <a:cubicBezTo>
                  <a:pt x="16642" y="10797"/>
                  <a:pt x="16940" y="10821"/>
                  <a:pt x="17239" y="10864"/>
                </a:cubicBezTo>
                <a:cubicBezTo>
                  <a:pt x="17480" y="10899"/>
                  <a:pt x="17720" y="10946"/>
                  <a:pt x="17959" y="10988"/>
                </a:cubicBezTo>
              </a:path>
              <a:path w="8857" h="2307">
                <a:moveTo>
                  <a:pt x="18455" y="9624"/>
                </a:moveTo>
                <a:cubicBezTo>
                  <a:pt x="18476" y="9691"/>
                  <a:pt x="18597" y="9630"/>
                  <a:pt x="18653" y="9624"/>
                </a:cubicBezTo>
                <a:cubicBezTo>
                  <a:pt x="18711" y="9624"/>
                  <a:pt x="18719" y="9624"/>
                  <a:pt x="18752" y="9624"/>
                </a:cubicBezTo>
              </a:path>
              <a:path w="8857" h="2307">
                <a:moveTo>
                  <a:pt x="18455" y="9798"/>
                </a:moveTo>
                <a:cubicBezTo>
                  <a:pt x="18548" y="9807"/>
                  <a:pt x="18633" y="9823"/>
                  <a:pt x="18728" y="9823"/>
                </a:cubicBezTo>
                <a:cubicBezTo>
                  <a:pt x="18736" y="9823"/>
                  <a:pt x="18744" y="9823"/>
                  <a:pt x="18752" y="9823"/>
                </a:cubicBezTo>
              </a:path>
              <a:path w="8857" h="2307">
                <a:moveTo>
                  <a:pt x="19273" y="9327"/>
                </a:moveTo>
                <a:cubicBezTo>
                  <a:pt x="19253" y="9524"/>
                  <a:pt x="19253" y="9724"/>
                  <a:pt x="19224" y="9922"/>
                </a:cubicBezTo>
                <a:cubicBezTo>
                  <a:pt x="19215" y="9980"/>
                  <a:pt x="19199" y="10155"/>
                  <a:pt x="19199" y="10096"/>
                </a:cubicBezTo>
                <a:cubicBezTo>
                  <a:pt x="19199" y="10035"/>
                  <a:pt x="19212" y="9993"/>
                  <a:pt x="19248" y="9947"/>
                </a:cubicBezTo>
              </a:path>
              <a:path w="8857" h="2307">
                <a:moveTo>
                  <a:pt x="19720" y="9054"/>
                </a:moveTo>
                <a:cubicBezTo>
                  <a:pt x="19660" y="9191"/>
                  <a:pt x="19628" y="9301"/>
                  <a:pt x="19621" y="9451"/>
                </a:cubicBezTo>
                <a:cubicBezTo>
                  <a:pt x="19621" y="9459"/>
                  <a:pt x="19621" y="9467"/>
                  <a:pt x="19621" y="9475"/>
                </a:cubicBezTo>
                <a:cubicBezTo>
                  <a:pt x="19745" y="9485"/>
                  <a:pt x="19835" y="9463"/>
                  <a:pt x="19893" y="9327"/>
                </a:cubicBezTo>
                <a:cubicBezTo>
                  <a:pt x="19910" y="9287"/>
                  <a:pt x="19808" y="9408"/>
                  <a:pt x="19794" y="9475"/>
                </a:cubicBezTo>
              </a:path>
              <a:path w="8857" h="2307">
                <a:moveTo>
                  <a:pt x="19621" y="9624"/>
                </a:moveTo>
                <a:cubicBezTo>
                  <a:pt x="19738" y="9613"/>
                  <a:pt x="19849" y="9599"/>
                  <a:pt x="19968" y="9599"/>
                </a:cubicBezTo>
              </a:path>
              <a:path w="8857" h="2307">
                <a:moveTo>
                  <a:pt x="19670" y="9897"/>
                </a:moveTo>
                <a:cubicBezTo>
                  <a:pt x="19670" y="9967"/>
                  <a:pt x="19670" y="10176"/>
                  <a:pt x="19670" y="10145"/>
                </a:cubicBezTo>
              </a:path>
              <a:path w="8857" h="2307">
                <a:moveTo>
                  <a:pt x="19893" y="9897"/>
                </a:moveTo>
                <a:cubicBezTo>
                  <a:pt x="19910" y="9846"/>
                  <a:pt x="19979" y="9872"/>
                  <a:pt x="20042" y="9872"/>
                </a:cubicBezTo>
                <a:cubicBezTo>
                  <a:pt x="20050" y="9872"/>
                  <a:pt x="20059" y="9872"/>
                  <a:pt x="20067" y="9872"/>
                </a:cubicBezTo>
                <a:cubicBezTo>
                  <a:pt x="20058" y="9955"/>
                  <a:pt x="20006" y="10003"/>
                  <a:pt x="19993" y="10071"/>
                </a:cubicBezTo>
                <a:cubicBezTo>
                  <a:pt x="19993" y="10079"/>
                  <a:pt x="19993" y="10088"/>
                  <a:pt x="19993" y="10096"/>
                </a:cubicBezTo>
                <a:cubicBezTo>
                  <a:pt x="20065" y="10106"/>
                  <a:pt x="20124" y="10128"/>
                  <a:pt x="20191" y="10145"/>
                </a:cubicBezTo>
                <a:cubicBezTo>
                  <a:pt x="20199" y="10145"/>
                  <a:pt x="20208" y="10145"/>
                  <a:pt x="20216" y="10145"/>
                </a:cubicBezTo>
              </a:path>
              <a:path w="8857" h="2307">
                <a:moveTo>
                  <a:pt x="20141" y="9153"/>
                </a:moveTo>
                <a:cubicBezTo>
                  <a:pt x="20191" y="9166"/>
                  <a:pt x="20205" y="9178"/>
                  <a:pt x="20265" y="9178"/>
                </a:cubicBezTo>
              </a:path>
              <a:path w="8857" h="2307">
                <a:moveTo>
                  <a:pt x="20414" y="10021"/>
                </a:moveTo>
                <a:cubicBezTo>
                  <a:pt x="20468" y="10030"/>
                  <a:pt x="20588" y="10082"/>
                  <a:pt x="20638" y="10046"/>
                </a:cubicBezTo>
                <a:cubicBezTo>
                  <a:pt x="20638" y="10038"/>
                  <a:pt x="20638" y="10029"/>
                  <a:pt x="20638" y="10021"/>
                </a:cubicBezTo>
              </a:path>
              <a:path w="8857" h="2307">
                <a:moveTo>
                  <a:pt x="20588" y="9054"/>
                </a:moveTo>
                <a:cubicBezTo>
                  <a:pt x="20600" y="9018"/>
                  <a:pt x="20611" y="9026"/>
                  <a:pt x="20662" y="9004"/>
                </a:cubicBezTo>
                <a:cubicBezTo>
                  <a:pt x="20679" y="9115"/>
                  <a:pt x="20605" y="9125"/>
                  <a:pt x="20538" y="9203"/>
                </a:cubicBezTo>
                <a:cubicBezTo>
                  <a:pt x="20604" y="9203"/>
                  <a:pt x="20671" y="9203"/>
                  <a:pt x="20737" y="9203"/>
                </a:cubicBezTo>
              </a:path>
              <a:path w="8857" h="2307">
                <a:moveTo>
                  <a:pt x="20712" y="9947"/>
                </a:moveTo>
                <a:cubicBezTo>
                  <a:pt x="20745" y="9880"/>
                  <a:pt x="20809" y="9863"/>
                  <a:pt x="20886" y="9897"/>
                </a:cubicBezTo>
                <a:cubicBezTo>
                  <a:pt x="20894" y="9905"/>
                  <a:pt x="20902" y="9914"/>
                  <a:pt x="20910" y="9922"/>
                </a:cubicBezTo>
                <a:cubicBezTo>
                  <a:pt x="20877" y="9983"/>
                  <a:pt x="20801" y="10077"/>
                  <a:pt x="20786" y="10120"/>
                </a:cubicBezTo>
                <a:cubicBezTo>
                  <a:pt x="20865" y="10120"/>
                  <a:pt x="20934" y="10106"/>
                  <a:pt x="21010" y="10096"/>
                </a:cubicBezTo>
                <a:cubicBezTo>
                  <a:pt x="21074" y="10088"/>
                  <a:pt x="21062" y="10107"/>
                  <a:pt x="21109" y="10071"/>
                </a:cubicBezTo>
              </a:path>
              <a:path w="8857" h="2307">
                <a:moveTo>
                  <a:pt x="21332" y="9426"/>
                </a:moveTo>
                <a:cubicBezTo>
                  <a:pt x="21398" y="9426"/>
                  <a:pt x="21464" y="9426"/>
                  <a:pt x="21530" y="9426"/>
                </a:cubicBezTo>
              </a:path>
              <a:path w="8857" h="2307">
                <a:moveTo>
                  <a:pt x="22051" y="9054"/>
                </a:moveTo>
                <a:cubicBezTo>
                  <a:pt x="22032" y="9354"/>
                  <a:pt x="21982" y="9631"/>
                  <a:pt x="21927" y="9922"/>
                </a:cubicBezTo>
                <a:cubicBezTo>
                  <a:pt x="21903" y="10051"/>
                  <a:pt x="21835" y="10214"/>
                  <a:pt x="21952" y="10096"/>
                </a:cubicBezTo>
              </a:path>
              <a:path w="8857" h="2307">
                <a:moveTo>
                  <a:pt x="22547" y="9029"/>
                </a:moveTo>
                <a:cubicBezTo>
                  <a:pt x="22640" y="9029"/>
                  <a:pt x="22726" y="8990"/>
                  <a:pt x="22820" y="8979"/>
                </a:cubicBezTo>
                <a:cubicBezTo>
                  <a:pt x="22803" y="9039"/>
                  <a:pt x="22683" y="9090"/>
                  <a:pt x="22721" y="9128"/>
                </a:cubicBezTo>
                <a:cubicBezTo>
                  <a:pt x="22786" y="9192"/>
                  <a:pt x="22711" y="9233"/>
                  <a:pt x="22622" y="9252"/>
                </a:cubicBezTo>
                <a:cubicBezTo>
                  <a:pt x="22605" y="9252"/>
                  <a:pt x="22589" y="9252"/>
                  <a:pt x="22572" y="9252"/>
                </a:cubicBezTo>
              </a:path>
              <a:path w="8857" h="2307">
                <a:moveTo>
                  <a:pt x="22547" y="9451"/>
                </a:moveTo>
                <a:cubicBezTo>
                  <a:pt x="22634" y="9451"/>
                  <a:pt x="22995" y="9405"/>
                  <a:pt x="23019" y="9475"/>
                </a:cubicBezTo>
              </a:path>
              <a:path w="8857" h="2307">
                <a:moveTo>
                  <a:pt x="22473" y="9624"/>
                </a:moveTo>
                <a:cubicBezTo>
                  <a:pt x="22473" y="9732"/>
                  <a:pt x="22399" y="9816"/>
                  <a:pt x="22399" y="9922"/>
                </a:cubicBezTo>
                <a:cubicBezTo>
                  <a:pt x="22399" y="10065"/>
                  <a:pt x="22604" y="9964"/>
                  <a:pt x="22647" y="9947"/>
                </a:cubicBezTo>
                <a:cubicBezTo>
                  <a:pt x="22647" y="9939"/>
                  <a:pt x="22647" y="9930"/>
                  <a:pt x="22647" y="9922"/>
                </a:cubicBezTo>
                <a:cubicBezTo>
                  <a:pt x="22554" y="9935"/>
                  <a:pt x="22543" y="9980"/>
                  <a:pt x="22523" y="10071"/>
                </a:cubicBezTo>
              </a:path>
              <a:path w="8857" h="2307">
                <a:moveTo>
                  <a:pt x="23044" y="9103"/>
                </a:moveTo>
                <a:cubicBezTo>
                  <a:pt x="22976" y="9103"/>
                  <a:pt x="23129" y="9103"/>
                  <a:pt x="23143" y="9103"/>
                </a:cubicBezTo>
              </a:path>
              <a:path w="8857" h="2307">
                <a:moveTo>
                  <a:pt x="23366" y="8905"/>
                </a:moveTo>
                <a:cubicBezTo>
                  <a:pt x="23416" y="8905"/>
                  <a:pt x="23465" y="8905"/>
                  <a:pt x="23515" y="8905"/>
                </a:cubicBezTo>
                <a:cubicBezTo>
                  <a:pt x="23490" y="8938"/>
                  <a:pt x="23368" y="9023"/>
                  <a:pt x="23440" y="9029"/>
                </a:cubicBezTo>
                <a:cubicBezTo>
                  <a:pt x="23593" y="9041"/>
                  <a:pt x="23457" y="9104"/>
                  <a:pt x="23391" y="9128"/>
                </a:cubicBezTo>
              </a:path>
              <a:path w="8857" h="2307">
                <a:moveTo>
                  <a:pt x="22895" y="9872"/>
                </a:moveTo>
                <a:cubicBezTo>
                  <a:pt x="22948" y="9883"/>
                  <a:pt x="22987" y="9897"/>
                  <a:pt x="23044" y="9897"/>
                </a:cubicBezTo>
              </a:path>
              <a:path w="8857" h="2307">
                <a:moveTo>
                  <a:pt x="23242" y="9872"/>
                </a:moveTo>
                <a:cubicBezTo>
                  <a:pt x="23405" y="9847"/>
                  <a:pt x="23467" y="9864"/>
                  <a:pt x="23292" y="9971"/>
                </a:cubicBezTo>
                <a:cubicBezTo>
                  <a:pt x="23353" y="9971"/>
                  <a:pt x="23385" y="9977"/>
                  <a:pt x="23440" y="9996"/>
                </a:cubicBezTo>
                <a:cubicBezTo>
                  <a:pt x="23363" y="10101"/>
                  <a:pt x="23371" y="10080"/>
                  <a:pt x="23242" y="10071"/>
                </a:cubicBezTo>
              </a:path>
              <a:path w="8857" h="2307">
                <a:moveTo>
                  <a:pt x="23738" y="9525"/>
                </a:moveTo>
                <a:cubicBezTo>
                  <a:pt x="23788" y="9525"/>
                  <a:pt x="23837" y="9525"/>
                  <a:pt x="23887" y="9525"/>
                </a:cubicBezTo>
              </a:path>
              <a:path w="8857" h="2307">
                <a:moveTo>
                  <a:pt x="24135" y="9277"/>
                </a:moveTo>
                <a:cubicBezTo>
                  <a:pt x="24135" y="9452"/>
                  <a:pt x="24096" y="9623"/>
                  <a:pt x="24085" y="9798"/>
                </a:cubicBezTo>
                <a:cubicBezTo>
                  <a:pt x="24085" y="9923"/>
                  <a:pt x="24092" y="9950"/>
                  <a:pt x="24061" y="10021"/>
                </a:cubicBezTo>
              </a:path>
              <a:path w="8857" h="2307">
                <a:moveTo>
                  <a:pt x="24408" y="9004"/>
                </a:moveTo>
                <a:cubicBezTo>
                  <a:pt x="24453" y="9049"/>
                  <a:pt x="24470" y="9258"/>
                  <a:pt x="24482" y="9351"/>
                </a:cubicBezTo>
                <a:cubicBezTo>
                  <a:pt x="24482" y="9368"/>
                  <a:pt x="24482" y="9384"/>
                  <a:pt x="24482" y="9401"/>
                </a:cubicBezTo>
              </a:path>
              <a:path w="8857" h="2307">
                <a:moveTo>
                  <a:pt x="24259" y="9475"/>
                </a:moveTo>
                <a:cubicBezTo>
                  <a:pt x="24382" y="9475"/>
                  <a:pt x="24525" y="9454"/>
                  <a:pt x="24631" y="9500"/>
                </a:cubicBezTo>
              </a:path>
              <a:path w="8857" h="2307">
                <a:moveTo>
                  <a:pt x="24433" y="9649"/>
                </a:moveTo>
                <a:cubicBezTo>
                  <a:pt x="24500" y="9660"/>
                  <a:pt x="24564" y="9688"/>
                  <a:pt x="24631" y="9699"/>
                </a:cubicBezTo>
                <a:cubicBezTo>
                  <a:pt x="24599" y="9810"/>
                  <a:pt x="24529" y="9923"/>
                  <a:pt x="24433" y="9996"/>
                </a:cubicBezTo>
                <a:cubicBezTo>
                  <a:pt x="24408" y="9996"/>
                  <a:pt x="24400" y="9996"/>
                  <a:pt x="24408" y="10021"/>
                </a:cubicBezTo>
                <a:cubicBezTo>
                  <a:pt x="24500" y="10043"/>
                  <a:pt x="24587" y="10062"/>
                  <a:pt x="24681" y="10071"/>
                </a:cubicBezTo>
              </a:path>
              <a:path w="8857" h="2307">
                <a:moveTo>
                  <a:pt x="24011" y="10170"/>
                </a:moveTo>
                <a:cubicBezTo>
                  <a:pt x="24030" y="10282"/>
                  <a:pt x="24037" y="10284"/>
                  <a:pt x="24135" y="10344"/>
                </a:cubicBezTo>
                <a:cubicBezTo>
                  <a:pt x="24277" y="10431"/>
                  <a:pt x="24392" y="10418"/>
                  <a:pt x="24557" y="10418"/>
                </a:cubicBezTo>
                <a:cubicBezTo>
                  <a:pt x="24771" y="10418"/>
                  <a:pt x="24836" y="10356"/>
                  <a:pt x="24978" y="10195"/>
                </a:cubicBezTo>
                <a:cubicBezTo>
                  <a:pt x="25101" y="10055"/>
                  <a:pt x="25184" y="9911"/>
                  <a:pt x="25202" y="9723"/>
                </a:cubicBezTo>
                <a:cubicBezTo>
                  <a:pt x="25218" y="9559"/>
                  <a:pt x="25229" y="9332"/>
                  <a:pt x="25177" y="9178"/>
                </a:cubicBezTo>
                <a:cubicBezTo>
                  <a:pt x="25152" y="9103"/>
                  <a:pt x="25127" y="8968"/>
                  <a:pt x="25078" y="8905"/>
                </a:cubicBezTo>
                <a:cubicBezTo>
                  <a:pt x="24990" y="8792"/>
                  <a:pt x="24885" y="8749"/>
                  <a:pt x="24755" y="8706"/>
                </a:cubicBezTo>
                <a:cubicBezTo>
                  <a:pt x="24621" y="8662"/>
                  <a:pt x="24577" y="8699"/>
                  <a:pt x="24457" y="8731"/>
                </a:cubicBezTo>
                <a:cubicBezTo>
                  <a:pt x="24366" y="8755"/>
                  <a:pt x="24297" y="8828"/>
                  <a:pt x="24209" y="8880"/>
                </a:cubicBezTo>
                <a:cubicBezTo>
                  <a:pt x="24129" y="8928"/>
                  <a:pt x="24119" y="9018"/>
                  <a:pt x="24085" y="9103"/>
                </a:cubicBezTo>
                <a:cubicBezTo>
                  <a:pt x="24040" y="9216"/>
                  <a:pt x="23985" y="9358"/>
                  <a:pt x="23961" y="9475"/>
                </a:cubicBezTo>
                <a:cubicBezTo>
                  <a:pt x="23943" y="9562"/>
                  <a:pt x="23920" y="9659"/>
                  <a:pt x="23912" y="9748"/>
                </a:cubicBezTo>
                <a:cubicBezTo>
                  <a:pt x="23902" y="9860"/>
                  <a:pt x="23924" y="9976"/>
                  <a:pt x="23937" y="10071"/>
                </a:cubicBezTo>
                <a:cubicBezTo>
                  <a:pt x="23944" y="10124"/>
                  <a:pt x="23988" y="10179"/>
                  <a:pt x="24036" y="10220"/>
                </a:cubicBezTo>
                <a:cubicBezTo>
                  <a:pt x="24081" y="10259"/>
                  <a:pt x="24100" y="10277"/>
                  <a:pt x="24135" y="10319"/>
                </a:cubicBezTo>
                <a:cubicBezTo>
                  <a:pt x="24143" y="10327"/>
                  <a:pt x="24152" y="10336"/>
                  <a:pt x="2416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3960" y="4000680"/>
            <a:ext cx="142920" cy="14256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7562" y="11112"/>
                </a:moveTo>
                <a:cubicBezTo>
                  <a:pt x="17531" y="11216"/>
                  <a:pt x="17516" y="11324"/>
                  <a:pt x="17512" y="11435"/>
                </a:cubicBezTo>
                <a:cubicBezTo>
                  <a:pt x="17512" y="11452"/>
                  <a:pt x="17512" y="11468"/>
                  <a:pt x="17512" y="11485"/>
                </a:cubicBezTo>
                <a:cubicBezTo>
                  <a:pt x="17626" y="11532"/>
                  <a:pt x="17744" y="11517"/>
                  <a:pt x="17859" y="11460"/>
                </a:cubicBezTo>
                <a:cubicBezTo>
                  <a:pt x="17889" y="11430"/>
                  <a:pt x="17900" y="11416"/>
                  <a:pt x="17909" y="11385"/>
                </a:cubicBezTo>
                <a:cubicBezTo>
                  <a:pt x="17888" y="11303"/>
                  <a:pt x="17796" y="11289"/>
                  <a:pt x="17735" y="11361"/>
                </a:cubicBezTo>
                <a:cubicBezTo>
                  <a:pt x="17692" y="11412"/>
                  <a:pt x="17705" y="11464"/>
                  <a:pt x="17735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60680" y="4919760"/>
            <a:ext cx="250560" cy="536400"/>
          </a:xfrm>
          <a:custGeom>
            <a:avLst/>
            <a:gdLst/>
            <a:ahLst/>
            <a:rect l="l" t="t" r="r" b="b"/>
            <a:pathLst>
              <a:path w="695" h="1490">
                <a:moveTo>
                  <a:pt x="4911" y="13742"/>
                </a:moveTo>
                <a:cubicBezTo>
                  <a:pt x="4872" y="13729"/>
                  <a:pt x="4901" y="13730"/>
                  <a:pt x="4862" y="13717"/>
                </a:cubicBezTo>
                <a:cubicBezTo>
                  <a:pt x="4862" y="13770"/>
                  <a:pt x="4869" y="13780"/>
                  <a:pt x="4887" y="13841"/>
                </a:cubicBezTo>
              </a:path>
              <a:path w="695" h="1490">
                <a:moveTo>
                  <a:pt x="5135" y="13667"/>
                </a:moveTo>
                <a:cubicBezTo>
                  <a:pt x="5206" y="13694"/>
                  <a:pt x="5323" y="13666"/>
                  <a:pt x="5234" y="13791"/>
                </a:cubicBezTo>
                <a:cubicBezTo>
                  <a:pt x="5217" y="13799"/>
                  <a:pt x="5201" y="13808"/>
                  <a:pt x="5184" y="13816"/>
                </a:cubicBezTo>
                <a:cubicBezTo>
                  <a:pt x="5184" y="13824"/>
                  <a:pt x="5184" y="13833"/>
                  <a:pt x="5184" y="13841"/>
                </a:cubicBezTo>
                <a:cubicBezTo>
                  <a:pt x="5222" y="13841"/>
                  <a:pt x="5360" y="13811"/>
                  <a:pt x="5308" y="13891"/>
                </a:cubicBezTo>
                <a:cubicBezTo>
                  <a:pt x="5239" y="13997"/>
                  <a:pt x="5141" y="14016"/>
                  <a:pt x="5035" y="14064"/>
                </a:cubicBezTo>
              </a:path>
              <a:path w="695" h="1490">
                <a:moveTo>
                  <a:pt x="5035" y="14486"/>
                </a:moveTo>
                <a:cubicBezTo>
                  <a:pt x="5035" y="14439"/>
                  <a:pt x="5030" y="14338"/>
                  <a:pt x="4986" y="14312"/>
                </a:cubicBezTo>
                <a:cubicBezTo>
                  <a:pt x="4802" y="14205"/>
                  <a:pt x="4626" y="14450"/>
                  <a:pt x="4614" y="14610"/>
                </a:cubicBezTo>
                <a:cubicBezTo>
                  <a:pt x="4630" y="14635"/>
                  <a:pt x="4647" y="14659"/>
                  <a:pt x="4663" y="14684"/>
                </a:cubicBezTo>
                <a:cubicBezTo>
                  <a:pt x="4796" y="14656"/>
                  <a:pt x="4863" y="14609"/>
                  <a:pt x="4961" y="14511"/>
                </a:cubicBezTo>
                <a:cubicBezTo>
                  <a:pt x="4961" y="14675"/>
                  <a:pt x="4952" y="14793"/>
                  <a:pt x="4911" y="14957"/>
                </a:cubicBezTo>
                <a:cubicBezTo>
                  <a:pt x="4873" y="15072"/>
                  <a:pt x="4857" y="15086"/>
                  <a:pt x="4862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04960" y="4276800"/>
            <a:ext cx="206280" cy="411120"/>
          </a:xfrm>
          <a:custGeom>
            <a:avLst/>
            <a:gdLst/>
            <a:ahLst/>
            <a:rect l="l" t="t" r="r" b="b"/>
            <a:pathLst>
              <a:path w="571" h="1142">
                <a:moveTo>
                  <a:pt x="4936" y="12774"/>
                </a:moveTo>
                <a:cubicBezTo>
                  <a:pt x="4894" y="12817"/>
                  <a:pt x="4783" y="12921"/>
                  <a:pt x="4837" y="12948"/>
                </a:cubicBezTo>
              </a:path>
              <a:path w="571" h="1142">
                <a:moveTo>
                  <a:pt x="5085" y="12725"/>
                </a:moveTo>
                <a:cubicBezTo>
                  <a:pt x="5125" y="12718"/>
                  <a:pt x="5252" y="12670"/>
                  <a:pt x="5209" y="12774"/>
                </a:cubicBezTo>
                <a:cubicBezTo>
                  <a:pt x="5192" y="12799"/>
                  <a:pt x="5176" y="12824"/>
                  <a:pt x="5159" y="12849"/>
                </a:cubicBezTo>
                <a:cubicBezTo>
                  <a:pt x="5151" y="12857"/>
                  <a:pt x="5143" y="12866"/>
                  <a:pt x="5135" y="12874"/>
                </a:cubicBezTo>
                <a:cubicBezTo>
                  <a:pt x="5275" y="12846"/>
                  <a:pt x="5262" y="12923"/>
                  <a:pt x="5135" y="12998"/>
                </a:cubicBezTo>
                <a:cubicBezTo>
                  <a:pt x="4988" y="13084"/>
                  <a:pt x="5004" y="12969"/>
                  <a:pt x="4986" y="12874"/>
                </a:cubicBezTo>
              </a:path>
              <a:path w="571" h="1142">
                <a:moveTo>
                  <a:pt x="5060" y="11881"/>
                </a:moveTo>
                <a:cubicBezTo>
                  <a:pt x="4927" y="11908"/>
                  <a:pt x="4898" y="12048"/>
                  <a:pt x="4837" y="12154"/>
                </a:cubicBezTo>
                <a:cubicBezTo>
                  <a:pt x="4793" y="12230"/>
                  <a:pt x="4658" y="12414"/>
                  <a:pt x="4812" y="12477"/>
                </a:cubicBezTo>
                <a:cubicBezTo>
                  <a:pt x="4928" y="12524"/>
                  <a:pt x="5117" y="12489"/>
                  <a:pt x="5209" y="12402"/>
                </a:cubicBezTo>
                <a:cubicBezTo>
                  <a:pt x="5247" y="12367"/>
                  <a:pt x="5280" y="12299"/>
                  <a:pt x="5308" y="12254"/>
                </a:cubicBezTo>
                <a:cubicBezTo>
                  <a:pt x="5240" y="12174"/>
                  <a:pt x="5155" y="12139"/>
                  <a:pt x="5060" y="12229"/>
                </a:cubicBezTo>
                <a:cubicBezTo>
                  <a:pt x="4984" y="12302"/>
                  <a:pt x="4986" y="12406"/>
                  <a:pt x="4986" y="12502"/>
                </a:cubicBezTo>
                <a:cubicBezTo>
                  <a:pt x="4986" y="12526"/>
                  <a:pt x="4986" y="12534"/>
                  <a:pt x="5011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2960" y="3705120"/>
            <a:ext cx="330120" cy="358920"/>
          </a:xfrm>
          <a:custGeom>
            <a:avLst/>
            <a:gdLst/>
            <a:ahLst/>
            <a:rect l="l" t="t" r="r" b="b"/>
            <a:pathLst>
              <a:path w="919" h="993">
                <a:moveTo>
                  <a:pt x="5110" y="10368"/>
                </a:moveTo>
                <a:cubicBezTo>
                  <a:pt x="5084" y="10431"/>
                  <a:pt x="5048" y="10501"/>
                  <a:pt x="5035" y="10567"/>
                </a:cubicBezTo>
              </a:path>
              <a:path w="919" h="993">
                <a:moveTo>
                  <a:pt x="5259" y="10344"/>
                </a:moveTo>
                <a:cubicBezTo>
                  <a:pt x="5293" y="10334"/>
                  <a:pt x="5507" y="10262"/>
                  <a:pt x="5407" y="10393"/>
                </a:cubicBezTo>
                <a:cubicBezTo>
                  <a:pt x="5367" y="10413"/>
                  <a:pt x="5351" y="10432"/>
                  <a:pt x="5358" y="10393"/>
                </a:cubicBezTo>
                <a:cubicBezTo>
                  <a:pt x="5358" y="10385"/>
                  <a:pt x="5358" y="10376"/>
                  <a:pt x="5358" y="10368"/>
                </a:cubicBezTo>
                <a:cubicBezTo>
                  <a:pt x="5480" y="10451"/>
                  <a:pt x="5438" y="10489"/>
                  <a:pt x="5333" y="10567"/>
                </a:cubicBezTo>
                <a:cubicBezTo>
                  <a:pt x="5325" y="10575"/>
                  <a:pt x="5316" y="10584"/>
                  <a:pt x="5308" y="10592"/>
                </a:cubicBezTo>
              </a:path>
              <a:path w="919" h="993">
                <a:moveTo>
                  <a:pt x="5383" y="10790"/>
                </a:moveTo>
                <a:cubicBezTo>
                  <a:pt x="5340" y="10930"/>
                  <a:pt x="5260" y="11137"/>
                  <a:pt x="5259" y="11286"/>
                </a:cubicBezTo>
                <a:cubicBezTo>
                  <a:pt x="5267" y="11286"/>
                  <a:pt x="5275" y="11286"/>
                  <a:pt x="5283" y="11286"/>
                </a:cubicBezTo>
              </a:path>
              <a:path w="919" h="993">
                <a:moveTo>
                  <a:pt x="5507" y="10815"/>
                </a:moveTo>
                <a:cubicBezTo>
                  <a:pt x="5609" y="10760"/>
                  <a:pt x="5772" y="10665"/>
                  <a:pt x="5779" y="10864"/>
                </a:cubicBezTo>
                <a:cubicBezTo>
                  <a:pt x="5784" y="11015"/>
                  <a:pt x="5632" y="11110"/>
                  <a:pt x="5581" y="11237"/>
                </a:cubicBezTo>
                <a:cubicBezTo>
                  <a:pt x="5581" y="11245"/>
                  <a:pt x="5581" y="11253"/>
                  <a:pt x="5581" y="11261"/>
                </a:cubicBezTo>
                <a:cubicBezTo>
                  <a:pt x="5708" y="11242"/>
                  <a:pt x="5820" y="11197"/>
                  <a:pt x="5953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5320" y="3062160"/>
            <a:ext cx="204840" cy="420840"/>
          </a:xfrm>
          <a:custGeom>
            <a:avLst/>
            <a:gdLst/>
            <a:ahLst/>
            <a:rect l="l" t="t" r="r" b="b"/>
            <a:pathLst>
              <a:path w="571" h="1167">
                <a:moveTo>
                  <a:pt x="4986" y="9451"/>
                </a:moveTo>
                <a:cubicBezTo>
                  <a:pt x="4997" y="9504"/>
                  <a:pt x="5011" y="9542"/>
                  <a:pt x="5011" y="9599"/>
                </a:cubicBezTo>
              </a:path>
              <a:path w="571" h="1167">
                <a:moveTo>
                  <a:pt x="5085" y="9475"/>
                </a:moveTo>
                <a:cubicBezTo>
                  <a:pt x="5053" y="9529"/>
                  <a:pt x="4963" y="9650"/>
                  <a:pt x="5011" y="9674"/>
                </a:cubicBezTo>
              </a:path>
              <a:path w="571" h="1167">
                <a:moveTo>
                  <a:pt x="5209" y="9451"/>
                </a:moveTo>
                <a:cubicBezTo>
                  <a:pt x="5260" y="9442"/>
                  <a:pt x="5371" y="9380"/>
                  <a:pt x="5383" y="9426"/>
                </a:cubicBezTo>
                <a:cubicBezTo>
                  <a:pt x="5395" y="9473"/>
                  <a:pt x="5367" y="9487"/>
                  <a:pt x="5358" y="9525"/>
                </a:cubicBezTo>
                <a:cubicBezTo>
                  <a:pt x="5358" y="9484"/>
                  <a:pt x="5374" y="9475"/>
                  <a:pt x="5432" y="9500"/>
                </a:cubicBezTo>
                <a:cubicBezTo>
                  <a:pt x="5418" y="9581"/>
                  <a:pt x="5383" y="9633"/>
                  <a:pt x="5308" y="9674"/>
                </a:cubicBezTo>
                <a:cubicBezTo>
                  <a:pt x="5300" y="9674"/>
                  <a:pt x="5291" y="9674"/>
                  <a:pt x="5283" y="9674"/>
                </a:cubicBezTo>
              </a:path>
              <a:path w="571" h="1167">
                <a:moveTo>
                  <a:pt x="5556" y="8756"/>
                </a:moveTo>
                <a:cubicBezTo>
                  <a:pt x="5556" y="8656"/>
                  <a:pt x="5563" y="8583"/>
                  <a:pt x="5457" y="8533"/>
                </a:cubicBezTo>
                <a:cubicBezTo>
                  <a:pt x="5281" y="8451"/>
                  <a:pt x="5215" y="8607"/>
                  <a:pt x="5234" y="8756"/>
                </a:cubicBezTo>
                <a:cubicBezTo>
                  <a:pt x="5257" y="8929"/>
                  <a:pt x="5452" y="8780"/>
                  <a:pt x="5507" y="8706"/>
                </a:cubicBezTo>
                <a:cubicBezTo>
                  <a:pt x="5523" y="8673"/>
                  <a:pt x="5540" y="8640"/>
                  <a:pt x="5556" y="8607"/>
                </a:cubicBezTo>
                <a:cubicBezTo>
                  <a:pt x="5556" y="8591"/>
                  <a:pt x="5556" y="8574"/>
                  <a:pt x="5556" y="8558"/>
                </a:cubicBezTo>
                <a:cubicBezTo>
                  <a:pt x="5556" y="8716"/>
                  <a:pt x="5535" y="8871"/>
                  <a:pt x="5531" y="9029"/>
                </a:cubicBezTo>
                <a:cubicBezTo>
                  <a:pt x="5531" y="9054"/>
                  <a:pt x="5531" y="9078"/>
                  <a:pt x="5531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4040" y="3741840"/>
            <a:ext cx="455760" cy="1276200"/>
          </a:xfrm>
          <a:custGeom>
            <a:avLst/>
            <a:gdLst/>
            <a:ahLst/>
            <a:rect l="l" t="t" r="r" b="b"/>
            <a:pathLst>
              <a:path w="1266" h="3548">
                <a:moveTo>
                  <a:pt x="6028" y="13320"/>
                </a:moveTo>
                <a:cubicBezTo>
                  <a:pt x="6028" y="13292"/>
                  <a:pt x="6030" y="13286"/>
                  <a:pt x="6052" y="13320"/>
                </a:cubicBezTo>
              </a:path>
              <a:path w="1266" h="3548">
                <a:moveTo>
                  <a:pt x="4986" y="10393"/>
                </a:moveTo>
                <a:cubicBezTo>
                  <a:pt x="5049" y="10468"/>
                  <a:pt x="5082" y="10496"/>
                  <a:pt x="5110" y="10592"/>
                </a:cubicBezTo>
              </a:path>
              <a:path w="1266" h="3548">
                <a:moveTo>
                  <a:pt x="5035" y="13717"/>
                </a:moveTo>
                <a:cubicBezTo>
                  <a:pt x="4934" y="13755"/>
                  <a:pt x="4833" y="13808"/>
                  <a:pt x="4787" y="13915"/>
                </a:cubicBezTo>
                <a:cubicBezTo>
                  <a:pt x="4787" y="13923"/>
                  <a:pt x="4787" y="13932"/>
                  <a:pt x="4787" y="13940"/>
                </a:cubicBezTo>
              </a:path>
              <a:path w="1266" h="3548">
                <a:moveTo>
                  <a:pt x="4812" y="12774"/>
                </a:moveTo>
                <a:cubicBezTo>
                  <a:pt x="4822" y="12816"/>
                  <a:pt x="4843" y="12852"/>
                  <a:pt x="4862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52880" y="3517920"/>
            <a:ext cx="5116320" cy="1073160"/>
          </a:xfrm>
          <a:custGeom>
            <a:avLst/>
            <a:gdLst/>
            <a:ahLst/>
            <a:rect l="l" t="t" r="r" b="b"/>
            <a:pathLst>
              <a:path w="14214" h="2978">
                <a:moveTo>
                  <a:pt x="17562" y="11112"/>
                </a:moveTo>
                <a:lnTo>
                  <a:pt x="17562" y="11112"/>
                </a:lnTo>
                <a:lnTo>
                  <a:pt x="17562" y="11112"/>
                </a:lnTo>
                <a:lnTo>
                  <a:pt x="17562" y="11112"/>
                </a:lnTo>
              </a:path>
              <a:path w="14214" h="2978">
                <a:moveTo>
                  <a:pt x="17562" y="11088"/>
                </a:moveTo>
                <a:lnTo>
                  <a:pt x="17562" y="11088"/>
                </a:lnTo>
              </a:path>
              <a:path w="14214" h="2978">
                <a:moveTo>
                  <a:pt x="22969" y="9773"/>
                </a:moveTo>
                <a:lnTo>
                  <a:pt x="22969" y="9773"/>
                </a:lnTo>
                <a:lnTo>
                  <a:pt x="22969" y="9773"/>
                </a:lnTo>
              </a:path>
              <a:path w="14214" h="2978">
                <a:moveTo>
                  <a:pt x="22969" y="9773"/>
                </a:moveTo>
                <a:lnTo>
                  <a:pt x="22969" y="9773"/>
                </a:lnTo>
              </a:path>
              <a:path w="14214" h="2978">
                <a:moveTo>
                  <a:pt x="22920" y="9996"/>
                </a:moveTo>
                <a:lnTo>
                  <a:pt x="22920" y="9996"/>
                </a:lnTo>
              </a:path>
              <a:path w="14214" h="2978">
                <a:moveTo>
                  <a:pt x="8756" y="12750"/>
                </a:moveTo>
                <a:cubicBezTo>
                  <a:pt x="8781" y="12750"/>
                  <a:pt x="8789" y="12750"/>
                  <a:pt x="8781" y="12725"/>
                </a:cubicBezTo>
              </a:path>
              <a:path w="14214" h="2978">
                <a:moveTo>
                  <a:pt x="8781" y="12725"/>
                </a:moveTo>
                <a:lnTo>
                  <a:pt x="8781" y="12725"/>
                </a:lnTo>
              </a:path>
              <a:path w="14214" h="2978">
                <a:moveTo>
                  <a:pt x="8781" y="12725"/>
                </a:moveTo>
                <a:lnTo>
                  <a:pt x="8781" y="127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1320" y="4581360"/>
            <a:ext cx="517680" cy="642960"/>
          </a:xfrm>
          <a:custGeom>
            <a:avLst/>
            <a:gdLst/>
            <a:ahLst/>
            <a:rect l="l" t="t" r="r" b="b"/>
            <a:pathLst>
              <a:path w="1440" h="1787">
                <a:moveTo>
                  <a:pt x="8731" y="12725"/>
                </a:moveTo>
                <a:cubicBezTo>
                  <a:pt x="8630" y="12725"/>
                  <a:pt x="8560" y="12720"/>
                  <a:pt x="8483" y="12774"/>
                </a:cubicBezTo>
                <a:cubicBezTo>
                  <a:pt x="8475" y="12782"/>
                  <a:pt x="8466" y="12791"/>
                  <a:pt x="8458" y="12799"/>
                </a:cubicBezTo>
                <a:cubicBezTo>
                  <a:pt x="8509" y="12952"/>
                  <a:pt x="8674" y="12990"/>
                  <a:pt x="8756" y="13146"/>
                </a:cubicBezTo>
                <a:cubicBezTo>
                  <a:pt x="8843" y="13312"/>
                  <a:pt x="8716" y="13325"/>
                  <a:pt x="8607" y="13370"/>
                </a:cubicBezTo>
                <a:cubicBezTo>
                  <a:pt x="8472" y="13143"/>
                  <a:pt x="8580" y="13061"/>
                  <a:pt x="8756" y="12874"/>
                </a:cubicBezTo>
                <a:cubicBezTo>
                  <a:pt x="8808" y="12819"/>
                  <a:pt x="8867" y="12786"/>
                  <a:pt x="8830" y="12750"/>
                </a:cubicBezTo>
              </a:path>
              <a:path w="1440" h="1787">
                <a:moveTo>
                  <a:pt x="8086" y="13568"/>
                </a:moveTo>
                <a:cubicBezTo>
                  <a:pt x="8368" y="13553"/>
                  <a:pt x="8647" y="13523"/>
                  <a:pt x="8930" y="13519"/>
                </a:cubicBezTo>
                <a:cubicBezTo>
                  <a:pt x="8980" y="13518"/>
                  <a:pt x="9079" y="13519"/>
                  <a:pt x="9029" y="13519"/>
                </a:cubicBezTo>
              </a:path>
              <a:path w="1440" h="1787">
                <a:moveTo>
                  <a:pt x="8781" y="13915"/>
                </a:moveTo>
                <a:cubicBezTo>
                  <a:pt x="8781" y="13820"/>
                  <a:pt x="8769" y="13779"/>
                  <a:pt x="8706" y="13717"/>
                </a:cubicBezTo>
                <a:cubicBezTo>
                  <a:pt x="8571" y="13725"/>
                  <a:pt x="8330" y="13860"/>
                  <a:pt x="8458" y="14064"/>
                </a:cubicBezTo>
                <a:cubicBezTo>
                  <a:pt x="8537" y="14191"/>
                  <a:pt x="8734" y="13955"/>
                  <a:pt x="8781" y="13915"/>
                </a:cubicBezTo>
                <a:cubicBezTo>
                  <a:pt x="8759" y="14091"/>
                  <a:pt x="8710" y="14264"/>
                  <a:pt x="8682" y="14436"/>
                </a:cubicBezTo>
                <a:cubicBezTo>
                  <a:pt x="8682" y="14503"/>
                  <a:pt x="8682" y="14536"/>
                  <a:pt x="8682" y="14461"/>
                </a:cubicBezTo>
              </a:path>
              <a:path w="1440" h="1787">
                <a:moveTo>
                  <a:pt x="9302" y="13692"/>
                </a:moveTo>
                <a:cubicBezTo>
                  <a:pt x="9376" y="13692"/>
                  <a:pt x="9451" y="13692"/>
                  <a:pt x="9525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3840" y="4626000"/>
            <a:ext cx="250920" cy="625320"/>
          </a:xfrm>
          <a:custGeom>
            <a:avLst/>
            <a:gdLst/>
            <a:ahLst/>
            <a:rect l="l" t="t" r="r" b="b"/>
            <a:pathLst>
              <a:path w="695" h="1737">
                <a:moveTo>
                  <a:pt x="10269" y="12849"/>
                </a:moveTo>
                <a:cubicBezTo>
                  <a:pt x="10235" y="12982"/>
                  <a:pt x="10164" y="13148"/>
                  <a:pt x="10145" y="13295"/>
                </a:cubicBezTo>
                <a:cubicBezTo>
                  <a:pt x="10145" y="13418"/>
                  <a:pt x="10127" y="13449"/>
                  <a:pt x="10195" y="13494"/>
                </a:cubicBezTo>
                <a:cubicBezTo>
                  <a:pt x="10361" y="13502"/>
                  <a:pt x="10630" y="13496"/>
                  <a:pt x="10616" y="13246"/>
                </a:cubicBezTo>
                <a:cubicBezTo>
                  <a:pt x="10600" y="13221"/>
                  <a:pt x="10583" y="13196"/>
                  <a:pt x="10567" y="13171"/>
                </a:cubicBezTo>
                <a:cubicBezTo>
                  <a:pt x="10424" y="13230"/>
                  <a:pt x="10362" y="13344"/>
                  <a:pt x="10418" y="13519"/>
                </a:cubicBezTo>
                <a:cubicBezTo>
                  <a:pt x="10426" y="13527"/>
                  <a:pt x="10435" y="13535"/>
                  <a:pt x="10443" y="13543"/>
                </a:cubicBezTo>
              </a:path>
              <a:path w="695" h="1737">
                <a:moveTo>
                  <a:pt x="10096" y="13692"/>
                </a:moveTo>
                <a:cubicBezTo>
                  <a:pt x="10318" y="13650"/>
                  <a:pt x="10539" y="13626"/>
                  <a:pt x="10765" y="13618"/>
                </a:cubicBezTo>
                <a:cubicBezTo>
                  <a:pt x="10773" y="13618"/>
                  <a:pt x="10782" y="13618"/>
                  <a:pt x="10790" y="13618"/>
                </a:cubicBezTo>
              </a:path>
              <a:path w="695" h="1737">
                <a:moveTo>
                  <a:pt x="10468" y="14064"/>
                </a:moveTo>
                <a:cubicBezTo>
                  <a:pt x="10509" y="13981"/>
                  <a:pt x="10544" y="13906"/>
                  <a:pt x="10443" y="13841"/>
                </a:cubicBezTo>
                <a:cubicBezTo>
                  <a:pt x="10307" y="13754"/>
                  <a:pt x="10138" y="13987"/>
                  <a:pt x="10170" y="14114"/>
                </a:cubicBezTo>
                <a:cubicBezTo>
                  <a:pt x="10198" y="14223"/>
                  <a:pt x="10449" y="14048"/>
                  <a:pt x="10468" y="14039"/>
                </a:cubicBezTo>
                <a:cubicBezTo>
                  <a:pt x="10476" y="14031"/>
                  <a:pt x="10484" y="14023"/>
                  <a:pt x="10492" y="14015"/>
                </a:cubicBezTo>
                <a:cubicBezTo>
                  <a:pt x="10492" y="14138"/>
                  <a:pt x="10462" y="14266"/>
                  <a:pt x="10443" y="14387"/>
                </a:cubicBezTo>
                <a:cubicBezTo>
                  <a:pt x="10421" y="14527"/>
                  <a:pt x="10414" y="14503"/>
                  <a:pt x="10393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6240" y="484020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1435" y="13469"/>
                </a:moveTo>
                <a:cubicBezTo>
                  <a:pt x="11514" y="13456"/>
                  <a:pt x="11626" y="13416"/>
                  <a:pt x="11708" y="13444"/>
                </a:cubicBezTo>
                <a:cubicBezTo>
                  <a:pt x="11708" y="13452"/>
                  <a:pt x="11708" y="13461"/>
                  <a:pt x="11708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960" y="4911840"/>
            <a:ext cx="3490920" cy="1581120"/>
          </a:xfrm>
          <a:custGeom>
            <a:avLst/>
            <a:gdLst/>
            <a:ahLst/>
            <a:rect l="l" t="t" r="r" b="b"/>
            <a:pathLst>
              <a:path w="9700" h="4391">
                <a:moveTo>
                  <a:pt x="11534" y="13643"/>
                </a:moveTo>
                <a:cubicBezTo>
                  <a:pt x="11592" y="13651"/>
                  <a:pt x="11649" y="13661"/>
                  <a:pt x="11708" y="13667"/>
                </a:cubicBezTo>
              </a:path>
              <a:path w="9700" h="4391">
                <a:moveTo>
                  <a:pt x="2009" y="18033"/>
                </a:moveTo>
                <a:lnTo>
                  <a:pt x="2009" y="1803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7240" y="4286160"/>
            <a:ext cx="776520" cy="1054080"/>
          </a:xfrm>
          <a:custGeom>
            <a:avLst/>
            <a:gdLst/>
            <a:ahLst/>
            <a:rect l="l" t="t" r="r" b="b"/>
            <a:pathLst>
              <a:path w="2159" h="2928">
                <a:moveTo>
                  <a:pt x="12650" y="12824"/>
                </a:moveTo>
                <a:cubicBezTo>
                  <a:pt x="12652" y="12695"/>
                  <a:pt x="12796" y="12705"/>
                  <a:pt x="12923" y="12700"/>
                </a:cubicBezTo>
                <a:cubicBezTo>
                  <a:pt x="12940" y="12700"/>
                  <a:pt x="12956" y="12700"/>
                  <a:pt x="12973" y="12700"/>
                </a:cubicBezTo>
                <a:cubicBezTo>
                  <a:pt x="12873" y="12937"/>
                  <a:pt x="12723" y="13017"/>
                  <a:pt x="12551" y="13196"/>
                </a:cubicBezTo>
                <a:cubicBezTo>
                  <a:pt x="12543" y="13213"/>
                  <a:pt x="12534" y="13229"/>
                  <a:pt x="12526" y="13246"/>
                </a:cubicBezTo>
                <a:cubicBezTo>
                  <a:pt x="12668" y="13266"/>
                  <a:pt x="12803" y="13271"/>
                  <a:pt x="12948" y="13271"/>
                </a:cubicBezTo>
                <a:cubicBezTo>
                  <a:pt x="13024" y="13271"/>
                  <a:pt x="13011" y="13252"/>
                  <a:pt x="13022" y="13320"/>
                </a:cubicBezTo>
              </a:path>
              <a:path w="2159" h="2928">
                <a:moveTo>
                  <a:pt x="12452" y="13593"/>
                </a:moveTo>
                <a:cubicBezTo>
                  <a:pt x="12760" y="13574"/>
                  <a:pt x="13060" y="13612"/>
                  <a:pt x="13370" y="13618"/>
                </a:cubicBezTo>
                <a:cubicBezTo>
                  <a:pt x="13403" y="13618"/>
                  <a:pt x="13436" y="13618"/>
                  <a:pt x="13469" y="13618"/>
                </a:cubicBezTo>
              </a:path>
              <a:path w="2159" h="2928">
                <a:moveTo>
                  <a:pt x="12948" y="14139"/>
                </a:moveTo>
                <a:cubicBezTo>
                  <a:pt x="13011" y="14108"/>
                  <a:pt x="13019" y="13989"/>
                  <a:pt x="12998" y="13915"/>
                </a:cubicBezTo>
                <a:cubicBezTo>
                  <a:pt x="12943" y="13725"/>
                  <a:pt x="12709" y="13823"/>
                  <a:pt x="12650" y="13965"/>
                </a:cubicBezTo>
                <a:cubicBezTo>
                  <a:pt x="12564" y="14173"/>
                  <a:pt x="12846" y="14100"/>
                  <a:pt x="12923" y="14064"/>
                </a:cubicBezTo>
                <a:cubicBezTo>
                  <a:pt x="12940" y="14056"/>
                  <a:pt x="12956" y="14047"/>
                  <a:pt x="12973" y="14039"/>
                </a:cubicBezTo>
                <a:cubicBezTo>
                  <a:pt x="12973" y="14031"/>
                  <a:pt x="12973" y="14023"/>
                  <a:pt x="12973" y="14015"/>
                </a:cubicBezTo>
                <a:cubicBezTo>
                  <a:pt x="13059" y="14071"/>
                  <a:pt x="12976" y="14348"/>
                  <a:pt x="12948" y="14436"/>
                </a:cubicBezTo>
                <a:cubicBezTo>
                  <a:pt x="12911" y="14510"/>
                  <a:pt x="12894" y="14514"/>
                  <a:pt x="12898" y="14560"/>
                </a:cubicBezTo>
              </a:path>
              <a:path w="2159" h="2928">
                <a:moveTo>
                  <a:pt x="11832" y="13320"/>
                </a:moveTo>
                <a:cubicBezTo>
                  <a:pt x="11789" y="13503"/>
                  <a:pt x="11723" y="13699"/>
                  <a:pt x="11708" y="13891"/>
                </a:cubicBezTo>
                <a:cubicBezTo>
                  <a:pt x="11690" y="14116"/>
                  <a:pt x="11696" y="14416"/>
                  <a:pt x="11832" y="14610"/>
                </a:cubicBezTo>
                <a:cubicBezTo>
                  <a:pt x="11943" y="14768"/>
                  <a:pt x="12123" y="14827"/>
                  <a:pt x="12303" y="14833"/>
                </a:cubicBezTo>
                <a:cubicBezTo>
                  <a:pt x="12617" y="14844"/>
                  <a:pt x="13048" y="14756"/>
                  <a:pt x="13271" y="14511"/>
                </a:cubicBezTo>
                <a:cubicBezTo>
                  <a:pt x="13412" y="14356"/>
                  <a:pt x="13550" y="14130"/>
                  <a:pt x="13643" y="13940"/>
                </a:cubicBezTo>
                <a:cubicBezTo>
                  <a:pt x="13757" y="13707"/>
                  <a:pt x="13801" y="13453"/>
                  <a:pt x="13816" y="13196"/>
                </a:cubicBezTo>
                <a:cubicBezTo>
                  <a:pt x="13828" y="12989"/>
                  <a:pt x="13796" y="12752"/>
                  <a:pt x="13742" y="12551"/>
                </a:cubicBezTo>
                <a:cubicBezTo>
                  <a:pt x="13685" y="12340"/>
                  <a:pt x="13580" y="12129"/>
                  <a:pt x="13395" y="12005"/>
                </a:cubicBezTo>
                <a:cubicBezTo>
                  <a:pt x="13210" y="11881"/>
                  <a:pt x="13005" y="11901"/>
                  <a:pt x="12799" y="11956"/>
                </a:cubicBezTo>
                <a:cubicBezTo>
                  <a:pt x="12605" y="12008"/>
                  <a:pt x="12483" y="12166"/>
                  <a:pt x="12353" y="12303"/>
                </a:cubicBezTo>
                <a:cubicBezTo>
                  <a:pt x="12250" y="12411"/>
                  <a:pt x="12167" y="12506"/>
                  <a:pt x="12080" y="12626"/>
                </a:cubicBezTo>
                <a:cubicBezTo>
                  <a:pt x="12008" y="12726"/>
                  <a:pt x="11929" y="12824"/>
                  <a:pt x="11857" y="12923"/>
                </a:cubicBezTo>
                <a:cubicBezTo>
                  <a:pt x="11772" y="13040"/>
                  <a:pt x="11748" y="13134"/>
                  <a:pt x="11708" y="13271"/>
                </a:cubicBezTo>
                <a:cubicBezTo>
                  <a:pt x="11681" y="13364"/>
                  <a:pt x="11683" y="13446"/>
                  <a:pt x="11683" y="13543"/>
                </a:cubicBezTo>
                <a:cubicBezTo>
                  <a:pt x="11683" y="13595"/>
                  <a:pt x="11727" y="13644"/>
                  <a:pt x="11708" y="13692"/>
                </a:cubicBezTo>
                <a:cubicBezTo>
                  <a:pt x="11691" y="13700"/>
                  <a:pt x="11675" y="13709"/>
                  <a:pt x="11658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Mixed Number Addition &amp; Subtrac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ents will accurately add and subtract fractions and mixed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cc66"/>
                </a:solidFill>
                <a:latin typeface="Arial"/>
              </a:rPr>
              <a:t>Vocabular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3300" spc="-1" strike="noStrike" u="sng">
                <a:solidFill>
                  <a:srgbClr val="00cc66"/>
                </a:solidFill>
                <a:uFillTx/>
                <a:latin typeface="Arial"/>
              </a:rPr>
              <a:t>Rename</a:t>
            </a:r>
            <a:r>
              <a:rPr b="0" lang="en-US" sz="3300" spc="-1" strike="noStrike">
                <a:solidFill>
                  <a:srgbClr val="00cc66"/>
                </a:solidFill>
                <a:latin typeface="Arial"/>
              </a:rPr>
              <a:t> –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3300" spc="-1" strike="noStrike" u="sng">
                <a:solidFill>
                  <a:srgbClr val="00cc66"/>
                </a:solidFill>
                <a:uFillTx/>
                <a:latin typeface="Arial"/>
              </a:rPr>
              <a:t>Mixed Number</a:t>
            </a:r>
            <a:r>
              <a:rPr b="0" lang="en-US" sz="3300" spc="-1" strike="noStrike">
                <a:solidFill>
                  <a:srgbClr val="00cc66"/>
                </a:solidFill>
                <a:latin typeface="Arial"/>
              </a:rPr>
              <a:t> –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What are 3 different ways to write 5 as a mixed number?</a:t>
            </a:r>
            <a:r>
              <a:rPr b="0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760" y="2384280"/>
            <a:ext cx="169560" cy="1800"/>
          </a:xfrm>
          <a:custGeom>
            <a:avLst/>
            <a:gdLst/>
            <a:ahLst/>
            <a:rect l="l" t="t" r="r" b="b"/>
            <a:pathLst>
              <a:path w="472" h="1">
                <a:moveTo>
                  <a:pt x="1191" y="6623"/>
                </a:moveTo>
                <a:cubicBezTo>
                  <a:pt x="1348" y="6623"/>
                  <a:pt x="1505" y="6623"/>
                  <a:pt x="1662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2840040"/>
            <a:ext cx="13464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191" y="7913"/>
                </a:moveTo>
                <a:cubicBezTo>
                  <a:pt x="1311" y="7913"/>
                  <a:pt x="1422" y="7906"/>
                  <a:pt x="1538" y="7888"/>
                </a:cubicBezTo>
                <a:cubicBezTo>
                  <a:pt x="1546" y="7888"/>
                  <a:pt x="1555" y="7888"/>
                  <a:pt x="1563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4880" y="2133720"/>
            <a:ext cx="3206520" cy="250560"/>
          </a:xfrm>
          <a:custGeom>
            <a:avLst/>
            <a:gdLst/>
            <a:ahLst/>
            <a:rect l="l" t="t" r="r" b="b"/>
            <a:pathLst>
              <a:path w="8906" h="696">
                <a:moveTo>
                  <a:pt x="8458" y="6548"/>
                </a:moveTo>
                <a:lnTo>
                  <a:pt x="8458" y="6548"/>
                </a:lnTo>
              </a:path>
              <a:path w="8906" h="696">
                <a:moveTo>
                  <a:pt x="8632" y="6176"/>
                </a:moveTo>
                <a:lnTo>
                  <a:pt x="8632" y="6176"/>
                </a:lnTo>
                <a:lnTo>
                  <a:pt x="8632" y="6176"/>
                </a:lnTo>
              </a:path>
              <a:path w="8906" h="696">
                <a:moveTo>
                  <a:pt x="8632" y="6176"/>
                </a:moveTo>
                <a:lnTo>
                  <a:pt x="8632" y="6176"/>
                </a:lnTo>
              </a:path>
              <a:path w="8906" h="696">
                <a:moveTo>
                  <a:pt x="9277" y="6152"/>
                </a:moveTo>
                <a:cubicBezTo>
                  <a:pt x="9277" y="6160"/>
                  <a:pt x="9277" y="6168"/>
                  <a:pt x="9277" y="6176"/>
                </a:cubicBezTo>
              </a:path>
              <a:path w="8906" h="696">
                <a:moveTo>
                  <a:pt x="9277" y="6176"/>
                </a:moveTo>
                <a:lnTo>
                  <a:pt x="9277" y="6176"/>
                </a:lnTo>
              </a:path>
              <a:path w="8906" h="696">
                <a:moveTo>
                  <a:pt x="12750" y="5953"/>
                </a:moveTo>
                <a:cubicBezTo>
                  <a:pt x="12794" y="6175"/>
                  <a:pt x="12849" y="6398"/>
                  <a:pt x="12874" y="6623"/>
                </a:cubicBezTo>
              </a:path>
              <a:path w="8906" h="696">
                <a:moveTo>
                  <a:pt x="17289" y="6176"/>
                </a:moveTo>
                <a:cubicBezTo>
                  <a:pt x="17313" y="6284"/>
                  <a:pt x="17335" y="6392"/>
                  <a:pt x="17363" y="6499"/>
                </a:cubicBezTo>
              </a:path>
              <a:path w="8906" h="696">
                <a:moveTo>
                  <a:pt x="17264" y="5928"/>
                </a:moveTo>
                <a:lnTo>
                  <a:pt x="17264" y="5928"/>
                </a:lnTo>
                <a:lnTo>
                  <a:pt x="17264" y="5928"/>
                </a:lnTo>
              </a:path>
              <a:path w="8906" h="696">
                <a:moveTo>
                  <a:pt x="17264" y="5928"/>
                </a:moveTo>
                <a:lnTo>
                  <a:pt x="17264" y="59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67040" y="2241720"/>
            <a:ext cx="847800" cy="330120"/>
          </a:xfrm>
          <a:custGeom>
            <a:avLst/>
            <a:gdLst/>
            <a:ahLst/>
            <a:rect l="l" t="t" r="r" b="b"/>
            <a:pathLst>
              <a:path w="2358" h="919">
                <a:moveTo>
                  <a:pt x="8434" y="6424"/>
                </a:moveTo>
                <a:cubicBezTo>
                  <a:pt x="8451" y="6374"/>
                  <a:pt x="8471" y="6405"/>
                  <a:pt x="8434" y="6325"/>
                </a:cubicBezTo>
                <a:cubicBezTo>
                  <a:pt x="8404" y="6266"/>
                  <a:pt x="8386" y="6243"/>
                  <a:pt x="8334" y="6226"/>
                </a:cubicBezTo>
                <a:cubicBezTo>
                  <a:pt x="8266" y="6270"/>
                  <a:pt x="7842" y="6633"/>
                  <a:pt x="8161" y="6672"/>
                </a:cubicBezTo>
                <a:cubicBezTo>
                  <a:pt x="8349" y="6695"/>
                  <a:pt x="8371" y="6520"/>
                  <a:pt x="8409" y="6400"/>
                </a:cubicBezTo>
                <a:cubicBezTo>
                  <a:pt x="8401" y="6392"/>
                  <a:pt x="8392" y="6383"/>
                  <a:pt x="8384" y="6375"/>
                </a:cubicBezTo>
                <a:cubicBezTo>
                  <a:pt x="8461" y="6567"/>
                  <a:pt x="8597" y="6644"/>
                  <a:pt x="8508" y="6896"/>
                </a:cubicBezTo>
                <a:cubicBezTo>
                  <a:pt x="8440" y="7088"/>
                  <a:pt x="7874" y="7229"/>
                  <a:pt x="7962" y="7045"/>
                </a:cubicBezTo>
                <a:cubicBezTo>
                  <a:pt x="8012" y="6995"/>
                  <a:pt x="8061" y="6946"/>
                  <a:pt x="8111" y="6896"/>
                </a:cubicBezTo>
              </a:path>
              <a:path w="2358" h="919">
                <a:moveTo>
                  <a:pt x="8706" y="6375"/>
                </a:moveTo>
                <a:cubicBezTo>
                  <a:pt x="8727" y="6476"/>
                  <a:pt x="8809" y="6722"/>
                  <a:pt x="8781" y="6722"/>
                </a:cubicBezTo>
              </a:path>
              <a:path w="2358" h="919">
                <a:moveTo>
                  <a:pt x="8954" y="6499"/>
                </a:moveTo>
                <a:cubicBezTo>
                  <a:pt x="9019" y="6607"/>
                  <a:pt x="9034" y="6633"/>
                  <a:pt x="9079" y="6697"/>
                </a:cubicBezTo>
                <a:cubicBezTo>
                  <a:pt x="9066" y="6599"/>
                  <a:pt x="8999" y="6383"/>
                  <a:pt x="9079" y="6300"/>
                </a:cubicBezTo>
                <a:cubicBezTo>
                  <a:pt x="9087" y="6300"/>
                  <a:pt x="9095" y="6300"/>
                  <a:pt x="9103" y="6300"/>
                </a:cubicBezTo>
                <a:cubicBezTo>
                  <a:pt x="9193" y="6365"/>
                  <a:pt x="9240" y="6395"/>
                  <a:pt x="9277" y="6499"/>
                </a:cubicBezTo>
                <a:cubicBezTo>
                  <a:pt x="9280" y="6506"/>
                  <a:pt x="9368" y="6840"/>
                  <a:pt x="9351" y="6747"/>
                </a:cubicBezTo>
                <a:cubicBezTo>
                  <a:pt x="9343" y="6689"/>
                  <a:pt x="9335" y="6631"/>
                  <a:pt x="9327" y="6573"/>
                </a:cubicBezTo>
              </a:path>
              <a:path w="2358" h="919">
                <a:moveTo>
                  <a:pt x="9525" y="6548"/>
                </a:moveTo>
                <a:cubicBezTo>
                  <a:pt x="9525" y="6615"/>
                  <a:pt x="9525" y="6648"/>
                  <a:pt x="9525" y="6573"/>
                </a:cubicBezTo>
                <a:cubicBezTo>
                  <a:pt x="9540" y="6399"/>
                  <a:pt x="9530" y="6369"/>
                  <a:pt x="9649" y="6251"/>
                </a:cubicBezTo>
                <a:cubicBezTo>
                  <a:pt x="9861" y="6331"/>
                  <a:pt x="9872" y="6439"/>
                  <a:pt x="9847" y="6672"/>
                </a:cubicBezTo>
              </a:path>
              <a:path w="2358" h="919">
                <a:moveTo>
                  <a:pt x="10096" y="6300"/>
                </a:moveTo>
                <a:cubicBezTo>
                  <a:pt x="10080" y="6328"/>
                  <a:pt x="9921" y="6834"/>
                  <a:pt x="10145" y="6672"/>
                </a:cubicBezTo>
                <a:cubicBezTo>
                  <a:pt x="10205" y="6554"/>
                  <a:pt x="10224" y="6500"/>
                  <a:pt x="10220" y="6400"/>
                </a:cubicBezTo>
                <a:cubicBezTo>
                  <a:pt x="10220" y="6367"/>
                  <a:pt x="10220" y="6333"/>
                  <a:pt x="10220" y="6300"/>
                </a:cubicBezTo>
                <a:cubicBezTo>
                  <a:pt x="10256" y="6482"/>
                  <a:pt x="10377" y="6675"/>
                  <a:pt x="10294" y="6871"/>
                </a:cubicBezTo>
                <a:cubicBezTo>
                  <a:pt x="10191" y="7112"/>
                  <a:pt x="10013" y="7049"/>
                  <a:pt x="9823" y="7020"/>
                </a:cubicBezTo>
              </a:path>
              <a:path w="2358" h="919">
                <a:moveTo>
                  <a:pt x="8830" y="6375"/>
                </a:moveTo>
                <a:cubicBezTo>
                  <a:pt x="8882" y="6427"/>
                  <a:pt x="8899" y="6504"/>
                  <a:pt x="8954" y="6548"/>
                </a:cubicBezTo>
                <a:cubicBezTo>
                  <a:pt x="8971" y="6556"/>
                  <a:pt x="8987" y="6565"/>
                  <a:pt x="9004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67120" y="2241720"/>
            <a:ext cx="187200" cy="160200"/>
          </a:xfrm>
          <a:custGeom>
            <a:avLst/>
            <a:gdLst/>
            <a:ahLst/>
            <a:rect l="l" t="t" r="r" b="b"/>
            <a:pathLst>
              <a:path w="522" h="447">
                <a:moveTo>
                  <a:pt x="11063" y="6424"/>
                </a:moveTo>
                <a:cubicBezTo>
                  <a:pt x="11047" y="6344"/>
                  <a:pt x="10993" y="6289"/>
                  <a:pt x="10939" y="6226"/>
                </a:cubicBezTo>
                <a:cubicBezTo>
                  <a:pt x="10795" y="6303"/>
                  <a:pt x="10661" y="6436"/>
                  <a:pt x="10765" y="6623"/>
                </a:cubicBezTo>
                <a:cubicBezTo>
                  <a:pt x="10790" y="6639"/>
                  <a:pt x="10815" y="6656"/>
                  <a:pt x="10840" y="6672"/>
                </a:cubicBezTo>
                <a:cubicBezTo>
                  <a:pt x="11020" y="6636"/>
                  <a:pt x="11040" y="6587"/>
                  <a:pt x="11013" y="6400"/>
                </a:cubicBezTo>
                <a:cubicBezTo>
                  <a:pt x="11040" y="6462"/>
                  <a:pt x="11127" y="6727"/>
                  <a:pt x="11237" y="6672"/>
                </a:cubicBezTo>
                <a:cubicBezTo>
                  <a:pt x="11245" y="6656"/>
                  <a:pt x="11253" y="6639"/>
                  <a:pt x="11261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1880" y="2187720"/>
            <a:ext cx="714240" cy="206280"/>
          </a:xfrm>
          <a:custGeom>
            <a:avLst/>
            <a:gdLst/>
            <a:ahLst/>
            <a:rect l="l" t="t" r="r" b="b"/>
            <a:pathLst>
              <a:path w="1986" h="572">
                <a:moveTo>
                  <a:pt x="11782" y="6077"/>
                </a:moveTo>
                <a:cubicBezTo>
                  <a:pt x="11896" y="6246"/>
                  <a:pt x="12002" y="6422"/>
                  <a:pt x="12105" y="6598"/>
                </a:cubicBezTo>
                <a:cubicBezTo>
                  <a:pt x="12084" y="6473"/>
                  <a:pt x="12071" y="6298"/>
                  <a:pt x="12129" y="6176"/>
                </a:cubicBezTo>
                <a:cubicBezTo>
                  <a:pt x="12154" y="6151"/>
                  <a:pt x="12179" y="6127"/>
                  <a:pt x="12204" y="6102"/>
                </a:cubicBezTo>
              </a:path>
              <a:path w="1986" h="572">
                <a:moveTo>
                  <a:pt x="12576" y="6276"/>
                </a:moveTo>
                <a:cubicBezTo>
                  <a:pt x="12557" y="6183"/>
                  <a:pt x="12545" y="6209"/>
                  <a:pt x="12452" y="6152"/>
                </a:cubicBezTo>
                <a:cubicBezTo>
                  <a:pt x="12394" y="6219"/>
                  <a:pt x="12144" y="6641"/>
                  <a:pt x="12427" y="6648"/>
                </a:cubicBezTo>
                <a:cubicBezTo>
                  <a:pt x="12634" y="6653"/>
                  <a:pt x="12560" y="6399"/>
                  <a:pt x="12551" y="6300"/>
                </a:cubicBezTo>
                <a:cubicBezTo>
                  <a:pt x="12543" y="6284"/>
                  <a:pt x="12534" y="6267"/>
                  <a:pt x="12526" y="6251"/>
                </a:cubicBezTo>
                <a:cubicBezTo>
                  <a:pt x="12553" y="6332"/>
                  <a:pt x="12666" y="6569"/>
                  <a:pt x="12750" y="6598"/>
                </a:cubicBezTo>
                <a:cubicBezTo>
                  <a:pt x="12766" y="6581"/>
                  <a:pt x="12783" y="6565"/>
                  <a:pt x="12799" y="6548"/>
                </a:cubicBezTo>
              </a:path>
              <a:path w="1986" h="572">
                <a:moveTo>
                  <a:pt x="12973" y="6127"/>
                </a:moveTo>
                <a:cubicBezTo>
                  <a:pt x="13003" y="6295"/>
                  <a:pt x="13026" y="6442"/>
                  <a:pt x="13097" y="6598"/>
                </a:cubicBezTo>
                <a:cubicBezTo>
                  <a:pt x="13228" y="6495"/>
                  <a:pt x="13242" y="6389"/>
                  <a:pt x="13271" y="6226"/>
                </a:cubicBezTo>
                <a:cubicBezTo>
                  <a:pt x="13271" y="6218"/>
                  <a:pt x="13271" y="6209"/>
                  <a:pt x="13271" y="6201"/>
                </a:cubicBezTo>
                <a:cubicBezTo>
                  <a:pt x="13280" y="6343"/>
                  <a:pt x="13194" y="6689"/>
                  <a:pt x="13320" y="6623"/>
                </a:cubicBezTo>
                <a:cubicBezTo>
                  <a:pt x="13353" y="6590"/>
                  <a:pt x="13386" y="6557"/>
                  <a:pt x="13419" y="6524"/>
                </a:cubicBezTo>
              </a:path>
              <a:path w="1986" h="572">
                <a:moveTo>
                  <a:pt x="13543" y="6325"/>
                </a:moveTo>
                <a:cubicBezTo>
                  <a:pt x="13610" y="6325"/>
                  <a:pt x="13656" y="6312"/>
                  <a:pt x="13717" y="6300"/>
                </a:cubicBezTo>
                <a:cubicBezTo>
                  <a:pt x="13709" y="6285"/>
                  <a:pt x="13590" y="6081"/>
                  <a:pt x="13543" y="6176"/>
                </a:cubicBezTo>
                <a:cubicBezTo>
                  <a:pt x="13502" y="6258"/>
                  <a:pt x="13518" y="6624"/>
                  <a:pt x="13692" y="6548"/>
                </a:cubicBezTo>
                <a:cubicBezTo>
                  <a:pt x="13717" y="6523"/>
                  <a:pt x="13742" y="6499"/>
                  <a:pt x="13767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4320" y="2098800"/>
            <a:ext cx="669960" cy="295200"/>
          </a:xfrm>
          <a:custGeom>
            <a:avLst/>
            <a:gdLst/>
            <a:ahLst/>
            <a:rect l="l" t="t" r="r" b="b"/>
            <a:pathLst>
              <a:path w="1861" h="820">
                <a:moveTo>
                  <a:pt x="14536" y="5829"/>
                </a:moveTo>
                <a:cubicBezTo>
                  <a:pt x="14585" y="6042"/>
                  <a:pt x="14644" y="6259"/>
                  <a:pt x="14684" y="6474"/>
                </a:cubicBezTo>
                <a:cubicBezTo>
                  <a:pt x="14684" y="6516"/>
                  <a:pt x="14684" y="6541"/>
                  <a:pt x="14684" y="6499"/>
                </a:cubicBezTo>
              </a:path>
              <a:path w="1861" h="820">
                <a:moveTo>
                  <a:pt x="14511" y="6226"/>
                </a:moveTo>
                <a:cubicBezTo>
                  <a:pt x="14694" y="6287"/>
                  <a:pt x="14905" y="6369"/>
                  <a:pt x="15007" y="6127"/>
                </a:cubicBezTo>
                <a:cubicBezTo>
                  <a:pt x="15015" y="6069"/>
                  <a:pt x="15024" y="6011"/>
                  <a:pt x="15032" y="5953"/>
                </a:cubicBezTo>
                <a:cubicBezTo>
                  <a:pt x="15003" y="5754"/>
                  <a:pt x="15008" y="6201"/>
                  <a:pt x="15032" y="6400"/>
                </a:cubicBezTo>
                <a:cubicBezTo>
                  <a:pt x="15036" y="6438"/>
                  <a:pt x="15096" y="6651"/>
                  <a:pt x="15032" y="6474"/>
                </a:cubicBezTo>
                <a:cubicBezTo>
                  <a:pt x="15038" y="6392"/>
                  <a:pt x="15083" y="5944"/>
                  <a:pt x="15230" y="6251"/>
                </a:cubicBezTo>
                <a:cubicBezTo>
                  <a:pt x="15276" y="6346"/>
                  <a:pt x="15259" y="6711"/>
                  <a:pt x="15329" y="6548"/>
                </a:cubicBezTo>
              </a:path>
              <a:path w="1861" h="820">
                <a:moveTo>
                  <a:pt x="15577" y="6251"/>
                </a:moveTo>
                <a:cubicBezTo>
                  <a:pt x="15469" y="6294"/>
                  <a:pt x="15279" y="6480"/>
                  <a:pt x="15404" y="6623"/>
                </a:cubicBezTo>
                <a:cubicBezTo>
                  <a:pt x="15538" y="6777"/>
                  <a:pt x="15607" y="6478"/>
                  <a:pt x="15627" y="6424"/>
                </a:cubicBezTo>
                <a:cubicBezTo>
                  <a:pt x="15627" y="6399"/>
                  <a:pt x="15627" y="6375"/>
                  <a:pt x="15627" y="6350"/>
                </a:cubicBezTo>
                <a:cubicBezTo>
                  <a:pt x="15642" y="6410"/>
                  <a:pt x="15718" y="6670"/>
                  <a:pt x="15850" y="6573"/>
                </a:cubicBezTo>
                <a:cubicBezTo>
                  <a:pt x="15875" y="6532"/>
                  <a:pt x="15900" y="6490"/>
                  <a:pt x="15925" y="6449"/>
                </a:cubicBezTo>
              </a:path>
              <a:path w="1861" h="820">
                <a:moveTo>
                  <a:pt x="15925" y="6003"/>
                </a:moveTo>
                <a:cubicBezTo>
                  <a:pt x="15947" y="6081"/>
                  <a:pt x="16056" y="6499"/>
                  <a:pt x="16073" y="6499"/>
                </a:cubicBezTo>
              </a:path>
              <a:path w="1861" h="820">
                <a:moveTo>
                  <a:pt x="15875" y="6176"/>
                </a:moveTo>
                <a:cubicBezTo>
                  <a:pt x="16032" y="6171"/>
                  <a:pt x="16230" y="6125"/>
                  <a:pt x="1637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30960" y="2187720"/>
            <a:ext cx="135000" cy="1425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7785" y="6077"/>
                </a:moveTo>
                <a:cubicBezTo>
                  <a:pt x="17710" y="6092"/>
                  <a:pt x="17587" y="6125"/>
                  <a:pt x="17611" y="6176"/>
                </a:cubicBezTo>
                <a:cubicBezTo>
                  <a:pt x="17724" y="6233"/>
                  <a:pt x="17841" y="6276"/>
                  <a:pt x="17959" y="6325"/>
                </a:cubicBezTo>
                <a:cubicBezTo>
                  <a:pt x="17906" y="6535"/>
                  <a:pt x="17795" y="6477"/>
                  <a:pt x="17611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97800" y="2054160"/>
            <a:ext cx="1017360" cy="411120"/>
          </a:xfrm>
          <a:custGeom>
            <a:avLst/>
            <a:gdLst/>
            <a:ahLst/>
            <a:rect l="l" t="t" r="r" b="b"/>
            <a:pathLst>
              <a:path w="2828" h="1142">
                <a:moveTo>
                  <a:pt x="18604" y="6102"/>
                </a:moveTo>
                <a:cubicBezTo>
                  <a:pt x="18674" y="6102"/>
                  <a:pt x="18966" y="6142"/>
                  <a:pt x="18976" y="6077"/>
                </a:cubicBezTo>
                <a:cubicBezTo>
                  <a:pt x="18976" y="6061"/>
                  <a:pt x="18976" y="6044"/>
                  <a:pt x="18976" y="6028"/>
                </a:cubicBezTo>
                <a:cubicBezTo>
                  <a:pt x="18817" y="5932"/>
                  <a:pt x="18663" y="5945"/>
                  <a:pt x="18678" y="6201"/>
                </a:cubicBezTo>
                <a:cubicBezTo>
                  <a:pt x="18694" y="6466"/>
                  <a:pt x="18927" y="6381"/>
                  <a:pt x="19100" y="6375"/>
                </a:cubicBezTo>
              </a:path>
              <a:path w="2828" h="1142">
                <a:moveTo>
                  <a:pt x="19521" y="5904"/>
                </a:moveTo>
                <a:cubicBezTo>
                  <a:pt x="19386" y="5999"/>
                  <a:pt x="19127" y="6181"/>
                  <a:pt x="19273" y="6375"/>
                </a:cubicBezTo>
                <a:cubicBezTo>
                  <a:pt x="19379" y="6516"/>
                  <a:pt x="19578" y="6187"/>
                  <a:pt x="19621" y="6127"/>
                </a:cubicBezTo>
                <a:cubicBezTo>
                  <a:pt x="19600" y="6336"/>
                  <a:pt x="19548" y="6540"/>
                  <a:pt x="19521" y="6747"/>
                </a:cubicBezTo>
                <a:cubicBezTo>
                  <a:pt x="19521" y="6780"/>
                  <a:pt x="19521" y="6813"/>
                  <a:pt x="19521" y="6846"/>
                </a:cubicBezTo>
                <a:cubicBezTo>
                  <a:pt x="19692" y="6790"/>
                  <a:pt x="19758" y="6583"/>
                  <a:pt x="19621" y="6424"/>
                </a:cubicBezTo>
                <a:cubicBezTo>
                  <a:pt x="19485" y="6356"/>
                  <a:pt x="19446" y="6340"/>
                  <a:pt x="19372" y="6276"/>
                </a:cubicBezTo>
              </a:path>
              <a:path w="2828" h="1142">
                <a:moveTo>
                  <a:pt x="19918" y="5978"/>
                </a:moveTo>
                <a:cubicBezTo>
                  <a:pt x="19918" y="6153"/>
                  <a:pt x="19910" y="6213"/>
                  <a:pt x="19993" y="6350"/>
                </a:cubicBezTo>
                <a:cubicBezTo>
                  <a:pt x="20183" y="6306"/>
                  <a:pt x="20197" y="6229"/>
                  <a:pt x="20241" y="6052"/>
                </a:cubicBezTo>
                <a:cubicBezTo>
                  <a:pt x="20271" y="5932"/>
                  <a:pt x="20279" y="6292"/>
                  <a:pt x="20340" y="6400"/>
                </a:cubicBezTo>
              </a:path>
              <a:path w="2828" h="1142">
                <a:moveTo>
                  <a:pt x="20786" y="6003"/>
                </a:moveTo>
                <a:cubicBezTo>
                  <a:pt x="20590" y="6057"/>
                  <a:pt x="20535" y="6148"/>
                  <a:pt x="20464" y="6325"/>
                </a:cubicBezTo>
                <a:cubicBezTo>
                  <a:pt x="20641" y="6379"/>
                  <a:pt x="20632" y="6306"/>
                  <a:pt x="20737" y="6201"/>
                </a:cubicBezTo>
                <a:cubicBezTo>
                  <a:pt x="20737" y="6209"/>
                  <a:pt x="20737" y="6218"/>
                  <a:pt x="20737" y="6226"/>
                </a:cubicBezTo>
                <a:cubicBezTo>
                  <a:pt x="20753" y="6322"/>
                  <a:pt x="20831" y="6444"/>
                  <a:pt x="20960" y="6375"/>
                </a:cubicBezTo>
                <a:cubicBezTo>
                  <a:pt x="21001" y="6334"/>
                  <a:pt x="21043" y="6292"/>
                  <a:pt x="21084" y="6251"/>
                </a:cubicBezTo>
              </a:path>
              <a:path w="2828" h="1142">
                <a:moveTo>
                  <a:pt x="21183" y="5705"/>
                </a:moveTo>
                <a:cubicBezTo>
                  <a:pt x="21183" y="5895"/>
                  <a:pt x="21184" y="6072"/>
                  <a:pt x="21258" y="6251"/>
                </a:cubicBezTo>
                <a:cubicBezTo>
                  <a:pt x="21297" y="6345"/>
                  <a:pt x="21346" y="6340"/>
                  <a:pt x="21431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47000" y="29829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2076" y="8285"/>
                </a:moveTo>
                <a:cubicBezTo>
                  <a:pt x="22076" y="8293"/>
                  <a:pt x="22076" y="8302"/>
                  <a:pt x="22076" y="8310"/>
                </a:cubicBezTo>
              </a:path>
              <a:path w="1" h="26">
                <a:moveTo>
                  <a:pt x="22076" y="8310"/>
                </a:moveTo>
                <a:lnTo>
                  <a:pt x="22076" y="831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27320" y="2652840"/>
            <a:ext cx="901800" cy="330120"/>
          </a:xfrm>
          <a:custGeom>
            <a:avLst/>
            <a:gdLst/>
            <a:ahLst/>
            <a:rect l="l" t="t" r="r" b="b"/>
            <a:pathLst>
              <a:path w="2506" h="919">
                <a:moveTo>
                  <a:pt x="11212" y="7764"/>
                </a:moveTo>
                <a:cubicBezTo>
                  <a:pt x="11212" y="7647"/>
                  <a:pt x="11178" y="7945"/>
                  <a:pt x="11187" y="8062"/>
                </a:cubicBezTo>
                <a:cubicBezTo>
                  <a:pt x="11207" y="8324"/>
                  <a:pt x="11306" y="8150"/>
                  <a:pt x="11385" y="8037"/>
                </a:cubicBezTo>
                <a:cubicBezTo>
                  <a:pt x="11385" y="8020"/>
                  <a:pt x="11385" y="8004"/>
                  <a:pt x="11385" y="7987"/>
                </a:cubicBezTo>
                <a:cubicBezTo>
                  <a:pt x="11402" y="8104"/>
                  <a:pt x="11479" y="8245"/>
                  <a:pt x="11633" y="8210"/>
                </a:cubicBezTo>
                <a:cubicBezTo>
                  <a:pt x="11908" y="8147"/>
                  <a:pt x="11674" y="7901"/>
                  <a:pt x="11609" y="7813"/>
                </a:cubicBezTo>
                <a:cubicBezTo>
                  <a:pt x="11609" y="7805"/>
                  <a:pt x="11609" y="7797"/>
                  <a:pt x="11609" y="7789"/>
                </a:cubicBezTo>
              </a:path>
              <a:path w="2506" h="919">
                <a:moveTo>
                  <a:pt x="11857" y="7367"/>
                </a:moveTo>
                <a:cubicBezTo>
                  <a:pt x="11895" y="7611"/>
                  <a:pt x="11923" y="7839"/>
                  <a:pt x="11931" y="8086"/>
                </a:cubicBezTo>
                <a:cubicBezTo>
                  <a:pt x="11931" y="8224"/>
                  <a:pt x="11945" y="7860"/>
                  <a:pt x="11981" y="7813"/>
                </a:cubicBezTo>
                <a:cubicBezTo>
                  <a:pt x="12014" y="7797"/>
                  <a:pt x="12047" y="7780"/>
                  <a:pt x="12080" y="7764"/>
                </a:cubicBezTo>
                <a:cubicBezTo>
                  <a:pt x="12295" y="7872"/>
                  <a:pt x="12297" y="7971"/>
                  <a:pt x="12303" y="8210"/>
                </a:cubicBezTo>
                <a:cubicBezTo>
                  <a:pt x="12303" y="8272"/>
                  <a:pt x="12294" y="8306"/>
                  <a:pt x="12328" y="8260"/>
                </a:cubicBezTo>
              </a:path>
              <a:path w="2506" h="919">
                <a:moveTo>
                  <a:pt x="12601" y="7838"/>
                </a:moveTo>
                <a:cubicBezTo>
                  <a:pt x="12426" y="7964"/>
                  <a:pt x="12433" y="8031"/>
                  <a:pt x="12502" y="8235"/>
                </a:cubicBezTo>
                <a:cubicBezTo>
                  <a:pt x="12615" y="8205"/>
                  <a:pt x="12970" y="8106"/>
                  <a:pt x="12750" y="7913"/>
                </a:cubicBezTo>
                <a:cubicBezTo>
                  <a:pt x="12672" y="7894"/>
                  <a:pt x="12655" y="7902"/>
                  <a:pt x="12626" y="7863"/>
                </a:cubicBezTo>
              </a:path>
              <a:path w="2506" h="919">
                <a:moveTo>
                  <a:pt x="12973" y="7417"/>
                </a:moveTo>
                <a:cubicBezTo>
                  <a:pt x="13006" y="7673"/>
                  <a:pt x="13038" y="7928"/>
                  <a:pt x="13047" y="8186"/>
                </a:cubicBezTo>
                <a:cubicBezTo>
                  <a:pt x="13047" y="8214"/>
                  <a:pt x="13050" y="8219"/>
                  <a:pt x="13072" y="8186"/>
                </a:cubicBezTo>
              </a:path>
              <a:path w="2506" h="919">
                <a:moveTo>
                  <a:pt x="13295" y="7938"/>
                </a:moveTo>
                <a:cubicBezTo>
                  <a:pt x="13400" y="7938"/>
                  <a:pt x="13582" y="8000"/>
                  <a:pt x="13543" y="7863"/>
                </a:cubicBezTo>
                <a:cubicBezTo>
                  <a:pt x="13398" y="7754"/>
                  <a:pt x="13361" y="7773"/>
                  <a:pt x="13320" y="7962"/>
                </a:cubicBezTo>
                <a:cubicBezTo>
                  <a:pt x="13284" y="8132"/>
                  <a:pt x="13362" y="8315"/>
                  <a:pt x="13568" y="8235"/>
                </a:cubicBezTo>
                <a:cubicBezTo>
                  <a:pt x="13609" y="8210"/>
                  <a:pt x="13651" y="8186"/>
                  <a:pt x="13692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16680" y="2643120"/>
            <a:ext cx="1223640" cy="349200"/>
          </a:xfrm>
          <a:custGeom>
            <a:avLst/>
            <a:gdLst/>
            <a:ahLst/>
            <a:rect l="l" t="t" r="r" b="b"/>
            <a:pathLst>
              <a:path w="3399" h="969">
                <a:moveTo>
                  <a:pt x="14213" y="7863"/>
                </a:moveTo>
                <a:cubicBezTo>
                  <a:pt x="14213" y="7996"/>
                  <a:pt x="14246" y="8106"/>
                  <a:pt x="14263" y="8235"/>
                </a:cubicBezTo>
                <a:cubicBezTo>
                  <a:pt x="14263" y="8041"/>
                  <a:pt x="14264" y="7972"/>
                  <a:pt x="14387" y="7838"/>
                </a:cubicBezTo>
                <a:cubicBezTo>
                  <a:pt x="14581" y="7887"/>
                  <a:pt x="14625" y="7978"/>
                  <a:pt x="14660" y="8186"/>
                </a:cubicBezTo>
                <a:cubicBezTo>
                  <a:pt x="14660" y="8227"/>
                  <a:pt x="14660" y="8251"/>
                  <a:pt x="14660" y="8210"/>
                </a:cubicBezTo>
              </a:path>
              <a:path w="3399" h="969">
                <a:moveTo>
                  <a:pt x="14784" y="7838"/>
                </a:moveTo>
                <a:cubicBezTo>
                  <a:pt x="14793" y="7908"/>
                  <a:pt x="14811" y="8180"/>
                  <a:pt x="14883" y="8210"/>
                </a:cubicBezTo>
                <a:cubicBezTo>
                  <a:pt x="15021" y="8267"/>
                  <a:pt x="15052" y="8054"/>
                  <a:pt x="15081" y="7987"/>
                </a:cubicBezTo>
                <a:cubicBezTo>
                  <a:pt x="15081" y="7962"/>
                  <a:pt x="15081" y="7938"/>
                  <a:pt x="15081" y="7913"/>
                </a:cubicBezTo>
                <a:cubicBezTo>
                  <a:pt x="15092" y="7993"/>
                  <a:pt x="15113" y="8205"/>
                  <a:pt x="15230" y="8210"/>
                </a:cubicBezTo>
                <a:cubicBezTo>
                  <a:pt x="15364" y="8215"/>
                  <a:pt x="15329" y="7957"/>
                  <a:pt x="15329" y="7888"/>
                </a:cubicBezTo>
                <a:cubicBezTo>
                  <a:pt x="15320" y="7969"/>
                  <a:pt x="15329" y="8195"/>
                  <a:pt x="15329" y="8186"/>
                </a:cubicBezTo>
                <a:cubicBezTo>
                  <a:pt x="15329" y="8105"/>
                  <a:pt x="15303" y="7914"/>
                  <a:pt x="15453" y="7938"/>
                </a:cubicBezTo>
                <a:cubicBezTo>
                  <a:pt x="15588" y="7960"/>
                  <a:pt x="15590" y="8082"/>
                  <a:pt x="15627" y="8186"/>
                </a:cubicBezTo>
                <a:cubicBezTo>
                  <a:pt x="15627" y="8194"/>
                  <a:pt x="15627" y="8202"/>
                  <a:pt x="15627" y="8210"/>
                </a:cubicBezTo>
                <a:cubicBezTo>
                  <a:pt x="15649" y="8016"/>
                  <a:pt x="15678" y="7971"/>
                  <a:pt x="15825" y="7863"/>
                </a:cubicBezTo>
                <a:cubicBezTo>
                  <a:pt x="16009" y="7990"/>
                  <a:pt x="15855" y="8069"/>
                  <a:pt x="15949" y="8235"/>
                </a:cubicBezTo>
                <a:cubicBezTo>
                  <a:pt x="15957" y="8227"/>
                  <a:pt x="15966" y="8218"/>
                  <a:pt x="15974" y="8210"/>
                </a:cubicBezTo>
              </a:path>
              <a:path w="3399" h="969">
                <a:moveTo>
                  <a:pt x="16049" y="7342"/>
                </a:moveTo>
                <a:cubicBezTo>
                  <a:pt x="16095" y="7590"/>
                  <a:pt x="16136" y="7837"/>
                  <a:pt x="16173" y="8086"/>
                </a:cubicBezTo>
                <a:cubicBezTo>
                  <a:pt x="16173" y="8279"/>
                  <a:pt x="16188" y="7935"/>
                  <a:pt x="16222" y="7888"/>
                </a:cubicBezTo>
                <a:cubicBezTo>
                  <a:pt x="16408" y="7636"/>
                  <a:pt x="16697" y="7916"/>
                  <a:pt x="16570" y="8161"/>
                </a:cubicBezTo>
                <a:cubicBezTo>
                  <a:pt x="16463" y="8368"/>
                  <a:pt x="16341" y="8299"/>
                  <a:pt x="16197" y="8235"/>
                </a:cubicBezTo>
              </a:path>
              <a:path w="3399" h="969">
                <a:moveTo>
                  <a:pt x="16818" y="8012"/>
                </a:moveTo>
                <a:cubicBezTo>
                  <a:pt x="16991" y="8004"/>
                  <a:pt x="17118" y="8034"/>
                  <a:pt x="17165" y="7863"/>
                </a:cubicBezTo>
                <a:cubicBezTo>
                  <a:pt x="17039" y="7779"/>
                  <a:pt x="16877" y="7858"/>
                  <a:pt x="16842" y="8037"/>
                </a:cubicBezTo>
                <a:cubicBezTo>
                  <a:pt x="16770" y="8402"/>
                  <a:pt x="17125" y="8209"/>
                  <a:pt x="17239" y="8111"/>
                </a:cubicBezTo>
                <a:cubicBezTo>
                  <a:pt x="17354" y="8013"/>
                  <a:pt x="17314" y="8025"/>
                  <a:pt x="17314" y="8136"/>
                </a:cubicBezTo>
                <a:cubicBezTo>
                  <a:pt x="17338" y="8016"/>
                  <a:pt x="17381" y="7797"/>
                  <a:pt x="17537" y="7764"/>
                </a:cubicBezTo>
                <a:cubicBezTo>
                  <a:pt x="17562" y="7772"/>
                  <a:pt x="17586" y="7781"/>
                  <a:pt x="17611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8160" y="2714760"/>
            <a:ext cx="1955880" cy="554040"/>
          </a:xfrm>
          <a:custGeom>
            <a:avLst/>
            <a:gdLst/>
            <a:ahLst/>
            <a:rect l="l" t="t" r="r" b="b"/>
            <a:pathLst>
              <a:path w="5434" h="1539">
                <a:moveTo>
                  <a:pt x="18479" y="7938"/>
                </a:moveTo>
                <a:cubicBezTo>
                  <a:pt x="18505" y="7872"/>
                  <a:pt x="18477" y="7863"/>
                  <a:pt x="18430" y="7789"/>
                </a:cubicBezTo>
                <a:cubicBezTo>
                  <a:pt x="18164" y="7818"/>
                  <a:pt x="18109" y="7944"/>
                  <a:pt x="18182" y="8186"/>
                </a:cubicBezTo>
                <a:cubicBezTo>
                  <a:pt x="18311" y="8148"/>
                  <a:pt x="18389" y="7859"/>
                  <a:pt x="18430" y="7987"/>
                </a:cubicBezTo>
                <a:cubicBezTo>
                  <a:pt x="18490" y="8175"/>
                  <a:pt x="18591" y="8167"/>
                  <a:pt x="18752" y="8062"/>
                </a:cubicBezTo>
                <a:cubicBezTo>
                  <a:pt x="18877" y="7980"/>
                  <a:pt x="18795" y="8113"/>
                  <a:pt x="18852" y="8111"/>
                </a:cubicBezTo>
                <a:cubicBezTo>
                  <a:pt x="18834" y="8029"/>
                  <a:pt x="18853" y="7747"/>
                  <a:pt x="19025" y="7764"/>
                </a:cubicBezTo>
                <a:cubicBezTo>
                  <a:pt x="19243" y="7786"/>
                  <a:pt x="19215" y="8096"/>
                  <a:pt x="19199" y="8235"/>
                </a:cubicBezTo>
              </a:path>
              <a:path w="5434" h="1539">
                <a:moveTo>
                  <a:pt x="19720" y="7913"/>
                </a:moveTo>
                <a:cubicBezTo>
                  <a:pt x="19513" y="7839"/>
                  <a:pt x="19439" y="7912"/>
                  <a:pt x="19323" y="8086"/>
                </a:cubicBezTo>
                <a:cubicBezTo>
                  <a:pt x="19465" y="8276"/>
                  <a:pt x="19658" y="8300"/>
                  <a:pt x="19769" y="8012"/>
                </a:cubicBezTo>
                <a:cubicBezTo>
                  <a:pt x="19846" y="7812"/>
                  <a:pt x="19825" y="7718"/>
                  <a:pt x="19745" y="7541"/>
                </a:cubicBezTo>
                <a:cubicBezTo>
                  <a:pt x="19761" y="7787"/>
                  <a:pt x="19783" y="7919"/>
                  <a:pt x="19918" y="8111"/>
                </a:cubicBezTo>
              </a:path>
              <a:path w="5434" h="1539">
                <a:moveTo>
                  <a:pt x="21084" y="7888"/>
                </a:moveTo>
                <a:cubicBezTo>
                  <a:pt x="20919" y="7814"/>
                  <a:pt x="20891" y="7984"/>
                  <a:pt x="20861" y="8136"/>
                </a:cubicBezTo>
                <a:cubicBezTo>
                  <a:pt x="20996" y="8150"/>
                  <a:pt x="21044" y="8097"/>
                  <a:pt x="21084" y="7962"/>
                </a:cubicBezTo>
                <a:cubicBezTo>
                  <a:pt x="21142" y="8080"/>
                  <a:pt x="21268" y="8149"/>
                  <a:pt x="21406" y="8086"/>
                </a:cubicBezTo>
                <a:cubicBezTo>
                  <a:pt x="21469" y="8024"/>
                  <a:pt x="21509" y="8006"/>
                  <a:pt x="21431" y="7987"/>
                </a:cubicBezTo>
              </a:path>
              <a:path w="5434" h="1539">
                <a:moveTo>
                  <a:pt x="19794" y="8682"/>
                </a:moveTo>
                <a:cubicBezTo>
                  <a:pt x="19820" y="8503"/>
                  <a:pt x="19762" y="8326"/>
                  <a:pt x="19546" y="8285"/>
                </a:cubicBezTo>
                <a:cubicBezTo>
                  <a:pt x="19279" y="8234"/>
                  <a:pt x="19314" y="8761"/>
                  <a:pt x="19348" y="8905"/>
                </a:cubicBezTo>
                <a:cubicBezTo>
                  <a:pt x="19374" y="9016"/>
                  <a:pt x="19423" y="8993"/>
                  <a:pt x="19372" y="9079"/>
                </a:cubicBezTo>
              </a:path>
              <a:path w="5434" h="1539">
                <a:moveTo>
                  <a:pt x="19100" y="8781"/>
                </a:moveTo>
                <a:cubicBezTo>
                  <a:pt x="19228" y="8793"/>
                  <a:pt x="19661" y="8732"/>
                  <a:pt x="19745" y="8806"/>
                </a:cubicBezTo>
                <a:cubicBezTo>
                  <a:pt x="19772" y="8891"/>
                  <a:pt x="19785" y="8925"/>
                  <a:pt x="19819" y="8979"/>
                </a:cubicBezTo>
                <a:cubicBezTo>
                  <a:pt x="19819" y="9022"/>
                  <a:pt x="19839" y="8842"/>
                  <a:pt x="19869" y="8806"/>
                </a:cubicBezTo>
                <a:cubicBezTo>
                  <a:pt x="20007" y="8641"/>
                  <a:pt x="20089" y="8676"/>
                  <a:pt x="20265" y="8706"/>
                </a:cubicBezTo>
              </a:path>
              <a:path w="5434" h="1539">
                <a:moveTo>
                  <a:pt x="20489" y="8781"/>
                </a:moveTo>
                <a:cubicBezTo>
                  <a:pt x="20364" y="8727"/>
                  <a:pt x="20244" y="8806"/>
                  <a:pt x="20216" y="8954"/>
                </a:cubicBezTo>
                <a:cubicBezTo>
                  <a:pt x="20224" y="8971"/>
                  <a:pt x="20233" y="8987"/>
                  <a:pt x="20241" y="9004"/>
                </a:cubicBezTo>
                <a:cubicBezTo>
                  <a:pt x="20377" y="8970"/>
                  <a:pt x="20398" y="8948"/>
                  <a:pt x="20489" y="8830"/>
                </a:cubicBezTo>
                <a:cubicBezTo>
                  <a:pt x="20516" y="8944"/>
                  <a:pt x="20643" y="8949"/>
                  <a:pt x="20737" y="8979"/>
                </a:cubicBezTo>
              </a:path>
              <a:path w="5434" h="1539">
                <a:moveTo>
                  <a:pt x="21084" y="8706"/>
                </a:moveTo>
                <a:cubicBezTo>
                  <a:pt x="21055" y="8634"/>
                  <a:pt x="21032" y="8640"/>
                  <a:pt x="20960" y="8607"/>
                </a:cubicBezTo>
                <a:cubicBezTo>
                  <a:pt x="20886" y="8719"/>
                  <a:pt x="20765" y="8999"/>
                  <a:pt x="21034" y="9004"/>
                </a:cubicBezTo>
                <a:cubicBezTo>
                  <a:pt x="21292" y="9009"/>
                  <a:pt x="21405" y="8751"/>
                  <a:pt x="21530" y="8582"/>
                </a:cubicBezTo>
              </a:path>
              <a:path w="5434" h="1539">
                <a:moveTo>
                  <a:pt x="21530" y="8359"/>
                </a:moveTo>
                <a:cubicBezTo>
                  <a:pt x="21530" y="8533"/>
                  <a:pt x="21546" y="8709"/>
                  <a:pt x="21580" y="8880"/>
                </a:cubicBezTo>
                <a:cubicBezTo>
                  <a:pt x="21599" y="8937"/>
                  <a:pt x="21608" y="8980"/>
                  <a:pt x="21605" y="8930"/>
                </a:cubicBezTo>
              </a:path>
              <a:path w="5434" h="1539">
                <a:moveTo>
                  <a:pt x="21282" y="8533"/>
                </a:moveTo>
                <a:cubicBezTo>
                  <a:pt x="21441" y="8533"/>
                  <a:pt x="21707" y="8479"/>
                  <a:pt x="21853" y="8558"/>
                </a:cubicBezTo>
                <a:cubicBezTo>
                  <a:pt x="21930" y="8600"/>
                  <a:pt x="21966" y="8756"/>
                  <a:pt x="21977" y="8830"/>
                </a:cubicBezTo>
              </a:path>
              <a:path w="5434" h="1539">
                <a:moveTo>
                  <a:pt x="22547" y="8483"/>
                </a:moveTo>
                <a:cubicBezTo>
                  <a:pt x="22458" y="8506"/>
                  <a:pt x="22378" y="8616"/>
                  <a:pt x="22349" y="8706"/>
                </a:cubicBezTo>
                <a:cubicBezTo>
                  <a:pt x="22349" y="8731"/>
                  <a:pt x="22349" y="8756"/>
                  <a:pt x="22349" y="8781"/>
                </a:cubicBezTo>
                <a:cubicBezTo>
                  <a:pt x="22474" y="8795"/>
                  <a:pt x="22765" y="8816"/>
                  <a:pt x="22771" y="8607"/>
                </a:cubicBezTo>
                <a:cubicBezTo>
                  <a:pt x="22775" y="8475"/>
                  <a:pt x="22618" y="8481"/>
                  <a:pt x="22622" y="8483"/>
                </a:cubicBezTo>
                <a:cubicBezTo>
                  <a:pt x="22663" y="8500"/>
                  <a:pt x="22705" y="8516"/>
                  <a:pt x="22746" y="8533"/>
                </a:cubicBezTo>
              </a:path>
              <a:path w="5434" h="1539">
                <a:moveTo>
                  <a:pt x="22994" y="8731"/>
                </a:moveTo>
                <a:cubicBezTo>
                  <a:pt x="22946" y="8652"/>
                  <a:pt x="22973" y="8505"/>
                  <a:pt x="23044" y="8434"/>
                </a:cubicBezTo>
                <a:cubicBezTo>
                  <a:pt x="23185" y="8293"/>
                  <a:pt x="23415" y="8415"/>
                  <a:pt x="23490" y="8558"/>
                </a:cubicBezTo>
                <a:cubicBezTo>
                  <a:pt x="23519" y="8614"/>
                  <a:pt x="23488" y="8739"/>
                  <a:pt x="23540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5000" y="566100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6127" y="15726"/>
                </a:moveTo>
                <a:cubicBezTo>
                  <a:pt x="6127" y="15734"/>
                  <a:pt x="6127" y="15743"/>
                  <a:pt x="6127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8720" y="5303880"/>
            <a:ext cx="2955600" cy="474480"/>
          </a:xfrm>
          <a:custGeom>
            <a:avLst/>
            <a:gdLst/>
            <a:ahLst/>
            <a:rect l="l" t="t" r="r" b="b"/>
            <a:pathLst>
              <a:path w="8211" h="1316">
                <a:moveTo>
                  <a:pt x="3597" y="14784"/>
                </a:moveTo>
                <a:cubicBezTo>
                  <a:pt x="3429" y="14798"/>
                  <a:pt x="3257" y="14845"/>
                  <a:pt x="3101" y="14908"/>
                </a:cubicBezTo>
                <a:cubicBezTo>
                  <a:pt x="3003" y="14947"/>
                  <a:pt x="3051" y="15172"/>
                  <a:pt x="3051" y="15205"/>
                </a:cubicBezTo>
                <a:cubicBezTo>
                  <a:pt x="3049" y="15312"/>
                  <a:pt x="3051" y="15420"/>
                  <a:pt x="3051" y="15528"/>
                </a:cubicBezTo>
                <a:cubicBezTo>
                  <a:pt x="3227" y="15473"/>
                  <a:pt x="3455" y="15344"/>
                  <a:pt x="3646" y="15404"/>
                </a:cubicBezTo>
                <a:cubicBezTo>
                  <a:pt x="3972" y="15507"/>
                  <a:pt x="3865" y="15931"/>
                  <a:pt x="3597" y="16024"/>
                </a:cubicBezTo>
                <a:cubicBezTo>
                  <a:pt x="3447" y="16076"/>
                  <a:pt x="3160" y="16062"/>
                  <a:pt x="3051" y="15974"/>
                </a:cubicBezTo>
                <a:cubicBezTo>
                  <a:pt x="3009" y="15940"/>
                  <a:pt x="3128" y="15925"/>
                  <a:pt x="3175" y="15900"/>
                </a:cubicBezTo>
              </a:path>
              <a:path w="8211" h="1316">
                <a:moveTo>
                  <a:pt x="4341" y="15304"/>
                </a:moveTo>
                <a:cubicBezTo>
                  <a:pt x="4472" y="15283"/>
                  <a:pt x="4605" y="15250"/>
                  <a:pt x="4738" y="15230"/>
                </a:cubicBezTo>
                <a:cubicBezTo>
                  <a:pt x="4780" y="15230"/>
                  <a:pt x="4782" y="15247"/>
                  <a:pt x="4738" y="15304"/>
                </a:cubicBezTo>
              </a:path>
              <a:path w="8211" h="1316">
                <a:moveTo>
                  <a:pt x="4440" y="15528"/>
                </a:moveTo>
                <a:cubicBezTo>
                  <a:pt x="4592" y="15508"/>
                  <a:pt x="4717" y="15484"/>
                  <a:pt x="4862" y="15503"/>
                </a:cubicBezTo>
              </a:path>
              <a:path w="8211" h="1316">
                <a:moveTo>
                  <a:pt x="5829" y="15106"/>
                </a:moveTo>
                <a:cubicBezTo>
                  <a:pt x="5922" y="14995"/>
                  <a:pt x="5809" y="15110"/>
                  <a:pt x="5730" y="15131"/>
                </a:cubicBezTo>
                <a:cubicBezTo>
                  <a:pt x="5487" y="15195"/>
                  <a:pt x="5548" y="15077"/>
                  <a:pt x="5507" y="15354"/>
                </a:cubicBezTo>
                <a:cubicBezTo>
                  <a:pt x="5488" y="15428"/>
                  <a:pt x="5480" y="15435"/>
                  <a:pt x="5482" y="15478"/>
                </a:cubicBezTo>
                <a:cubicBezTo>
                  <a:pt x="5570" y="15456"/>
                  <a:pt x="5673" y="15386"/>
                  <a:pt x="5779" y="15429"/>
                </a:cubicBezTo>
                <a:cubicBezTo>
                  <a:pt x="6110" y="15562"/>
                  <a:pt x="5901" y="15899"/>
                  <a:pt x="5680" y="15999"/>
                </a:cubicBezTo>
                <a:cubicBezTo>
                  <a:pt x="5552" y="16057"/>
                  <a:pt x="5494" y="16037"/>
                  <a:pt x="5457" y="15949"/>
                </a:cubicBezTo>
              </a:path>
              <a:path w="8211" h="1316">
                <a:moveTo>
                  <a:pt x="6499" y="15106"/>
                </a:moveTo>
                <a:cubicBezTo>
                  <a:pt x="6378" y="15227"/>
                  <a:pt x="6308" y="15490"/>
                  <a:pt x="6350" y="15677"/>
                </a:cubicBezTo>
                <a:cubicBezTo>
                  <a:pt x="6375" y="15718"/>
                  <a:pt x="6399" y="15760"/>
                  <a:pt x="6424" y="15801"/>
                </a:cubicBezTo>
                <a:cubicBezTo>
                  <a:pt x="6700" y="15720"/>
                  <a:pt x="6876" y="15612"/>
                  <a:pt x="6747" y="15280"/>
                </a:cubicBezTo>
                <a:cubicBezTo>
                  <a:pt x="6699" y="15158"/>
                  <a:pt x="6592" y="15106"/>
                  <a:pt x="6474" y="15106"/>
                </a:cubicBezTo>
              </a:path>
              <a:path w="8211" h="1316">
                <a:moveTo>
                  <a:pt x="7218" y="15131"/>
                </a:moveTo>
                <a:cubicBezTo>
                  <a:pt x="7268" y="15107"/>
                  <a:pt x="7558" y="14958"/>
                  <a:pt x="7590" y="14982"/>
                </a:cubicBezTo>
                <a:cubicBezTo>
                  <a:pt x="7590" y="14999"/>
                  <a:pt x="7590" y="15015"/>
                  <a:pt x="7590" y="15032"/>
                </a:cubicBezTo>
              </a:path>
              <a:path w="8211" h="1316">
                <a:moveTo>
                  <a:pt x="7268" y="15453"/>
                </a:moveTo>
                <a:cubicBezTo>
                  <a:pt x="7368" y="15417"/>
                  <a:pt x="7487" y="15370"/>
                  <a:pt x="7590" y="15354"/>
                </a:cubicBezTo>
                <a:cubicBezTo>
                  <a:pt x="7598" y="15354"/>
                  <a:pt x="7607" y="15354"/>
                  <a:pt x="7615" y="15354"/>
                </a:cubicBezTo>
              </a:path>
              <a:path w="8211" h="1316">
                <a:moveTo>
                  <a:pt x="6176" y="15974"/>
                </a:moveTo>
                <a:cubicBezTo>
                  <a:pt x="6177" y="15972"/>
                  <a:pt x="6271" y="15818"/>
                  <a:pt x="6226" y="15850"/>
                </a:cubicBezTo>
                <a:cubicBezTo>
                  <a:pt x="6170" y="15890"/>
                  <a:pt x="6167" y="15925"/>
                  <a:pt x="6226" y="15925"/>
                </a:cubicBezTo>
                <a:cubicBezTo>
                  <a:pt x="6254" y="15843"/>
                  <a:pt x="6266" y="15721"/>
                  <a:pt x="6127" y="15751"/>
                </a:cubicBezTo>
                <a:cubicBezTo>
                  <a:pt x="6099" y="15779"/>
                  <a:pt x="6090" y="15792"/>
                  <a:pt x="6102" y="15825"/>
                </a:cubicBezTo>
                <a:cubicBezTo>
                  <a:pt x="6174" y="15825"/>
                  <a:pt x="6216" y="15793"/>
                  <a:pt x="6176" y="15701"/>
                </a:cubicBezTo>
                <a:cubicBezTo>
                  <a:pt x="6159" y="15663"/>
                  <a:pt x="6006" y="15845"/>
                  <a:pt x="6102" y="15850"/>
                </a:cubicBezTo>
                <a:cubicBezTo>
                  <a:pt x="6165" y="15854"/>
                  <a:pt x="6309" y="15661"/>
                  <a:pt x="6077" y="15875"/>
                </a:cubicBezTo>
              </a:path>
              <a:path w="8211" h="1316">
                <a:moveTo>
                  <a:pt x="8458" y="14932"/>
                </a:moveTo>
                <a:cubicBezTo>
                  <a:pt x="8420" y="14942"/>
                  <a:pt x="8217" y="14980"/>
                  <a:pt x="8186" y="15007"/>
                </a:cubicBezTo>
                <a:cubicBezTo>
                  <a:pt x="8149" y="15040"/>
                  <a:pt x="8121" y="15269"/>
                  <a:pt x="8111" y="15329"/>
                </a:cubicBezTo>
                <a:cubicBezTo>
                  <a:pt x="8111" y="15346"/>
                  <a:pt x="8111" y="15362"/>
                  <a:pt x="8111" y="15379"/>
                </a:cubicBezTo>
                <a:cubicBezTo>
                  <a:pt x="8230" y="15349"/>
                  <a:pt x="8449" y="15253"/>
                  <a:pt x="8558" y="15379"/>
                </a:cubicBezTo>
                <a:cubicBezTo>
                  <a:pt x="8730" y="15578"/>
                  <a:pt x="8230" y="15842"/>
                  <a:pt x="8111" y="15776"/>
                </a:cubicBezTo>
                <a:cubicBezTo>
                  <a:pt x="8111" y="15735"/>
                  <a:pt x="8111" y="15693"/>
                  <a:pt x="8111" y="15652"/>
                </a:cubicBezTo>
              </a:path>
              <a:path w="8211" h="1316">
                <a:moveTo>
                  <a:pt x="8930" y="15007"/>
                </a:moveTo>
                <a:cubicBezTo>
                  <a:pt x="8755" y="15205"/>
                  <a:pt x="8721" y="15362"/>
                  <a:pt x="8731" y="15627"/>
                </a:cubicBezTo>
                <a:cubicBezTo>
                  <a:pt x="8945" y="15663"/>
                  <a:pt x="9156" y="15542"/>
                  <a:pt x="9079" y="15255"/>
                </a:cubicBezTo>
                <a:cubicBezTo>
                  <a:pt x="9025" y="15056"/>
                  <a:pt x="8785" y="15135"/>
                  <a:pt x="8930" y="15081"/>
                </a:cubicBezTo>
              </a:path>
              <a:path w="8211" h="1316">
                <a:moveTo>
                  <a:pt x="9277" y="14957"/>
                </a:moveTo>
                <a:cubicBezTo>
                  <a:pt x="9136" y="15217"/>
                  <a:pt x="9115" y="15353"/>
                  <a:pt x="9277" y="15602"/>
                </a:cubicBezTo>
                <a:cubicBezTo>
                  <a:pt x="9494" y="15539"/>
                  <a:pt x="9791" y="15380"/>
                  <a:pt x="9624" y="15081"/>
                </a:cubicBezTo>
                <a:cubicBezTo>
                  <a:pt x="9499" y="15006"/>
                  <a:pt x="9456" y="14982"/>
                  <a:pt x="9351" y="15007"/>
                </a:cubicBezTo>
              </a:path>
              <a:path w="8211" h="1316">
                <a:moveTo>
                  <a:pt x="9897" y="14833"/>
                </a:moveTo>
                <a:cubicBezTo>
                  <a:pt x="9692" y="14901"/>
                  <a:pt x="9687" y="14998"/>
                  <a:pt x="9798" y="15180"/>
                </a:cubicBezTo>
                <a:cubicBezTo>
                  <a:pt x="10025" y="15049"/>
                  <a:pt x="10071" y="14996"/>
                  <a:pt x="9897" y="14784"/>
                </a:cubicBezTo>
                <a:cubicBezTo>
                  <a:pt x="9889" y="14776"/>
                  <a:pt x="9880" y="14767"/>
                  <a:pt x="9872" y="14759"/>
                </a:cubicBezTo>
                <a:cubicBezTo>
                  <a:pt x="10080" y="14733"/>
                  <a:pt x="10175" y="14761"/>
                  <a:pt x="10220" y="15007"/>
                </a:cubicBezTo>
                <a:cubicBezTo>
                  <a:pt x="10267" y="15262"/>
                  <a:pt x="10153" y="15422"/>
                  <a:pt x="9996" y="15602"/>
                </a:cubicBezTo>
              </a:path>
              <a:path w="8211" h="1316">
                <a:moveTo>
                  <a:pt x="10418" y="15304"/>
                </a:moveTo>
                <a:cubicBezTo>
                  <a:pt x="10332" y="15400"/>
                  <a:pt x="10316" y="15432"/>
                  <a:pt x="10294" y="15553"/>
                </a:cubicBezTo>
                <a:cubicBezTo>
                  <a:pt x="10486" y="15621"/>
                  <a:pt x="10544" y="15570"/>
                  <a:pt x="10592" y="15379"/>
                </a:cubicBezTo>
                <a:cubicBezTo>
                  <a:pt x="10511" y="15331"/>
                  <a:pt x="10443" y="15300"/>
                  <a:pt x="10443" y="15280"/>
                </a:cubicBezTo>
              </a:path>
              <a:path w="8211" h="1316">
                <a:moveTo>
                  <a:pt x="10864" y="15007"/>
                </a:moveTo>
                <a:cubicBezTo>
                  <a:pt x="10975" y="14987"/>
                  <a:pt x="11118" y="14955"/>
                  <a:pt x="11212" y="14982"/>
                </a:cubicBezTo>
              </a:path>
              <a:path w="8211" h="1316">
                <a:moveTo>
                  <a:pt x="10889" y="15304"/>
                </a:moveTo>
                <a:cubicBezTo>
                  <a:pt x="11007" y="15304"/>
                  <a:pt x="11120" y="15286"/>
                  <a:pt x="11237" y="15280"/>
                </a:cubicBezTo>
                <a:cubicBezTo>
                  <a:pt x="11245" y="15280"/>
                  <a:pt x="11253" y="15280"/>
                  <a:pt x="11261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84800" y="5062680"/>
            <a:ext cx="866520" cy="688680"/>
          </a:xfrm>
          <a:custGeom>
            <a:avLst/>
            <a:gdLst/>
            <a:ahLst/>
            <a:rect l="l" t="t" r="r" b="b"/>
            <a:pathLst>
              <a:path w="2407" h="1911">
                <a:moveTo>
                  <a:pt x="12278" y="14585"/>
                </a:moveTo>
                <a:cubicBezTo>
                  <a:pt x="12249" y="14851"/>
                  <a:pt x="12237" y="15112"/>
                  <a:pt x="12204" y="15379"/>
                </a:cubicBezTo>
                <a:cubicBezTo>
                  <a:pt x="12196" y="15441"/>
                  <a:pt x="12097" y="15884"/>
                  <a:pt x="12229" y="15577"/>
                </a:cubicBezTo>
              </a:path>
              <a:path w="2407" h="1911">
                <a:moveTo>
                  <a:pt x="13122" y="14238"/>
                </a:moveTo>
                <a:cubicBezTo>
                  <a:pt x="13103" y="14353"/>
                  <a:pt x="13073" y="14470"/>
                  <a:pt x="13047" y="14585"/>
                </a:cubicBezTo>
                <a:cubicBezTo>
                  <a:pt x="13184" y="14613"/>
                  <a:pt x="13285" y="14540"/>
                  <a:pt x="13419" y="14486"/>
                </a:cubicBezTo>
              </a:path>
              <a:path w="2407" h="1911">
                <a:moveTo>
                  <a:pt x="13395" y="14064"/>
                </a:moveTo>
                <a:cubicBezTo>
                  <a:pt x="13395" y="14323"/>
                  <a:pt x="13383" y="14576"/>
                  <a:pt x="13370" y="14833"/>
                </a:cubicBezTo>
                <a:cubicBezTo>
                  <a:pt x="13370" y="14932"/>
                  <a:pt x="13370" y="14949"/>
                  <a:pt x="13370" y="15007"/>
                </a:cubicBezTo>
              </a:path>
              <a:path w="2407" h="1911">
                <a:moveTo>
                  <a:pt x="12898" y="15180"/>
                </a:moveTo>
                <a:cubicBezTo>
                  <a:pt x="13156" y="15139"/>
                  <a:pt x="13409" y="15076"/>
                  <a:pt x="13667" y="15032"/>
                </a:cubicBezTo>
                <a:cubicBezTo>
                  <a:pt x="13675" y="15032"/>
                  <a:pt x="13684" y="15032"/>
                  <a:pt x="13692" y="15032"/>
                </a:cubicBezTo>
              </a:path>
              <a:path w="2407" h="1911">
                <a:moveTo>
                  <a:pt x="13271" y="15404"/>
                </a:moveTo>
                <a:cubicBezTo>
                  <a:pt x="13271" y="15528"/>
                  <a:pt x="13248" y="15650"/>
                  <a:pt x="13246" y="15776"/>
                </a:cubicBezTo>
                <a:cubicBezTo>
                  <a:pt x="13244" y="15882"/>
                  <a:pt x="13254" y="15892"/>
                  <a:pt x="13271" y="15974"/>
                </a:cubicBezTo>
              </a:path>
              <a:path w="2407" h="1911">
                <a:moveTo>
                  <a:pt x="14139" y="15056"/>
                </a:moveTo>
                <a:cubicBezTo>
                  <a:pt x="14255" y="15006"/>
                  <a:pt x="14452" y="14926"/>
                  <a:pt x="14585" y="14982"/>
                </a:cubicBezTo>
                <a:cubicBezTo>
                  <a:pt x="14585" y="14990"/>
                  <a:pt x="14585" y="14999"/>
                  <a:pt x="14585" y="15007"/>
                </a:cubicBezTo>
              </a:path>
              <a:path w="2407" h="1911">
                <a:moveTo>
                  <a:pt x="14288" y="15180"/>
                </a:moveTo>
                <a:cubicBezTo>
                  <a:pt x="14390" y="15195"/>
                  <a:pt x="14478" y="15186"/>
                  <a:pt x="14585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10160" y="4606920"/>
            <a:ext cx="2106720" cy="1519200"/>
          </a:xfrm>
          <a:custGeom>
            <a:avLst/>
            <a:gdLst/>
            <a:ahLst/>
            <a:rect l="l" t="t" r="r" b="b"/>
            <a:pathLst>
              <a:path w="5855" h="4218">
                <a:moveTo>
                  <a:pt x="19496" y="12948"/>
                </a:moveTo>
                <a:cubicBezTo>
                  <a:pt x="19539" y="12934"/>
                  <a:pt x="19539" y="12904"/>
                  <a:pt x="19621" y="12898"/>
                </a:cubicBezTo>
                <a:cubicBezTo>
                  <a:pt x="19929" y="12877"/>
                  <a:pt x="20256" y="12841"/>
                  <a:pt x="20563" y="12849"/>
                </a:cubicBezTo>
                <a:cubicBezTo>
                  <a:pt x="20665" y="12852"/>
                  <a:pt x="20813" y="12862"/>
                  <a:pt x="20712" y="12849"/>
                </a:cubicBezTo>
                <a:cubicBezTo>
                  <a:pt x="20407" y="12809"/>
                  <a:pt x="20100" y="12824"/>
                  <a:pt x="19794" y="12824"/>
                </a:cubicBezTo>
                <a:cubicBezTo>
                  <a:pt x="19753" y="12824"/>
                  <a:pt x="19711" y="12824"/>
                  <a:pt x="19670" y="12824"/>
                </a:cubicBezTo>
                <a:cubicBezTo>
                  <a:pt x="19976" y="12850"/>
                  <a:pt x="20280" y="12849"/>
                  <a:pt x="20588" y="12849"/>
                </a:cubicBezTo>
                <a:cubicBezTo>
                  <a:pt x="20983" y="12849"/>
                  <a:pt x="20441" y="12873"/>
                  <a:pt x="20389" y="12874"/>
                </a:cubicBezTo>
                <a:cubicBezTo>
                  <a:pt x="20273" y="12876"/>
                  <a:pt x="20025" y="12898"/>
                  <a:pt x="20141" y="12898"/>
                </a:cubicBezTo>
                <a:cubicBezTo>
                  <a:pt x="20299" y="12898"/>
                  <a:pt x="20721" y="12880"/>
                  <a:pt x="20563" y="12874"/>
                </a:cubicBezTo>
                <a:cubicBezTo>
                  <a:pt x="20417" y="12868"/>
                  <a:pt x="19956" y="12904"/>
                  <a:pt x="19993" y="12898"/>
                </a:cubicBezTo>
                <a:cubicBezTo>
                  <a:pt x="20264" y="12851"/>
                  <a:pt x="20535" y="12799"/>
                  <a:pt x="20811" y="12799"/>
                </a:cubicBezTo>
                <a:cubicBezTo>
                  <a:pt x="20776" y="12799"/>
                  <a:pt x="20759" y="12804"/>
                  <a:pt x="20737" y="12824"/>
                </a:cubicBezTo>
              </a:path>
              <a:path w="5855" h="4218">
                <a:moveTo>
                  <a:pt x="16049" y="14188"/>
                </a:moveTo>
                <a:cubicBezTo>
                  <a:pt x="15922" y="14188"/>
                  <a:pt x="15803" y="14207"/>
                  <a:pt x="15677" y="14213"/>
                </a:cubicBezTo>
                <a:cubicBezTo>
                  <a:pt x="15631" y="14215"/>
                  <a:pt x="15580" y="14540"/>
                  <a:pt x="15577" y="14560"/>
                </a:cubicBezTo>
                <a:cubicBezTo>
                  <a:pt x="15577" y="14593"/>
                  <a:pt x="15577" y="14627"/>
                  <a:pt x="15577" y="14660"/>
                </a:cubicBezTo>
                <a:cubicBezTo>
                  <a:pt x="15673" y="14697"/>
                  <a:pt x="15745" y="14546"/>
                  <a:pt x="15875" y="14536"/>
                </a:cubicBezTo>
                <a:cubicBezTo>
                  <a:pt x="16056" y="14521"/>
                  <a:pt x="16225" y="14735"/>
                  <a:pt x="16024" y="14858"/>
                </a:cubicBezTo>
                <a:cubicBezTo>
                  <a:pt x="15921" y="14922"/>
                  <a:pt x="15790" y="14898"/>
                  <a:pt x="15776" y="14883"/>
                </a:cubicBezTo>
              </a:path>
              <a:path w="5855" h="4218">
                <a:moveTo>
                  <a:pt x="15304" y="15230"/>
                </a:moveTo>
                <a:cubicBezTo>
                  <a:pt x="15604" y="15207"/>
                  <a:pt x="15899" y="15142"/>
                  <a:pt x="16197" y="15106"/>
                </a:cubicBezTo>
                <a:cubicBezTo>
                  <a:pt x="16241" y="15101"/>
                  <a:pt x="16298" y="15106"/>
                  <a:pt x="16346" y="15106"/>
                </a:cubicBezTo>
              </a:path>
              <a:path w="5855" h="4218">
                <a:moveTo>
                  <a:pt x="15776" y="15602"/>
                </a:moveTo>
                <a:cubicBezTo>
                  <a:pt x="15820" y="15602"/>
                  <a:pt x="15831" y="15933"/>
                  <a:pt x="15825" y="16024"/>
                </a:cubicBezTo>
                <a:cubicBezTo>
                  <a:pt x="15812" y="16213"/>
                  <a:pt x="15810" y="16148"/>
                  <a:pt x="15875" y="15999"/>
                </a:cubicBezTo>
              </a:path>
              <a:path w="5855" h="4218">
                <a:moveTo>
                  <a:pt x="16743" y="15156"/>
                </a:moveTo>
                <a:cubicBezTo>
                  <a:pt x="16834" y="15145"/>
                  <a:pt x="16925" y="15114"/>
                  <a:pt x="17016" y="15106"/>
                </a:cubicBezTo>
                <a:cubicBezTo>
                  <a:pt x="17024" y="15106"/>
                  <a:pt x="17033" y="15106"/>
                  <a:pt x="17041" y="15106"/>
                </a:cubicBezTo>
              </a:path>
              <a:path w="5855" h="4218">
                <a:moveTo>
                  <a:pt x="16743" y="15354"/>
                </a:moveTo>
                <a:cubicBezTo>
                  <a:pt x="16842" y="15354"/>
                  <a:pt x="16942" y="15354"/>
                  <a:pt x="17041" y="15354"/>
                </a:cubicBezTo>
              </a:path>
              <a:path w="5855" h="4218">
                <a:moveTo>
                  <a:pt x="17686" y="14734"/>
                </a:moveTo>
                <a:cubicBezTo>
                  <a:pt x="17723" y="14890"/>
                  <a:pt x="17724" y="14997"/>
                  <a:pt x="17711" y="15156"/>
                </a:cubicBezTo>
                <a:cubicBezTo>
                  <a:pt x="17894" y="15148"/>
                  <a:pt x="18055" y="15121"/>
                  <a:pt x="18231" y="15081"/>
                </a:cubicBezTo>
              </a:path>
              <a:path w="5855" h="4218">
                <a:moveTo>
                  <a:pt x="18083" y="14635"/>
                </a:moveTo>
                <a:cubicBezTo>
                  <a:pt x="18114" y="14954"/>
                  <a:pt x="18091" y="15287"/>
                  <a:pt x="18132" y="15602"/>
                </a:cubicBezTo>
                <a:cubicBezTo>
                  <a:pt x="18140" y="15619"/>
                  <a:pt x="18149" y="15635"/>
                  <a:pt x="18157" y="15652"/>
                </a:cubicBezTo>
              </a:path>
              <a:path w="5855" h="4218">
                <a:moveTo>
                  <a:pt x="18604" y="14288"/>
                </a:moveTo>
                <a:cubicBezTo>
                  <a:pt x="18554" y="14321"/>
                  <a:pt x="18573" y="14357"/>
                  <a:pt x="18628" y="14387"/>
                </a:cubicBezTo>
                <a:cubicBezTo>
                  <a:pt x="18732" y="14442"/>
                  <a:pt x="18767" y="14456"/>
                  <a:pt x="18802" y="14560"/>
                </a:cubicBezTo>
                <a:cubicBezTo>
                  <a:pt x="18724" y="14613"/>
                  <a:pt x="18695" y="14628"/>
                  <a:pt x="18628" y="14585"/>
                </a:cubicBezTo>
              </a:path>
              <a:path w="5855" h="4218">
                <a:moveTo>
                  <a:pt x="18604" y="14238"/>
                </a:moveTo>
                <a:cubicBezTo>
                  <a:pt x="18721" y="14214"/>
                  <a:pt x="18831" y="14188"/>
                  <a:pt x="18951" y="14188"/>
                </a:cubicBezTo>
                <a:cubicBezTo>
                  <a:pt x="18951" y="14268"/>
                  <a:pt x="18895" y="14596"/>
                  <a:pt x="19100" y="14511"/>
                </a:cubicBezTo>
                <a:cubicBezTo>
                  <a:pt x="19354" y="14405"/>
                  <a:pt x="19161" y="14248"/>
                  <a:pt x="19075" y="14163"/>
                </a:cubicBezTo>
                <a:cubicBezTo>
                  <a:pt x="19067" y="14147"/>
                  <a:pt x="19058" y="14130"/>
                  <a:pt x="19050" y="14114"/>
                </a:cubicBezTo>
              </a:path>
              <a:path w="5855" h="4218">
                <a:moveTo>
                  <a:pt x="19372" y="14089"/>
                </a:moveTo>
                <a:cubicBezTo>
                  <a:pt x="19295" y="14321"/>
                  <a:pt x="19261" y="14297"/>
                  <a:pt x="19447" y="14436"/>
                </a:cubicBezTo>
                <a:cubicBezTo>
                  <a:pt x="19541" y="14392"/>
                  <a:pt x="19795" y="14155"/>
                  <a:pt x="19521" y="14089"/>
                </a:cubicBezTo>
                <a:cubicBezTo>
                  <a:pt x="19480" y="14097"/>
                  <a:pt x="19438" y="14106"/>
                  <a:pt x="19397" y="14114"/>
                </a:cubicBezTo>
              </a:path>
              <a:path w="5855" h="4218">
                <a:moveTo>
                  <a:pt x="18752" y="14858"/>
                </a:moveTo>
                <a:cubicBezTo>
                  <a:pt x="19054" y="14835"/>
                  <a:pt x="19345" y="14754"/>
                  <a:pt x="19645" y="14709"/>
                </a:cubicBezTo>
                <a:cubicBezTo>
                  <a:pt x="19703" y="14709"/>
                  <a:pt x="19712" y="14709"/>
                  <a:pt x="19745" y="14709"/>
                </a:cubicBezTo>
              </a:path>
              <a:path w="5855" h="4218">
                <a:moveTo>
                  <a:pt x="18852" y="15255"/>
                </a:moveTo>
                <a:cubicBezTo>
                  <a:pt x="18812" y="15314"/>
                  <a:pt x="18808" y="15326"/>
                  <a:pt x="18777" y="15354"/>
                </a:cubicBezTo>
                <a:cubicBezTo>
                  <a:pt x="18863" y="15354"/>
                  <a:pt x="18966" y="15314"/>
                  <a:pt x="18976" y="15404"/>
                </a:cubicBezTo>
                <a:cubicBezTo>
                  <a:pt x="19004" y="15641"/>
                  <a:pt x="18767" y="15504"/>
                  <a:pt x="18728" y="15379"/>
                </a:cubicBezTo>
              </a:path>
              <a:path w="5855" h="4218">
                <a:moveTo>
                  <a:pt x="18876" y="15180"/>
                </a:moveTo>
                <a:cubicBezTo>
                  <a:pt x="19000" y="15146"/>
                  <a:pt x="19121" y="15099"/>
                  <a:pt x="19248" y="15081"/>
                </a:cubicBezTo>
                <a:cubicBezTo>
                  <a:pt x="19248" y="15197"/>
                  <a:pt x="19215" y="15301"/>
                  <a:pt x="19224" y="15404"/>
                </a:cubicBezTo>
                <a:cubicBezTo>
                  <a:pt x="19352" y="15339"/>
                  <a:pt x="19443" y="15277"/>
                  <a:pt x="19348" y="15131"/>
                </a:cubicBezTo>
                <a:cubicBezTo>
                  <a:pt x="19331" y="15114"/>
                  <a:pt x="19315" y="15098"/>
                  <a:pt x="19298" y="15081"/>
                </a:cubicBezTo>
              </a:path>
              <a:path w="5855" h="4218">
                <a:moveTo>
                  <a:pt x="19645" y="15007"/>
                </a:moveTo>
                <a:cubicBezTo>
                  <a:pt x="19570" y="15112"/>
                  <a:pt x="19555" y="15148"/>
                  <a:pt x="19546" y="15280"/>
                </a:cubicBezTo>
                <a:cubicBezTo>
                  <a:pt x="19700" y="15303"/>
                  <a:pt x="19809" y="15271"/>
                  <a:pt x="19794" y="15081"/>
                </a:cubicBezTo>
                <a:cubicBezTo>
                  <a:pt x="19786" y="14981"/>
                  <a:pt x="19670" y="15044"/>
                  <a:pt x="19621" y="15056"/>
                </a:cubicBezTo>
              </a:path>
              <a:path w="5855" h="4218">
                <a:moveTo>
                  <a:pt x="18951" y="16272"/>
                </a:moveTo>
                <a:cubicBezTo>
                  <a:pt x="18924" y="16498"/>
                  <a:pt x="18903" y="16720"/>
                  <a:pt x="18852" y="16942"/>
                </a:cubicBezTo>
                <a:cubicBezTo>
                  <a:pt x="18844" y="16967"/>
                  <a:pt x="18835" y="16991"/>
                  <a:pt x="18827" y="17016"/>
                </a:cubicBezTo>
                <a:cubicBezTo>
                  <a:pt x="18834" y="16785"/>
                  <a:pt x="18835" y="16551"/>
                  <a:pt x="18852" y="16321"/>
                </a:cubicBezTo>
                <a:cubicBezTo>
                  <a:pt x="18871" y="16163"/>
                  <a:pt x="18866" y="16135"/>
                  <a:pt x="18901" y="16049"/>
                </a:cubicBezTo>
                <a:cubicBezTo>
                  <a:pt x="19056" y="16246"/>
                  <a:pt x="19140" y="16470"/>
                  <a:pt x="19248" y="16694"/>
                </a:cubicBezTo>
                <a:cubicBezTo>
                  <a:pt x="19250" y="16698"/>
                  <a:pt x="19389" y="16917"/>
                  <a:pt x="19348" y="16917"/>
                </a:cubicBezTo>
                <a:cubicBezTo>
                  <a:pt x="19235" y="16917"/>
                  <a:pt x="18907" y="16629"/>
                  <a:pt x="18752" y="16594"/>
                </a:cubicBezTo>
                <a:cubicBezTo>
                  <a:pt x="18678" y="16586"/>
                  <a:pt x="18603" y="16578"/>
                  <a:pt x="18529" y="16570"/>
                </a:cubicBezTo>
                <a:cubicBezTo>
                  <a:pt x="18479" y="16578"/>
                  <a:pt x="18430" y="16586"/>
                  <a:pt x="18380" y="16594"/>
                </a:cubicBezTo>
                <a:cubicBezTo>
                  <a:pt x="18735" y="16594"/>
                  <a:pt x="19070" y="16513"/>
                  <a:pt x="19372" y="16297"/>
                </a:cubicBezTo>
                <a:cubicBezTo>
                  <a:pt x="19554" y="16166"/>
                  <a:pt x="19141" y="16576"/>
                  <a:pt x="19100" y="16669"/>
                </a:cubicBezTo>
                <a:cubicBezTo>
                  <a:pt x="19033" y="16821"/>
                  <a:pt x="19013" y="16894"/>
                  <a:pt x="19124" y="16942"/>
                </a:cubicBezTo>
              </a:path>
              <a:path w="5855" h="4218">
                <a:moveTo>
                  <a:pt x="18331" y="13122"/>
                </a:moveTo>
                <a:cubicBezTo>
                  <a:pt x="18349" y="13353"/>
                  <a:pt x="18350" y="13562"/>
                  <a:pt x="18331" y="13791"/>
                </a:cubicBezTo>
                <a:cubicBezTo>
                  <a:pt x="18304" y="13557"/>
                  <a:pt x="18252" y="13308"/>
                  <a:pt x="18256" y="13072"/>
                </a:cubicBezTo>
                <a:cubicBezTo>
                  <a:pt x="18274" y="12981"/>
                  <a:pt x="18283" y="12974"/>
                  <a:pt x="18281" y="12923"/>
                </a:cubicBezTo>
                <a:cubicBezTo>
                  <a:pt x="18378" y="13126"/>
                  <a:pt x="18468" y="13313"/>
                  <a:pt x="18604" y="13494"/>
                </a:cubicBezTo>
                <a:cubicBezTo>
                  <a:pt x="18727" y="13657"/>
                  <a:pt x="18279" y="13454"/>
                  <a:pt x="18083" y="13395"/>
                </a:cubicBezTo>
                <a:cubicBezTo>
                  <a:pt x="17893" y="13353"/>
                  <a:pt x="17854" y="13336"/>
                  <a:pt x="17735" y="13345"/>
                </a:cubicBezTo>
                <a:cubicBezTo>
                  <a:pt x="17977" y="13411"/>
                  <a:pt x="18174" y="13427"/>
                  <a:pt x="18455" y="13295"/>
                </a:cubicBezTo>
                <a:cubicBezTo>
                  <a:pt x="18488" y="13279"/>
                  <a:pt x="18902" y="12967"/>
                  <a:pt x="18579" y="13221"/>
                </a:cubicBezTo>
                <a:cubicBezTo>
                  <a:pt x="18375" y="13510"/>
                  <a:pt x="18292" y="13575"/>
                  <a:pt x="18281" y="13915"/>
                </a:cubicBezTo>
              </a:path>
              <a:path w="5855" h="4218">
                <a:moveTo>
                  <a:pt x="20563" y="15032"/>
                </a:moveTo>
                <a:cubicBezTo>
                  <a:pt x="20587" y="14792"/>
                  <a:pt x="20614" y="14553"/>
                  <a:pt x="20638" y="14312"/>
                </a:cubicBezTo>
                <a:cubicBezTo>
                  <a:pt x="20655" y="14152"/>
                  <a:pt x="20619" y="14122"/>
                  <a:pt x="20687" y="14064"/>
                </a:cubicBezTo>
                <a:cubicBezTo>
                  <a:pt x="20774" y="14359"/>
                  <a:pt x="20882" y="14658"/>
                  <a:pt x="20960" y="14957"/>
                </a:cubicBezTo>
                <a:cubicBezTo>
                  <a:pt x="20979" y="15073"/>
                  <a:pt x="20988" y="15089"/>
                  <a:pt x="20985" y="15156"/>
                </a:cubicBezTo>
                <a:cubicBezTo>
                  <a:pt x="20880" y="14965"/>
                  <a:pt x="20801" y="14798"/>
                  <a:pt x="20588" y="14684"/>
                </a:cubicBezTo>
                <a:cubicBezTo>
                  <a:pt x="20372" y="14620"/>
                  <a:pt x="20322" y="14606"/>
                  <a:pt x="20191" y="14560"/>
                </a:cubicBezTo>
                <a:cubicBezTo>
                  <a:pt x="20460" y="14585"/>
                  <a:pt x="20666" y="14590"/>
                  <a:pt x="20935" y="14511"/>
                </a:cubicBezTo>
                <a:cubicBezTo>
                  <a:pt x="20993" y="14486"/>
                  <a:pt x="21051" y="14461"/>
                  <a:pt x="21109" y="14436"/>
                </a:cubicBezTo>
                <a:cubicBezTo>
                  <a:pt x="21253" y="14256"/>
                  <a:pt x="20900" y="14673"/>
                  <a:pt x="20762" y="14858"/>
                </a:cubicBezTo>
                <a:cubicBezTo>
                  <a:pt x="20625" y="15034"/>
                  <a:pt x="20552" y="15049"/>
                  <a:pt x="20613" y="15180"/>
                </a:cubicBezTo>
              </a:path>
              <a:path w="5855" h="4218">
                <a:moveTo>
                  <a:pt x="16694" y="14883"/>
                </a:moveTo>
                <a:cubicBezTo>
                  <a:pt x="16732" y="14642"/>
                  <a:pt x="16765" y="14405"/>
                  <a:pt x="16793" y="14163"/>
                </a:cubicBezTo>
                <a:cubicBezTo>
                  <a:pt x="16811" y="14023"/>
                  <a:pt x="16819" y="14015"/>
                  <a:pt x="16818" y="13940"/>
                </a:cubicBezTo>
                <a:cubicBezTo>
                  <a:pt x="16934" y="14225"/>
                  <a:pt x="17062" y="14500"/>
                  <a:pt x="17115" y="14808"/>
                </a:cubicBezTo>
                <a:cubicBezTo>
                  <a:pt x="17115" y="14841"/>
                  <a:pt x="17115" y="14875"/>
                  <a:pt x="17115" y="14908"/>
                </a:cubicBezTo>
                <a:cubicBezTo>
                  <a:pt x="17019" y="14793"/>
                  <a:pt x="16891" y="14599"/>
                  <a:pt x="16768" y="14486"/>
                </a:cubicBezTo>
                <a:cubicBezTo>
                  <a:pt x="16754" y="14473"/>
                  <a:pt x="16455" y="14304"/>
                  <a:pt x="16495" y="14312"/>
                </a:cubicBezTo>
                <a:cubicBezTo>
                  <a:pt x="16785" y="14367"/>
                  <a:pt x="17037" y="14215"/>
                  <a:pt x="17289" y="14089"/>
                </a:cubicBezTo>
                <a:cubicBezTo>
                  <a:pt x="17289" y="14081"/>
                  <a:pt x="17289" y="14072"/>
                  <a:pt x="17289" y="14064"/>
                </a:cubicBezTo>
                <a:cubicBezTo>
                  <a:pt x="17096" y="14316"/>
                  <a:pt x="16845" y="14559"/>
                  <a:pt x="16793" y="14883"/>
                </a:cubicBezTo>
                <a:cubicBezTo>
                  <a:pt x="16801" y="14916"/>
                  <a:pt x="16810" y="14949"/>
                  <a:pt x="16818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7840" y="0"/>
            <a:ext cx="850896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tudents will accurately add and subtract fractions and mixed numb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before you attack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. Rewrite the fractions using the LC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ar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/- fraction parts and whole number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name if need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43000" y="3333600"/>
                <a:ext cx="10666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287440" y="441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33920" y="33526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781680" y="3230640"/>
                <a:ext cx="8384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74800" y="2938320"/>
            <a:ext cx="322200" cy="303480"/>
          </a:xfrm>
          <a:custGeom>
            <a:avLst/>
            <a:gdLst/>
            <a:ahLst/>
            <a:rect l="l" t="t" r="r" b="b"/>
            <a:pathLst>
              <a:path w="894" h="844">
                <a:moveTo>
                  <a:pt x="2828" y="8483"/>
                </a:moveTo>
                <a:cubicBezTo>
                  <a:pt x="2820" y="8608"/>
                  <a:pt x="2803" y="8729"/>
                  <a:pt x="2803" y="8855"/>
                </a:cubicBezTo>
              </a:path>
              <a:path w="894" h="844">
                <a:moveTo>
                  <a:pt x="2505" y="8756"/>
                </a:moveTo>
                <a:cubicBezTo>
                  <a:pt x="2577" y="8891"/>
                  <a:pt x="2588" y="8929"/>
                  <a:pt x="2753" y="8979"/>
                </a:cubicBezTo>
                <a:cubicBezTo>
                  <a:pt x="2920" y="9030"/>
                  <a:pt x="3170" y="8951"/>
                  <a:pt x="3274" y="8806"/>
                </a:cubicBezTo>
                <a:cubicBezTo>
                  <a:pt x="3392" y="8642"/>
                  <a:pt x="3326" y="8380"/>
                  <a:pt x="3175" y="8260"/>
                </a:cubicBezTo>
                <a:cubicBezTo>
                  <a:pt x="3017" y="8135"/>
                  <a:pt x="2754" y="8123"/>
                  <a:pt x="2580" y="8210"/>
                </a:cubicBezTo>
                <a:cubicBezTo>
                  <a:pt x="2371" y="8314"/>
                  <a:pt x="2381" y="8701"/>
                  <a:pt x="2480" y="8880"/>
                </a:cubicBezTo>
                <a:cubicBezTo>
                  <a:pt x="2558" y="8932"/>
                  <a:pt x="2587" y="8950"/>
                  <a:pt x="2654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45040" y="1839960"/>
            <a:ext cx="590760" cy="249120"/>
          </a:xfrm>
          <a:custGeom>
            <a:avLst/>
            <a:gdLst/>
            <a:ahLst/>
            <a:rect l="l" t="t" r="r" b="b"/>
            <a:pathLst>
              <a:path w="1638" h="695">
                <a:moveTo>
                  <a:pt x="14238" y="5159"/>
                </a:moveTo>
                <a:cubicBezTo>
                  <a:pt x="14204" y="5201"/>
                  <a:pt x="14211" y="5232"/>
                  <a:pt x="14188" y="5209"/>
                </a:cubicBezTo>
                <a:cubicBezTo>
                  <a:pt x="14301" y="5097"/>
                  <a:pt x="14460" y="5020"/>
                  <a:pt x="14536" y="5259"/>
                </a:cubicBezTo>
                <a:cubicBezTo>
                  <a:pt x="14638" y="5581"/>
                  <a:pt x="14342" y="5859"/>
                  <a:pt x="14039" y="5779"/>
                </a:cubicBezTo>
                <a:cubicBezTo>
                  <a:pt x="14031" y="5763"/>
                  <a:pt x="14023" y="5746"/>
                  <a:pt x="14015" y="5730"/>
                </a:cubicBezTo>
                <a:cubicBezTo>
                  <a:pt x="14185" y="5531"/>
                  <a:pt x="14305" y="5566"/>
                  <a:pt x="14511" y="5730"/>
                </a:cubicBezTo>
                <a:cubicBezTo>
                  <a:pt x="14527" y="5746"/>
                  <a:pt x="14544" y="5763"/>
                  <a:pt x="14560" y="5779"/>
                </a:cubicBezTo>
              </a:path>
              <a:path w="1638" h="695">
                <a:moveTo>
                  <a:pt x="15106" y="5135"/>
                </a:moveTo>
                <a:cubicBezTo>
                  <a:pt x="14909" y="5107"/>
                  <a:pt x="14829" y="5159"/>
                  <a:pt x="14709" y="5308"/>
                </a:cubicBezTo>
                <a:cubicBezTo>
                  <a:pt x="14799" y="5386"/>
                  <a:pt x="15124" y="5566"/>
                  <a:pt x="14982" y="5730"/>
                </a:cubicBezTo>
                <a:cubicBezTo>
                  <a:pt x="14949" y="5738"/>
                  <a:pt x="14916" y="5747"/>
                  <a:pt x="14883" y="5755"/>
                </a:cubicBezTo>
                <a:cubicBezTo>
                  <a:pt x="14794" y="5527"/>
                  <a:pt x="14919" y="5446"/>
                  <a:pt x="15007" y="5209"/>
                </a:cubicBezTo>
                <a:cubicBezTo>
                  <a:pt x="15007" y="5201"/>
                  <a:pt x="15007" y="5192"/>
                  <a:pt x="15007" y="5184"/>
                </a:cubicBezTo>
              </a:path>
              <a:path w="1638" h="695">
                <a:moveTo>
                  <a:pt x="15478" y="5283"/>
                </a:moveTo>
                <a:cubicBezTo>
                  <a:pt x="15478" y="5391"/>
                  <a:pt x="15478" y="5498"/>
                  <a:pt x="15478" y="5606"/>
                </a:cubicBezTo>
              </a:path>
              <a:path w="1638" h="695">
                <a:moveTo>
                  <a:pt x="15304" y="5457"/>
                </a:moveTo>
                <a:cubicBezTo>
                  <a:pt x="15408" y="5439"/>
                  <a:pt x="15590" y="5407"/>
                  <a:pt x="15652" y="5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3920" y="1820880"/>
            <a:ext cx="403200" cy="21600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16346" y="5060"/>
                </a:moveTo>
                <a:cubicBezTo>
                  <a:pt x="16302" y="5069"/>
                  <a:pt x="16153" y="5069"/>
                  <a:pt x="16148" y="5110"/>
                </a:cubicBezTo>
                <a:cubicBezTo>
                  <a:pt x="16140" y="5178"/>
                  <a:pt x="16123" y="5239"/>
                  <a:pt x="16123" y="5308"/>
                </a:cubicBezTo>
                <a:cubicBezTo>
                  <a:pt x="16253" y="5308"/>
                  <a:pt x="16433" y="5272"/>
                  <a:pt x="16545" y="5358"/>
                </a:cubicBezTo>
                <a:cubicBezTo>
                  <a:pt x="16721" y="5493"/>
                  <a:pt x="16383" y="5670"/>
                  <a:pt x="16272" y="5655"/>
                </a:cubicBezTo>
                <a:cubicBezTo>
                  <a:pt x="16230" y="5614"/>
                  <a:pt x="16205" y="5606"/>
                  <a:pt x="16247" y="5581"/>
                </a:cubicBezTo>
              </a:path>
              <a:path w="1117" h="596">
                <a:moveTo>
                  <a:pt x="16867" y="5110"/>
                </a:moveTo>
                <a:cubicBezTo>
                  <a:pt x="16905" y="5099"/>
                  <a:pt x="17087" y="4993"/>
                  <a:pt x="17115" y="5085"/>
                </a:cubicBezTo>
                <a:cubicBezTo>
                  <a:pt x="17115" y="5174"/>
                  <a:pt x="17122" y="5200"/>
                  <a:pt x="17066" y="5234"/>
                </a:cubicBezTo>
                <a:cubicBezTo>
                  <a:pt x="17058" y="5234"/>
                  <a:pt x="17049" y="5234"/>
                  <a:pt x="17041" y="5234"/>
                </a:cubicBezTo>
                <a:cubicBezTo>
                  <a:pt x="17155" y="5234"/>
                  <a:pt x="17262" y="5327"/>
                  <a:pt x="17239" y="5457"/>
                </a:cubicBezTo>
                <a:cubicBezTo>
                  <a:pt x="17212" y="5605"/>
                  <a:pt x="17125" y="5595"/>
                  <a:pt x="17016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07080" y="1133640"/>
            <a:ext cx="723960" cy="1268280"/>
          </a:xfrm>
          <a:custGeom>
            <a:avLst/>
            <a:gdLst/>
            <a:ahLst/>
            <a:rect l="l" t="t" r="r" b="b"/>
            <a:pathLst>
              <a:path w="2011" h="3523">
                <a:moveTo>
                  <a:pt x="19224" y="4366"/>
                </a:moveTo>
                <a:cubicBezTo>
                  <a:pt x="19288" y="4279"/>
                  <a:pt x="19316" y="4277"/>
                  <a:pt x="19422" y="4242"/>
                </a:cubicBezTo>
                <a:cubicBezTo>
                  <a:pt x="19569" y="4439"/>
                  <a:pt x="19532" y="4643"/>
                  <a:pt x="19298" y="4812"/>
                </a:cubicBezTo>
                <a:cubicBezTo>
                  <a:pt x="19206" y="4835"/>
                  <a:pt x="19181" y="4846"/>
                  <a:pt x="19124" y="4812"/>
                </a:cubicBezTo>
                <a:cubicBezTo>
                  <a:pt x="19139" y="4647"/>
                  <a:pt x="19317" y="4599"/>
                  <a:pt x="19472" y="4688"/>
                </a:cubicBezTo>
                <a:cubicBezTo>
                  <a:pt x="19557" y="4794"/>
                  <a:pt x="19577" y="4816"/>
                  <a:pt x="19621" y="4887"/>
                </a:cubicBezTo>
              </a:path>
              <a:path w="2011" h="3523">
                <a:moveTo>
                  <a:pt x="19968" y="4192"/>
                </a:moveTo>
                <a:cubicBezTo>
                  <a:pt x="19821" y="4231"/>
                  <a:pt x="19795" y="4222"/>
                  <a:pt x="19720" y="4341"/>
                </a:cubicBezTo>
                <a:cubicBezTo>
                  <a:pt x="19797" y="4446"/>
                  <a:pt x="20060" y="4576"/>
                  <a:pt x="19993" y="4738"/>
                </a:cubicBezTo>
                <a:cubicBezTo>
                  <a:pt x="19896" y="4834"/>
                  <a:pt x="19868" y="4868"/>
                  <a:pt x="19769" y="4812"/>
                </a:cubicBezTo>
                <a:cubicBezTo>
                  <a:pt x="19779" y="4598"/>
                  <a:pt x="19851" y="4500"/>
                  <a:pt x="19968" y="4316"/>
                </a:cubicBezTo>
              </a:path>
              <a:path w="2011" h="3523">
                <a:moveTo>
                  <a:pt x="19397" y="5110"/>
                </a:moveTo>
                <a:cubicBezTo>
                  <a:pt x="19354" y="5136"/>
                  <a:pt x="19251" y="5111"/>
                  <a:pt x="19224" y="5135"/>
                </a:cubicBezTo>
                <a:cubicBezTo>
                  <a:pt x="19180" y="5174"/>
                  <a:pt x="19162" y="5281"/>
                  <a:pt x="19149" y="5333"/>
                </a:cubicBezTo>
                <a:cubicBezTo>
                  <a:pt x="19262" y="5322"/>
                  <a:pt x="19404" y="5256"/>
                  <a:pt x="19496" y="5358"/>
                </a:cubicBezTo>
                <a:cubicBezTo>
                  <a:pt x="19611" y="5485"/>
                  <a:pt x="19321" y="5697"/>
                  <a:pt x="19224" y="5606"/>
                </a:cubicBezTo>
                <a:cubicBezTo>
                  <a:pt x="19224" y="5573"/>
                  <a:pt x="19224" y="5540"/>
                  <a:pt x="19224" y="5507"/>
                </a:cubicBezTo>
              </a:path>
              <a:path w="2011" h="3523">
                <a:moveTo>
                  <a:pt x="19695" y="5135"/>
                </a:moveTo>
                <a:cubicBezTo>
                  <a:pt x="19727" y="5119"/>
                  <a:pt x="19961" y="4978"/>
                  <a:pt x="19968" y="5060"/>
                </a:cubicBezTo>
                <a:cubicBezTo>
                  <a:pt x="19976" y="5150"/>
                  <a:pt x="19923" y="5212"/>
                  <a:pt x="19869" y="5259"/>
                </a:cubicBezTo>
                <a:cubicBezTo>
                  <a:pt x="19799" y="5224"/>
                  <a:pt x="19974" y="5196"/>
                  <a:pt x="20042" y="5234"/>
                </a:cubicBezTo>
                <a:cubicBezTo>
                  <a:pt x="20231" y="5338"/>
                  <a:pt x="19953" y="5567"/>
                  <a:pt x="19844" y="5581"/>
                </a:cubicBezTo>
                <a:cubicBezTo>
                  <a:pt x="19762" y="5560"/>
                  <a:pt x="19729" y="5570"/>
                  <a:pt x="19745" y="5507"/>
                </a:cubicBezTo>
              </a:path>
              <a:path w="2011" h="3523">
                <a:moveTo>
                  <a:pt x="18355" y="6077"/>
                </a:moveTo>
                <a:cubicBezTo>
                  <a:pt x="18693" y="5947"/>
                  <a:pt x="19085" y="5962"/>
                  <a:pt x="19447" y="5928"/>
                </a:cubicBezTo>
                <a:cubicBezTo>
                  <a:pt x="19688" y="5905"/>
                  <a:pt x="20133" y="5796"/>
                  <a:pt x="20365" y="5854"/>
                </a:cubicBezTo>
              </a:path>
              <a:path w="2011" h="3523">
                <a:moveTo>
                  <a:pt x="19596" y="5854"/>
                </a:moveTo>
                <a:cubicBezTo>
                  <a:pt x="19596" y="5801"/>
                  <a:pt x="19574" y="5722"/>
                  <a:pt x="19571" y="5705"/>
                </a:cubicBezTo>
                <a:cubicBezTo>
                  <a:pt x="19555" y="5610"/>
                  <a:pt x="19583" y="5512"/>
                  <a:pt x="19596" y="5432"/>
                </a:cubicBezTo>
                <a:cubicBezTo>
                  <a:pt x="19614" y="5327"/>
                  <a:pt x="19604" y="5213"/>
                  <a:pt x="19621" y="5110"/>
                </a:cubicBezTo>
                <a:cubicBezTo>
                  <a:pt x="19634" y="5033"/>
                  <a:pt x="19638" y="4908"/>
                  <a:pt x="19645" y="4862"/>
                </a:cubicBezTo>
                <a:cubicBezTo>
                  <a:pt x="19674" y="4684"/>
                  <a:pt x="19642" y="4430"/>
                  <a:pt x="19621" y="4291"/>
                </a:cubicBezTo>
                <a:cubicBezTo>
                  <a:pt x="19614" y="4243"/>
                  <a:pt x="19598" y="4134"/>
                  <a:pt x="19596" y="4118"/>
                </a:cubicBezTo>
                <a:cubicBezTo>
                  <a:pt x="19582" y="4027"/>
                  <a:pt x="19586" y="3933"/>
                  <a:pt x="19571" y="3845"/>
                </a:cubicBezTo>
                <a:cubicBezTo>
                  <a:pt x="19561" y="3785"/>
                  <a:pt x="19549" y="3791"/>
                  <a:pt x="19546" y="3721"/>
                </a:cubicBezTo>
                <a:cubicBezTo>
                  <a:pt x="19543" y="3653"/>
                  <a:pt x="19542" y="3585"/>
                  <a:pt x="19521" y="3522"/>
                </a:cubicBezTo>
                <a:cubicBezTo>
                  <a:pt x="19506" y="3477"/>
                  <a:pt x="19509" y="3440"/>
                  <a:pt x="19496" y="3398"/>
                </a:cubicBezTo>
                <a:cubicBezTo>
                  <a:pt x="19484" y="3358"/>
                  <a:pt x="19449" y="3259"/>
                  <a:pt x="19447" y="3249"/>
                </a:cubicBezTo>
                <a:cubicBezTo>
                  <a:pt x="19447" y="3241"/>
                  <a:pt x="19447" y="3233"/>
                  <a:pt x="19447" y="3225"/>
                </a:cubicBezTo>
                <a:cubicBezTo>
                  <a:pt x="19464" y="3181"/>
                  <a:pt x="19428" y="3194"/>
                  <a:pt x="19447" y="3150"/>
                </a:cubicBezTo>
                <a:cubicBezTo>
                  <a:pt x="19455" y="3150"/>
                  <a:pt x="19464" y="3150"/>
                  <a:pt x="19472" y="3150"/>
                </a:cubicBezTo>
              </a:path>
              <a:path w="2011" h="3523">
                <a:moveTo>
                  <a:pt x="19918" y="6176"/>
                </a:moveTo>
                <a:cubicBezTo>
                  <a:pt x="19918" y="6105"/>
                  <a:pt x="19918" y="6299"/>
                  <a:pt x="19918" y="6300"/>
                </a:cubicBezTo>
                <a:cubicBezTo>
                  <a:pt x="19934" y="6381"/>
                  <a:pt x="19955" y="6478"/>
                  <a:pt x="19968" y="6548"/>
                </a:cubicBezTo>
                <a:cubicBezTo>
                  <a:pt x="19975" y="6586"/>
                  <a:pt x="19968" y="6633"/>
                  <a:pt x="19968" y="6672"/>
                </a:cubicBezTo>
              </a:path>
              <a:path w="2011" h="3523">
                <a:moveTo>
                  <a:pt x="19397" y="5705"/>
                </a:moveTo>
                <a:cubicBezTo>
                  <a:pt x="19411" y="5648"/>
                  <a:pt x="19445" y="5632"/>
                  <a:pt x="19496" y="5581"/>
                </a:cubicBezTo>
              </a:path>
              <a:path w="2011" h="3523">
                <a:moveTo>
                  <a:pt x="19050" y="3547"/>
                </a:moveTo>
                <a:cubicBezTo>
                  <a:pt x="19058" y="3597"/>
                  <a:pt x="19075" y="3747"/>
                  <a:pt x="19075" y="3696"/>
                </a:cubicBezTo>
                <a:cubicBezTo>
                  <a:pt x="19075" y="3688"/>
                  <a:pt x="19075" y="3679"/>
                  <a:pt x="19075" y="3671"/>
                </a:cubicBezTo>
              </a:path>
              <a:path w="2011" h="3523">
                <a:moveTo>
                  <a:pt x="19100" y="3597"/>
                </a:moveTo>
                <a:cubicBezTo>
                  <a:pt x="19174" y="3622"/>
                  <a:pt x="19138" y="3800"/>
                  <a:pt x="19149" y="3870"/>
                </a:cubicBezTo>
                <a:cubicBezTo>
                  <a:pt x="19157" y="3903"/>
                  <a:pt x="19166" y="3936"/>
                  <a:pt x="19174" y="3969"/>
                </a:cubicBezTo>
                <a:cubicBezTo>
                  <a:pt x="19192" y="4076"/>
                  <a:pt x="19180" y="3990"/>
                  <a:pt x="19174" y="3944"/>
                </a:cubicBezTo>
                <a:cubicBezTo>
                  <a:pt x="19158" y="3826"/>
                  <a:pt x="19176" y="3685"/>
                  <a:pt x="19149" y="3572"/>
                </a:cubicBezTo>
                <a:cubicBezTo>
                  <a:pt x="19134" y="3508"/>
                  <a:pt x="19098" y="3479"/>
                  <a:pt x="19149" y="3547"/>
                </a:cubicBezTo>
                <a:cubicBezTo>
                  <a:pt x="19156" y="3716"/>
                  <a:pt x="19191" y="3875"/>
                  <a:pt x="19199" y="4043"/>
                </a:cubicBezTo>
                <a:cubicBezTo>
                  <a:pt x="19199" y="4051"/>
                  <a:pt x="19199" y="4060"/>
                  <a:pt x="19199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9160" y="4749840"/>
            <a:ext cx="133560" cy="938160"/>
          </a:xfrm>
          <a:custGeom>
            <a:avLst/>
            <a:gdLst/>
            <a:ahLst/>
            <a:rect l="l" t="t" r="r" b="b"/>
            <a:pathLst>
              <a:path w="373" h="2606">
                <a:moveTo>
                  <a:pt x="21580" y="13196"/>
                </a:moveTo>
                <a:lnTo>
                  <a:pt x="21580" y="13196"/>
                </a:lnTo>
              </a:path>
              <a:path w="373" h="2606">
                <a:moveTo>
                  <a:pt x="21952" y="15776"/>
                </a:moveTo>
                <a:lnTo>
                  <a:pt x="21952" y="15776"/>
                </a:lnTo>
              </a:path>
              <a:path w="373" h="2606">
                <a:moveTo>
                  <a:pt x="21927" y="15776"/>
                </a:moveTo>
                <a:lnTo>
                  <a:pt x="21927" y="15776"/>
                </a:lnTo>
              </a:path>
              <a:path w="373" h="2606">
                <a:moveTo>
                  <a:pt x="21927" y="15801"/>
                </a:moveTo>
                <a:lnTo>
                  <a:pt x="21927" y="1580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02280" y="2224080"/>
            <a:ext cx="108000" cy="204840"/>
          </a:xfrm>
          <a:custGeom>
            <a:avLst/>
            <a:gdLst/>
            <a:ahLst/>
            <a:rect l="l" t="t" r="r" b="b"/>
            <a:pathLst>
              <a:path w="299" h="572">
                <a:moveTo>
                  <a:pt x="19422" y="6226"/>
                </a:moveTo>
                <a:cubicBezTo>
                  <a:pt x="19402" y="6148"/>
                  <a:pt x="19312" y="6163"/>
                  <a:pt x="19248" y="6201"/>
                </a:cubicBezTo>
                <a:cubicBezTo>
                  <a:pt x="19136" y="6268"/>
                  <a:pt x="19148" y="6432"/>
                  <a:pt x="19248" y="6499"/>
                </a:cubicBezTo>
                <a:cubicBezTo>
                  <a:pt x="19316" y="6545"/>
                  <a:pt x="19545" y="6567"/>
                  <a:pt x="19422" y="6672"/>
                </a:cubicBezTo>
                <a:cubicBezTo>
                  <a:pt x="19363" y="6712"/>
                  <a:pt x="19351" y="6716"/>
                  <a:pt x="19323" y="6747"/>
                </a:cubicBezTo>
                <a:cubicBezTo>
                  <a:pt x="19302" y="6641"/>
                  <a:pt x="19330" y="6509"/>
                  <a:pt x="19372" y="6400"/>
                </a:cubicBezTo>
                <a:cubicBezTo>
                  <a:pt x="19392" y="6347"/>
                  <a:pt x="19479" y="6270"/>
                  <a:pt x="19422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0760" y="3054240"/>
            <a:ext cx="482400" cy="419040"/>
          </a:xfrm>
          <a:custGeom>
            <a:avLst/>
            <a:gdLst/>
            <a:ahLst/>
            <a:rect l="l" t="t" r="r" b="b"/>
            <a:pathLst>
              <a:path w="1340" h="1167">
                <a:moveTo>
                  <a:pt x="18033" y="8756"/>
                </a:moveTo>
                <a:cubicBezTo>
                  <a:pt x="18010" y="8733"/>
                  <a:pt x="18006" y="8725"/>
                  <a:pt x="17983" y="8731"/>
                </a:cubicBezTo>
                <a:cubicBezTo>
                  <a:pt x="17953" y="8824"/>
                  <a:pt x="18007" y="8649"/>
                  <a:pt x="18033" y="8781"/>
                </a:cubicBezTo>
                <a:cubicBezTo>
                  <a:pt x="18056" y="8894"/>
                  <a:pt x="17977" y="8992"/>
                  <a:pt x="17884" y="9029"/>
                </a:cubicBezTo>
                <a:cubicBezTo>
                  <a:pt x="17958" y="8997"/>
                  <a:pt x="18140" y="9011"/>
                  <a:pt x="18107" y="9153"/>
                </a:cubicBezTo>
                <a:cubicBezTo>
                  <a:pt x="18094" y="9210"/>
                  <a:pt x="17901" y="9246"/>
                  <a:pt x="17859" y="9252"/>
                </a:cubicBezTo>
              </a:path>
              <a:path w="1340" h="1167">
                <a:moveTo>
                  <a:pt x="17388" y="9525"/>
                </a:moveTo>
                <a:cubicBezTo>
                  <a:pt x="17611" y="9641"/>
                  <a:pt x="17758" y="9689"/>
                  <a:pt x="18008" y="9599"/>
                </a:cubicBezTo>
                <a:cubicBezTo>
                  <a:pt x="18232" y="9518"/>
                  <a:pt x="18425" y="9315"/>
                  <a:pt x="18479" y="9079"/>
                </a:cubicBezTo>
                <a:cubicBezTo>
                  <a:pt x="18525" y="8875"/>
                  <a:pt x="18321" y="8671"/>
                  <a:pt x="18157" y="8582"/>
                </a:cubicBezTo>
                <a:cubicBezTo>
                  <a:pt x="17945" y="8468"/>
                  <a:pt x="17731" y="8474"/>
                  <a:pt x="17512" y="8558"/>
                </a:cubicBezTo>
                <a:cubicBezTo>
                  <a:pt x="17295" y="8642"/>
                  <a:pt x="17173" y="8853"/>
                  <a:pt x="17140" y="9079"/>
                </a:cubicBezTo>
                <a:cubicBezTo>
                  <a:pt x="17109" y="9292"/>
                  <a:pt x="17204" y="9539"/>
                  <a:pt x="17413" y="9624"/>
                </a:cubicBezTo>
                <a:cubicBezTo>
                  <a:pt x="17537" y="9675"/>
                  <a:pt x="17620" y="9635"/>
                  <a:pt x="17735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92920" y="4037040"/>
            <a:ext cx="1349280" cy="2419200"/>
          </a:xfrm>
          <a:custGeom>
            <a:avLst/>
            <a:gdLst/>
            <a:ahLst/>
            <a:rect l="l" t="t" r="r" b="b"/>
            <a:pathLst>
              <a:path w="3747" h="6723">
                <a:moveTo>
                  <a:pt x="20365" y="12278"/>
                </a:moveTo>
                <a:cubicBezTo>
                  <a:pt x="20313" y="12330"/>
                  <a:pt x="20404" y="12221"/>
                  <a:pt x="20464" y="12179"/>
                </a:cubicBezTo>
                <a:cubicBezTo>
                  <a:pt x="20536" y="12128"/>
                  <a:pt x="20629" y="12108"/>
                  <a:pt x="20712" y="12080"/>
                </a:cubicBezTo>
                <a:cubicBezTo>
                  <a:pt x="20795" y="12244"/>
                  <a:pt x="20726" y="12369"/>
                  <a:pt x="20638" y="12526"/>
                </a:cubicBezTo>
                <a:cubicBezTo>
                  <a:pt x="20512" y="12748"/>
                  <a:pt x="20357" y="12931"/>
                  <a:pt x="20265" y="13171"/>
                </a:cubicBezTo>
                <a:cubicBezTo>
                  <a:pt x="20257" y="13196"/>
                  <a:pt x="20249" y="13221"/>
                  <a:pt x="20241" y="13246"/>
                </a:cubicBezTo>
                <a:cubicBezTo>
                  <a:pt x="20251" y="13126"/>
                  <a:pt x="20270" y="13075"/>
                  <a:pt x="20340" y="12973"/>
                </a:cubicBezTo>
                <a:cubicBezTo>
                  <a:pt x="20386" y="12906"/>
                  <a:pt x="20472" y="12995"/>
                  <a:pt x="20513" y="13022"/>
                </a:cubicBezTo>
                <a:cubicBezTo>
                  <a:pt x="20618" y="13090"/>
                  <a:pt x="20895" y="13119"/>
                  <a:pt x="20985" y="12998"/>
                </a:cubicBezTo>
                <a:cubicBezTo>
                  <a:pt x="21028" y="12998"/>
                  <a:pt x="21019" y="12992"/>
                  <a:pt x="20935" y="12973"/>
                </a:cubicBezTo>
              </a:path>
              <a:path w="3747" h="6723">
                <a:moveTo>
                  <a:pt x="19248" y="14064"/>
                </a:moveTo>
                <a:cubicBezTo>
                  <a:pt x="19374" y="14064"/>
                  <a:pt x="19495" y="14044"/>
                  <a:pt x="19621" y="14039"/>
                </a:cubicBezTo>
                <a:cubicBezTo>
                  <a:pt x="19645" y="14039"/>
                  <a:pt x="19654" y="14039"/>
                  <a:pt x="19670" y="14039"/>
                </a:cubicBezTo>
              </a:path>
              <a:path w="3747" h="6723">
                <a:moveTo>
                  <a:pt x="20662" y="14015"/>
                </a:moveTo>
                <a:cubicBezTo>
                  <a:pt x="20662" y="13899"/>
                  <a:pt x="20662" y="14196"/>
                  <a:pt x="20662" y="14312"/>
                </a:cubicBezTo>
                <a:cubicBezTo>
                  <a:pt x="20662" y="14519"/>
                  <a:pt x="20435" y="14973"/>
                  <a:pt x="20638" y="14932"/>
                </a:cubicBezTo>
                <a:cubicBezTo>
                  <a:pt x="20646" y="14916"/>
                  <a:pt x="20654" y="14899"/>
                  <a:pt x="20662" y="14883"/>
                </a:cubicBezTo>
              </a:path>
              <a:path w="3747" h="6723">
                <a:moveTo>
                  <a:pt x="21779" y="13543"/>
                </a:moveTo>
                <a:cubicBezTo>
                  <a:pt x="21791" y="13546"/>
                  <a:pt x="21894" y="13516"/>
                  <a:pt x="21952" y="13494"/>
                </a:cubicBezTo>
                <a:cubicBezTo>
                  <a:pt x="21952" y="13629"/>
                  <a:pt x="21950" y="13634"/>
                  <a:pt x="21853" y="13742"/>
                </a:cubicBezTo>
                <a:cubicBezTo>
                  <a:pt x="21943" y="13728"/>
                  <a:pt x="22166" y="13752"/>
                  <a:pt x="22027" y="13915"/>
                </a:cubicBezTo>
                <a:cubicBezTo>
                  <a:pt x="21984" y="13966"/>
                  <a:pt x="21861" y="13940"/>
                  <a:pt x="21803" y="13940"/>
                </a:cubicBezTo>
              </a:path>
              <a:path w="3747" h="6723">
                <a:moveTo>
                  <a:pt x="21630" y="14188"/>
                </a:moveTo>
                <a:cubicBezTo>
                  <a:pt x="21809" y="14188"/>
                  <a:pt x="22000" y="14156"/>
                  <a:pt x="22175" y="14163"/>
                </a:cubicBezTo>
                <a:cubicBezTo>
                  <a:pt x="22216" y="14171"/>
                  <a:pt x="22258" y="14180"/>
                  <a:pt x="22299" y="14188"/>
                </a:cubicBezTo>
              </a:path>
              <a:path w="3747" h="6723">
                <a:moveTo>
                  <a:pt x="21803" y="14734"/>
                </a:moveTo>
                <a:cubicBezTo>
                  <a:pt x="21803" y="14709"/>
                  <a:pt x="21803" y="14701"/>
                  <a:pt x="21803" y="14684"/>
                </a:cubicBezTo>
                <a:cubicBezTo>
                  <a:pt x="21789" y="14741"/>
                  <a:pt x="21761" y="14792"/>
                  <a:pt x="21754" y="14858"/>
                </a:cubicBezTo>
                <a:cubicBezTo>
                  <a:pt x="21871" y="14858"/>
                  <a:pt x="21964" y="14832"/>
                  <a:pt x="22076" y="14808"/>
                </a:cubicBezTo>
                <a:cubicBezTo>
                  <a:pt x="22084" y="14808"/>
                  <a:pt x="22093" y="14808"/>
                  <a:pt x="22101" y="14808"/>
                </a:cubicBezTo>
              </a:path>
              <a:path w="3747" h="6723">
                <a:moveTo>
                  <a:pt x="22051" y="14486"/>
                </a:moveTo>
                <a:cubicBezTo>
                  <a:pt x="22043" y="14683"/>
                  <a:pt x="22035" y="14860"/>
                  <a:pt x="22051" y="15056"/>
                </a:cubicBezTo>
                <a:cubicBezTo>
                  <a:pt x="22051" y="15114"/>
                  <a:pt x="22051" y="15123"/>
                  <a:pt x="22051" y="15156"/>
                </a:cubicBezTo>
              </a:path>
              <a:path w="3747" h="6723">
                <a:moveTo>
                  <a:pt x="19149" y="15577"/>
                </a:moveTo>
                <a:cubicBezTo>
                  <a:pt x="19364" y="15636"/>
                  <a:pt x="19596" y="15583"/>
                  <a:pt x="19819" y="15577"/>
                </a:cubicBezTo>
                <a:cubicBezTo>
                  <a:pt x="20382" y="15562"/>
                  <a:pt x="20943" y="15584"/>
                  <a:pt x="21506" y="15553"/>
                </a:cubicBezTo>
                <a:cubicBezTo>
                  <a:pt x="21857" y="15534"/>
                  <a:pt x="22228" y="15515"/>
                  <a:pt x="22572" y="15453"/>
                </a:cubicBezTo>
                <a:cubicBezTo>
                  <a:pt x="22595" y="15431"/>
                  <a:pt x="22600" y="15423"/>
                  <a:pt x="22622" y="15429"/>
                </a:cubicBezTo>
              </a:path>
              <a:path w="3747" h="6723">
                <a:moveTo>
                  <a:pt x="20513" y="12650"/>
                </a:moveTo>
                <a:cubicBezTo>
                  <a:pt x="20571" y="12650"/>
                  <a:pt x="20596" y="12650"/>
                  <a:pt x="20638" y="12650"/>
                </a:cubicBezTo>
              </a:path>
              <a:path w="3747" h="6723">
                <a:moveTo>
                  <a:pt x="21010" y="11981"/>
                </a:moveTo>
                <a:cubicBezTo>
                  <a:pt x="21010" y="11956"/>
                  <a:pt x="21010" y="11948"/>
                  <a:pt x="21010" y="11931"/>
                </a:cubicBezTo>
                <a:cubicBezTo>
                  <a:pt x="20922" y="11975"/>
                  <a:pt x="20927" y="11985"/>
                  <a:pt x="20861" y="12080"/>
                </a:cubicBezTo>
                <a:cubicBezTo>
                  <a:pt x="20724" y="12275"/>
                  <a:pt x="20608" y="12486"/>
                  <a:pt x="20464" y="12675"/>
                </a:cubicBezTo>
                <a:cubicBezTo>
                  <a:pt x="20361" y="12810"/>
                  <a:pt x="20248" y="12941"/>
                  <a:pt x="20141" y="13072"/>
                </a:cubicBezTo>
                <a:cubicBezTo>
                  <a:pt x="20110" y="13109"/>
                  <a:pt x="20093" y="13135"/>
                  <a:pt x="20067" y="13171"/>
                </a:cubicBezTo>
                <a:cubicBezTo>
                  <a:pt x="20014" y="13246"/>
                  <a:pt x="19918" y="13487"/>
                  <a:pt x="19918" y="13395"/>
                </a:cubicBezTo>
                <a:cubicBezTo>
                  <a:pt x="19871" y="13395"/>
                  <a:pt x="19875" y="13377"/>
                  <a:pt x="19943" y="13320"/>
                </a:cubicBezTo>
              </a:path>
              <a:path w="3747" h="6723">
                <a:moveTo>
                  <a:pt x="20067" y="11931"/>
                </a:moveTo>
                <a:cubicBezTo>
                  <a:pt x="20042" y="11931"/>
                  <a:pt x="20034" y="11931"/>
                  <a:pt x="20042" y="11906"/>
                </a:cubicBezTo>
                <a:cubicBezTo>
                  <a:pt x="20026" y="11985"/>
                  <a:pt x="19998" y="12070"/>
                  <a:pt x="19993" y="12154"/>
                </a:cubicBezTo>
                <a:cubicBezTo>
                  <a:pt x="19981" y="12343"/>
                  <a:pt x="20017" y="12534"/>
                  <a:pt x="20017" y="12725"/>
                </a:cubicBezTo>
                <a:cubicBezTo>
                  <a:pt x="20017" y="12775"/>
                  <a:pt x="20001" y="12835"/>
                  <a:pt x="20042" y="12849"/>
                </a:cubicBezTo>
              </a:path>
              <a:path w="3747" h="6723">
                <a:moveTo>
                  <a:pt x="21654" y="11832"/>
                </a:moveTo>
                <a:cubicBezTo>
                  <a:pt x="21654" y="11685"/>
                  <a:pt x="21606" y="12170"/>
                  <a:pt x="21605" y="12179"/>
                </a:cubicBezTo>
                <a:cubicBezTo>
                  <a:pt x="21577" y="12398"/>
                  <a:pt x="21528" y="12606"/>
                  <a:pt x="21506" y="12824"/>
                </a:cubicBezTo>
                <a:cubicBezTo>
                  <a:pt x="21499" y="12890"/>
                  <a:pt x="21501" y="12918"/>
                  <a:pt x="21481" y="12973"/>
                </a:cubicBezTo>
                <a:cubicBezTo>
                  <a:pt x="21471" y="13003"/>
                  <a:pt x="21467" y="13042"/>
                  <a:pt x="21456" y="13072"/>
                </a:cubicBezTo>
                <a:cubicBezTo>
                  <a:pt x="21589" y="13057"/>
                  <a:pt x="21715" y="13025"/>
                  <a:pt x="21853" y="13022"/>
                </a:cubicBezTo>
                <a:cubicBezTo>
                  <a:pt x="21985" y="13019"/>
                  <a:pt x="22118" y="13022"/>
                  <a:pt x="22250" y="13022"/>
                </a:cubicBezTo>
                <a:cubicBezTo>
                  <a:pt x="22242" y="12921"/>
                  <a:pt x="22227" y="12828"/>
                  <a:pt x="22225" y="12725"/>
                </a:cubicBezTo>
                <a:cubicBezTo>
                  <a:pt x="22220" y="12486"/>
                  <a:pt x="22211" y="12235"/>
                  <a:pt x="22250" y="12005"/>
                </a:cubicBezTo>
                <a:cubicBezTo>
                  <a:pt x="22265" y="11918"/>
                  <a:pt x="22263" y="11820"/>
                  <a:pt x="22275" y="11733"/>
                </a:cubicBezTo>
                <a:cubicBezTo>
                  <a:pt x="22290" y="11627"/>
                  <a:pt x="22278" y="11511"/>
                  <a:pt x="22250" y="11410"/>
                </a:cubicBezTo>
                <a:cubicBezTo>
                  <a:pt x="22237" y="11365"/>
                  <a:pt x="22208" y="11315"/>
                  <a:pt x="22200" y="11261"/>
                </a:cubicBezTo>
                <a:cubicBezTo>
                  <a:pt x="22200" y="11237"/>
                  <a:pt x="22200" y="11228"/>
                  <a:pt x="22200" y="11212"/>
                </a:cubicBezTo>
                <a:cubicBezTo>
                  <a:pt x="22092" y="11262"/>
                  <a:pt x="22018" y="11322"/>
                  <a:pt x="21927" y="11410"/>
                </a:cubicBezTo>
                <a:cubicBezTo>
                  <a:pt x="21823" y="11511"/>
                  <a:pt x="21714" y="11588"/>
                  <a:pt x="21630" y="11708"/>
                </a:cubicBezTo>
                <a:cubicBezTo>
                  <a:pt x="21564" y="11801"/>
                  <a:pt x="21492" y="11861"/>
                  <a:pt x="21431" y="11956"/>
                </a:cubicBezTo>
                <a:cubicBezTo>
                  <a:pt x="21407" y="11994"/>
                  <a:pt x="21390" y="12019"/>
                  <a:pt x="21357" y="12055"/>
                </a:cubicBezTo>
                <a:cubicBezTo>
                  <a:pt x="21349" y="12063"/>
                  <a:pt x="21340" y="12072"/>
                  <a:pt x="21332" y="12080"/>
                </a:cubicBezTo>
                <a:cubicBezTo>
                  <a:pt x="21398" y="12074"/>
                  <a:pt x="21511" y="12047"/>
                  <a:pt x="21605" y="12005"/>
                </a:cubicBezTo>
                <a:cubicBezTo>
                  <a:pt x="21645" y="11985"/>
                  <a:pt x="21652" y="11977"/>
                  <a:pt x="21679" y="11981"/>
                </a:cubicBezTo>
              </a:path>
              <a:path w="3747" h="6723">
                <a:moveTo>
                  <a:pt x="21580" y="12303"/>
                </a:moveTo>
                <a:cubicBezTo>
                  <a:pt x="21572" y="12295"/>
                  <a:pt x="21563" y="12286"/>
                  <a:pt x="21555" y="12278"/>
                </a:cubicBezTo>
                <a:cubicBezTo>
                  <a:pt x="21665" y="12278"/>
                  <a:pt x="21767" y="12257"/>
                  <a:pt x="21878" y="12254"/>
                </a:cubicBezTo>
                <a:cubicBezTo>
                  <a:pt x="21977" y="12252"/>
                  <a:pt x="22076" y="12254"/>
                  <a:pt x="22175" y="12254"/>
                </a:cubicBezTo>
              </a:path>
              <a:path w="3747" h="6723">
                <a:moveTo>
                  <a:pt x="21779" y="12526"/>
                </a:moveTo>
                <a:cubicBezTo>
                  <a:pt x="21779" y="12473"/>
                  <a:pt x="21712" y="12659"/>
                  <a:pt x="21704" y="12675"/>
                </a:cubicBezTo>
                <a:cubicBezTo>
                  <a:pt x="21789" y="12675"/>
                  <a:pt x="21857" y="12679"/>
                  <a:pt x="21927" y="12700"/>
                </a:cubicBezTo>
                <a:cubicBezTo>
                  <a:pt x="21935" y="12700"/>
                  <a:pt x="21944" y="12700"/>
                  <a:pt x="21952" y="12700"/>
                </a:cubicBezTo>
              </a:path>
              <a:path w="3747" h="6723">
                <a:moveTo>
                  <a:pt x="21927" y="12477"/>
                </a:moveTo>
                <a:cubicBezTo>
                  <a:pt x="21927" y="12595"/>
                  <a:pt x="21889" y="12707"/>
                  <a:pt x="21878" y="12824"/>
                </a:cubicBezTo>
                <a:cubicBezTo>
                  <a:pt x="21873" y="12880"/>
                  <a:pt x="21878" y="12941"/>
                  <a:pt x="21878" y="12998"/>
                </a:cubicBezTo>
              </a:path>
              <a:path w="3747" h="6723">
                <a:moveTo>
                  <a:pt x="21878" y="11832"/>
                </a:moveTo>
                <a:cubicBezTo>
                  <a:pt x="21878" y="11781"/>
                  <a:pt x="21863" y="11881"/>
                  <a:pt x="21853" y="11931"/>
                </a:cubicBezTo>
                <a:cubicBezTo>
                  <a:pt x="21853" y="11939"/>
                  <a:pt x="21853" y="11948"/>
                  <a:pt x="21853" y="11956"/>
                </a:cubicBezTo>
                <a:cubicBezTo>
                  <a:pt x="21919" y="11956"/>
                  <a:pt x="21985" y="11956"/>
                  <a:pt x="22051" y="11956"/>
                </a:cubicBezTo>
              </a:path>
              <a:path w="3747" h="6723">
                <a:moveTo>
                  <a:pt x="22002" y="11708"/>
                </a:moveTo>
                <a:cubicBezTo>
                  <a:pt x="22002" y="11633"/>
                  <a:pt x="21977" y="11930"/>
                  <a:pt x="21977" y="11931"/>
                </a:cubicBezTo>
                <a:cubicBezTo>
                  <a:pt x="21972" y="12006"/>
                  <a:pt x="21957" y="12259"/>
                  <a:pt x="21977" y="12278"/>
                </a:cubicBezTo>
              </a:path>
              <a:path w="3747" h="6723">
                <a:moveTo>
                  <a:pt x="21952" y="15850"/>
                </a:moveTo>
                <a:cubicBezTo>
                  <a:pt x="21952" y="15825"/>
                  <a:pt x="21952" y="15801"/>
                  <a:pt x="21952" y="15776"/>
                </a:cubicBezTo>
              </a:path>
              <a:path w="3747" h="6723">
                <a:moveTo>
                  <a:pt x="21927" y="15850"/>
                </a:moveTo>
                <a:cubicBezTo>
                  <a:pt x="21947" y="15950"/>
                  <a:pt x="21935" y="16164"/>
                  <a:pt x="21977" y="16247"/>
                </a:cubicBezTo>
                <a:cubicBezTo>
                  <a:pt x="21985" y="16247"/>
                  <a:pt x="21994" y="16247"/>
                  <a:pt x="22002" y="16247"/>
                </a:cubicBezTo>
              </a:path>
              <a:path w="3747" h="6723">
                <a:moveTo>
                  <a:pt x="21630" y="16545"/>
                </a:moveTo>
                <a:cubicBezTo>
                  <a:pt x="21630" y="16570"/>
                  <a:pt x="21630" y="16578"/>
                  <a:pt x="21605" y="16570"/>
                </a:cubicBezTo>
                <a:cubicBezTo>
                  <a:pt x="21717" y="16547"/>
                  <a:pt x="21836" y="16517"/>
                  <a:pt x="21952" y="16495"/>
                </a:cubicBezTo>
                <a:cubicBezTo>
                  <a:pt x="22079" y="16471"/>
                  <a:pt x="22226" y="16453"/>
                  <a:pt x="22349" y="16421"/>
                </a:cubicBezTo>
                <a:cubicBezTo>
                  <a:pt x="22403" y="16407"/>
                  <a:pt x="22418" y="16396"/>
                  <a:pt x="22473" y="16396"/>
                </a:cubicBezTo>
                <a:cubicBezTo>
                  <a:pt x="22498" y="16396"/>
                  <a:pt x="22506" y="16396"/>
                  <a:pt x="22473" y="16396"/>
                </a:cubicBezTo>
              </a:path>
              <a:path w="3747" h="6723">
                <a:moveTo>
                  <a:pt x="21828" y="16818"/>
                </a:moveTo>
                <a:cubicBezTo>
                  <a:pt x="21854" y="16740"/>
                  <a:pt x="21872" y="16911"/>
                  <a:pt x="21853" y="16991"/>
                </a:cubicBezTo>
                <a:cubicBezTo>
                  <a:pt x="21836" y="17064"/>
                  <a:pt x="21792" y="17120"/>
                  <a:pt x="21779" y="17190"/>
                </a:cubicBezTo>
                <a:cubicBezTo>
                  <a:pt x="21894" y="17167"/>
                  <a:pt x="22007" y="17115"/>
                  <a:pt x="22126" y="17090"/>
                </a:cubicBezTo>
                <a:cubicBezTo>
                  <a:pt x="22203" y="17074"/>
                  <a:pt x="22175" y="17087"/>
                  <a:pt x="22175" y="16966"/>
                </a:cubicBezTo>
              </a:path>
              <a:path w="3747" h="6723">
                <a:moveTo>
                  <a:pt x="22126" y="16694"/>
                </a:moveTo>
                <a:cubicBezTo>
                  <a:pt x="22095" y="16867"/>
                  <a:pt x="22101" y="17037"/>
                  <a:pt x="22101" y="17214"/>
                </a:cubicBezTo>
                <a:cubicBezTo>
                  <a:pt x="22101" y="17291"/>
                  <a:pt x="22051" y="17453"/>
                  <a:pt x="22126" y="17438"/>
                </a:cubicBezTo>
                <a:cubicBezTo>
                  <a:pt x="22134" y="17430"/>
                  <a:pt x="22143" y="17421"/>
                  <a:pt x="22151" y="17413"/>
                </a:cubicBezTo>
              </a:path>
              <a:path w="3747" h="6723">
                <a:moveTo>
                  <a:pt x="22647" y="15875"/>
                </a:moveTo>
                <a:cubicBezTo>
                  <a:pt x="22647" y="15883"/>
                  <a:pt x="22647" y="15892"/>
                  <a:pt x="22647" y="15900"/>
                </a:cubicBezTo>
                <a:cubicBezTo>
                  <a:pt x="22690" y="15833"/>
                  <a:pt x="22659" y="15850"/>
                  <a:pt x="22597" y="15801"/>
                </a:cubicBezTo>
                <a:cubicBezTo>
                  <a:pt x="22489" y="15716"/>
                  <a:pt x="22357" y="15688"/>
                  <a:pt x="22225" y="15677"/>
                </a:cubicBezTo>
                <a:cubicBezTo>
                  <a:pt x="22092" y="15666"/>
                  <a:pt x="21979" y="15688"/>
                  <a:pt x="21853" y="15726"/>
                </a:cubicBezTo>
                <a:cubicBezTo>
                  <a:pt x="21696" y="15773"/>
                  <a:pt x="21570" y="15846"/>
                  <a:pt x="21431" y="15925"/>
                </a:cubicBezTo>
                <a:cubicBezTo>
                  <a:pt x="21303" y="15997"/>
                  <a:pt x="21226" y="16018"/>
                  <a:pt x="21158" y="16148"/>
                </a:cubicBezTo>
                <a:cubicBezTo>
                  <a:pt x="21067" y="16322"/>
                  <a:pt x="21062" y="16507"/>
                  <a:pt x="21084" y="16694"/>
                </a:cubicBezTo>
                <a:cubicBezTo>
                  <a:pt x="21112" y="16927"/>
                  <a:pt x="21195" y="17152"/>
                  <a:pt x="21282" y="17363"/>
                </a:cubicBezTo>
                <a:cubicBezTo>
                  <a:pt x="21318" y="17451"/>
                  <a:pt x="21357" y="17529"/>
                  <a:pt x="21406" y="17611"/>
                </a:cubicBezTo>
                <a:cubicBezTo>
                  <a:pt x="21485" y="17742"/>
                  <a:pt x="21590" y="17797"/>
                  <a:pt x="21704" y="17884"/>
                </a:cubicBezTo>
                <a:cubicBezTo>
                  <a:pt x="21795" y="17953"/>
                  <a:pt x="21838" y="17938"/>
                  <a:pt x="21952" y="17909"/>
                </a:cubicBezTo>
                <a:cubicBezTo>
                  <a:pt x="22120" y="17867"/>
                  <a:pt x="22270" y="17811"/>
                  <a:pt x="22423" y="17735"/>
                </a:cubicBezTo>
                <a:cubicBezTo>
                  <a:pt x="22582" y="17656"/>
                  <a:pt x="22676" y="17537"/>
                  <a:pt x="22771" y="17388"/>
                </a:cubicBezTo>
                <a:cubicBezTo>
                  <a:pt x="22890" y="17201"/>
                  <a:pt x="22895" y="17056"/>
                  <a:pt x="22895" y="16842"/>
                </a:cubicBezTo>
                <a:cubicBezTo>
                  <a:pt x="22895" y="16661"/>
                  <a:pt x="22849" y="16474"/>
                  <a:pt x="22820" y="16297"/>
                </a:cubicBezTo>
                <a:cubicBezTo>
                  <a:pt x="22802" y="16188"/>
                  <a:pt x="22754" y="16114"/>
                  <a:pt x="22696" y="16024"/>
                </a:cubicBezTo>
                <a:cubicBezTo>
                  <a:pt x="22646" y="15946"/>
                  <a:pt x="22659" y="15938"/>
                  <a:pt x="22597" y="15900"/>
                </a:cubicBezTo>
                <a:cubicBezTo>
                  <a:pt x="22557" y="15880"/>
                  <a:pt x="22550" y="15871"/>
                  <a:pt x="22523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919160"/>
            <a:ext cx="492120" cy="474840"/>
          </a:xfrm>
          <a:custGeom>
            <a:avLst/>
            <a:gdLst/>
            <a:ahLst/>
            <a:rect l="l" t="t" r="r" b="b"/>
            <a:pathLst>
              <a:path w="1366" h="1316">
                <a:moveTo>
                  <a:pt x="18728" y="5333"/>
                </a:moveTo>
                <a:cubicBezTo>
                  <a:pt x="18739" y="5413"/>
                  <a:pt x="18817" y="5584"/>
                  <a:pt x="18777" y="5655"/>
                </a:cubicBezTo>
                <a:cubicBezTo>
                  <a:pt x="18769" y="5647"/>
                  <a:pt x="18760" y="5639"/>
                  <a:pt x="18752" y="5631"/>
                </a:cubicBezTo>
              </a:path>
              <a:path w="1366" h="1316">
                <a:moveTo>
                  <a:pt x="18628" y="5457"/>
                </a:moveTo>
                <a:cubicBezTo>
                  <a:pt x="18783" y="5450"/>
                  <a:pt x="18902" y="5430"/>
                  <a:pt x="19050" y="5383"/>
                </a:cubicBezTo>
              </a:path>
              <a:path w="1366" h="1316">
                <a:moveTo>
                  <a:pt x="19968" y="6648"/>
                </a:moveTo>
                <a:lnTo>
                  <a:pt x="19968" y="6648"/>
                </a:lnTo>
              </a:path>
              <a:path w="1366" h="1316">
                <a:moveTo>
                  <a:pt x="19968" y="6648"/>
                </a:moveTo>
                <a:lnTo>
                  <a:pt x="19968" y="6648"/>
                </a:lnTo>
              </a:path>
              <a:path w="1366" h="1316">
                <a:moveTo>
                  <a:pt x="19993" y="6648"/>
                </a:moveTo>
                <a:lnTo>
                  <a:pt x="19993" y="664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04920" y="2973240"/>
            <a:ext cx="2573280" cy="2367000"/>
          </a:xfrm>
          <a:custGeom>
            <a:avLst/>
            <a:gdLst/>
            <a:ahLst/>
            <a:rect l="l" t="t" r="r" b="b"/>
            <a:pathLst>
              <a:path w="7144" h="6574">
                <a:moveTo>
                  <a:pt x="3870" y="12427"/>
                </a:moveTo>
                <a:cubicBezTo>
                  <a:pt x="3836" y="12455"/>
                  <a:pt x="3811" y="12469"/>
                  <a:pt x="3795" y="12502"/>
                </a:cubicBezTo>
                <a:cubicBezTo>
                  <a:pt x="3795" y="12430"/>
                  <a:pt x="3906" y="12335"/>
                  <a:pt x="3969" y="12427"/>
                </a:cubicBezTo>
                <a:cubicBezTo>
                  <a:pt x="4157" y="12699"/>
                  <a:pt x="3771" y="13106"/>
                  <a:pt x="3572" y="13246"/>
                </a:cubicBezTo>
                <a:cubicBezTo>
                  <a:pt x="3445" y="13288"/>
                  <a:pt x="3414" y="13317"/>
                  <a:pt x="3349" y="13246"/>
                </a:cubicBezTo>
                <a:cubicBezTo>
                  <a:pt x="3378" y="13014"/>
                  <a:pt x="3499" y="12940"/>
                  <a:pt x="3746" y="13047"/>
                </a:cubicBezTo>
                <a:cubicBezTo>
                  <a:pt x="3870" y="13101"/>
                  <a:pt x="3929" y="13224"/>
                  <a:pt x="3944" y="13345"/>
                </a:cubicBezTo>
              </a:path>
              <a:path w="7144" h="6574">
                <a:moveTo>
                  <a:pt x="4887" y="11931"/>
                </a:moveTo>
                <a:cubicBezTo>
                  <a:pt x="4831" y="11903"/>
                  <a:pt x="5025" y="11795"/>
                  <a:pt x="5085" y="11807"/>
                </a:cubicBezTo>
                <a:cubicBezTo>
                  <a:pt x="5198" y="11829"/>
                  <a:pt x="5020" y="12018"/>
                  <a:pt x="5011" y="12030"/>
                </a:cubicBezTo>
                <a:cubicBezTo>
                  <a:pt x="5003" y="12038"/>
                  <a:pt x="4994" y="12047"/>
                  <a:pt x="4986" y="12055"/>
                </a:cubicBezTo>
                <a:cubicBezTo>
                  <a:pt x="5117" y="12055"/>
                  <a:pt x="5169" y="12096"/>
                  <a:pt x="5085" y="12229"/>
                </a:cubicBezTo>
                <a:cubicBezTo>
                  <a:pt x="5031" y="12314"/>
                  <a:pt x="4976" y="12315"/>
                  <a:pt x="4887" y="12328"/>
                </a:cubicBezTo>
              </a:path>
              <a:path w="7144" h="6574">
                <a:moveTo>
                  <a:pt x="4738" y="12551"/>
                </a:moveTo>
                <a:cubicBezTo>
                  <a:pt x="4944" y="12524"/>
                  <a:pt x="5151" y="12487"/>
                  <a:pt x="5358" y="12477"/>
                </a:cubicBezTo>
                <a:cubicBezTo>
                  <a:pt x="5366" y="12477"/>
                  <a:pt x="5375" y="12477"/>
                  <a:pt x="5383" y="12477"/>
                </a:cubicBezTo>
              </a:path>
              <a:path w="7144" h="6574">
                <a:moveTo>
                  <a:pt x="4862" y="12898"/>
                </a:moveTo>
                <a:cubicBezTo>
                  <a:pt x="4833" y="12843"/>
                  <a:pt x="4797" y="12978"/>
                  <a:pt x="4787" y="13022"/>
                </a:cubicBezTo>
                <a:cubicBezTo>
                  <a:pt x="4899" y="13022"/>
                  <a:pt x="5000" y="13011"/>
                  <a:pt x="5110" y="12998"/>
                </a:cubicBezTo>
              </a:path>
              <a:path w="7144" h="6574">
                <a:moveTo>
                  <a:pt x="7938" y="13891"/>
                </a:moveTo>
                <a:cubicBezTo>
                  <a:pt x="8014" y="13891"/>
                  <a:pt x="8013" y="13903"/>
                  <a:pt x="8062" y="13866"/>
                </a:cubicBezTo>
              </a:path>
              <a:path w="7144" h="6574">
                <a:moveTo>
                  <a:pt x="9054" y="13072"/>
                </a:moveTo>
                <a:cubicBezTo>
                  <a:pt x="9140" y="13041"/>
                  <a:pt x="9155" y="13028"/>
                  <a:pt x="9227" y="13047"/>
                </a:cubicBezTo>
                <a:cubicBezTo>
                  <a:pt x="9226" y="13049"/>
                  <a:pt x="9154" y="13211"/>
                  <a:pt x="9178" y="13221"/>
                </a:cubicBezTo>
                <a:cubicBezTo>
                  <a:pt x="9219" y="13221"/>
                  <a:pt x="9227" y="13221"/>
                  <a:pt x="9252" y="13221"/>
                </a:cubicBezTo>
              </a:path>
              <a:path w="7144" h="6574">
                <a:moveTo>
                  <a:pt x="8905" y="14039"/>
                </a:moveTo>
                <a:cubicBezTo>
                  <a:pt x="8952" y="14039"/>
                  <a:pt x="8984" y="14059"/>
                  <a:pt x="9029" y="14064"/>
                </a:cubicBezTo>
                <a:cubicBezTo>
                  <a:pt x="9037" y="14064"/>
                  <a:pt x="9046" y="14064"/>
                  <a:pt x="9054" y="14064"/>
                </a:cubicBezTo>
              </a:path>
              <a:path w="7144" h="6574">
                <a:moveTo>
                  <a:pt x="8384" y="14833"/>
                </a:moveTo>
                <a:cubicBezTo>
                  <a:pt x="8491" y="14806"/>
                  <a:pt x="8577" y="14761"/>
                  <a:pt x="8682" y="14734"/>
                </a:cubicBezTo>
                <a:cubicBezTo>
                  <a:pt x="8776" y="14710"/>
                  <a:pt x="8883" y="14706"/>
                  <a:pt x="8979" y="14684"/>
                </a:cubicBezTo>
                <a:cubicBezTo>
                  <a:pt x="9119" y="14652"/>
                  <a:pt x="9271" y="14618"/>
                  <a:pt x="9401" y="14536"/>
                </a:cubicBezTo>
                <a:cubicBezTo>
                  <a:pt x="9485" y="14483"/>
                  <a:pt x="9575" y="14403"/>
                  <a:pt x="9649" y="14337"/>
                </a:cubicBezTo>
                <a:cubicBezTo>
                  <a:pt x="9780" y="14220"/>
                  <a:pt x="9914" y="14078"/>
                  <a:pt x="10021" y="13940"/>
                </a:cubicBezTo>
                <a:cubicBezTo>
                  <a:pt x="10151" y="13772"/>
                  <a:pt x="10237" y="13546"/>
                  <a:pt x="10294" y="13345"/>
                </a:cubicBezTo>
                <a:cubicBezTo>
                  <a:pt x="10358" y="13119"/>
                  <a:pt x="10389" y="12885"/>
                  <a:pt x="10368" y="12650"/>
                </a:cubicBezTo>
                <a:cubicBezTo>
                  <a:pt x="10352" y="12467"/>
                  <a:pt x="10312" y="12253"/>
                  <a:pt x="10195" y="12105"/>
                </a:cubicBezTo>
                <a:cubicBezTo>
                  <a:pt x="10089" y="11971"/>
                  <a:pt x="9945" y="11869"/>
                  <a:pt x="9798" y="11782"/>
                </a:cubicBezTo>
                <a:cubicBezTo>
                  <a:pt x="9673" y="11708"/>
                  <a:pt x="9535" y="11638"/>
                  <a:pt x="9401" y="11584"/>
                </a:cubicBezTo>
                <a:cubicBezTo>
                  <a:pt x="9246" y="11521"/>
                  <a:pt x="9095" y="11495"/>
                  <a:pt x="8930" y="11460"/>
                </a:cubicBezTo>
                <a:cubicBezTo>
                  <a:pt x="8492" y="11366"/>
                  <a:pt x="8051" y="11287"/>
                  <a:pt x="7615" y="11187"/>
                </a:cubicBezTo>
                <a:cubicBezTo>
                  <a:pt x="7396" y="11137"/>
                  <a:pt x="7168" y="11079"/>
                  <a:pt x="6945" y="11063"/>
                </a:cubicBezTo>
                <a:cubicBezTo>
                  <a:pt x="6825" y="11054"/>
                  <a:pt x="6757" y="11079"/>
                  <a:pt x="6648" y="11112"/>
                </a:cubicBezTo>
                <a:cubicBezTo>
                  <a:pt x="6503" y="11155"/>
                  <a:pt x="6370" y="11236"/>
                  <a:pt x="6226" y="11286"/>
                </a:cubicBezTo>
                <a:cubicBezTo>
                  <a:pt x="6058" y="11344"/>
                  <a:pt x="5896" y="11406"/>
                  <a:pt x="5730" y="11460"/>
                </a:cubicBezTo>
                <a:cubicBezTo>
                  <a:pt x="5654" y="11485"/>
                  <a:pt x="5627" y="11492"/>
                  <a:pt x="5556" y="11509"/>
                </a:cubicBezTo>
                <a:cubicBezTo>
                  <a:pt x="5449" y="11535"/>
                  <a:pt x="5344" y="11543"/>
                  <a:pt x="5234" y="11559"/>
                </a:cubicBezTo>
                <a:cubicBezTo>
                  <a:pt x="5149" y="11571"/>
                  <a:pt x="5069" y="11564"/>
                  <a:pt x="4986" y="11584"/>
                </a:cubicBezTo>
                <a:cubicBezTo>
                  <a:pt x="4932" y="11597"/>
                  <a:pt x="4886" y="11620"/>
                  <a:pt x="4837" y="11633"/>
                </a:cubicBezTo>
                <a:cubicBezTo>
                  <a:pt x="4832" y="11634"/>
                  <a:pt x="4712" y="11664"/>
                  <a:pt x="4713" y="11658"/>
                </a:cubicBezTo>
                <a:cubicBezTo>
                  <a:pt x="4714" y="11654"/>
                  <a:pt x="4861" y="11541"/>
                  <a:pt x="4887" y="11509"/>
                </a:cubicBezTo>
                <a:cubicBezTo>
                  <a:pt x="4833" y="11558"/>
                  <a:pt x="4745" y="11618"/>
                  <a:pt x="4688" y="11683"/>
                </a:cubicBezTo>
                <a:cubicBezTo>
                  <a:pt x="4655" y="11683"/>
                  <a:pt x="4646" y="11691"/>
                  <a:pt x="4663" y="11733"/>
                </a:cubicBezTo>
                <a:cubicBezTo>
                  <a:pt x="4729" y="11776"/>
                  <a:pt x="4795" y="11816"/>
                  <a:pt x="4862" y="11857"/>
                </a:cubicBezTo>
              </a:path>
              <a:path w="7144" h="6574">
                <a:moveTo>
                  <a:pt x="4093" y="11336"/>
                </a:moveTo>
                <a:cubicBezTo>
                  <a:pt x="4093" y="11459"/>
                  <a:pt x="4062" y="11587"/>
                  <a:pt x="4043" y="11708"/>
                </a:cubicBezTo>
                <a:cubicBezTo>
                  <a:pt x="4029" y="11794"/>
                  <a:pt x="4009" y="11991"/>
                  <a:pt x="3994" y="11906"/>
                </a:cubicBezTo>
                <a:cubicBezTo>
                  <a:pt x="3971" y="11774"/>
                  <a:pt x="4005" y="11636"/>
                  <a:pt x="4018" y="11509"/>
                </a:cubicBezTo>
                <a:cubicBezTo>
                  <a:pt x="4018" y="11484"/>
                  <a:pt x="4018" y="11460"/>
                  <a:pt x="4018" y="11435"/>
                </a:cubicBezTo>
                <a:cubicBezTo>
                  <a:pt x="4018" y="11302"/>
                  <a:pt x="4011" y="11650"/>
                  <a:pt x="3994" y="11782"/>
                </a:cubicBezTo>
                <a:cubicBezTo>
                  <a:pt x="3972" y="11914"/>
                  <a:pt x="3964" y="11946"/>
                  <a:pt x="3969" y="12030"/>
                </a:cubicBezTo>
                <a:cubicBezTo>
                  <a:pt x="3969" y="11918"/>
                  <a:pt x="3977" y="11820"/>
                  <a:pt x="3994" y="11708"/>
                </a:cubicBezTo>
                <a:cubicBezTo>
                  <a:pt x="4014" y="11574"/>
                  <a:pt x="4038" y="11443"/>
                  <a:pt x="4068" y="11311"/>
                </a:cubicBezTo>
              </a:path>
              <a:path w="7144" h="6574">
                <a:moveTo>
                  <a:pt x="9798" y="8756"/>
                </a:moveTo>
                <a:cubicBezTo>
                  <a:pt x="9737" y="8856"/>
                  <a:pt x="9746" y="8788"/>
                  <a:pt x="9798" y="8731"/>
                </a:cubicBezTo>
                <a:cubicBezTo>
                  <a:pt x="9823" y="8715"/>
                  <a:pt x="9847" y="8698"/>
                  <a:pt x="9872" y="8682"/>
                </a:cubicBezTo>
                <a:cubicBezTo>
                  <a:pt x="10093" y="8822"/>
                  <a:pt x="10061" y="9043"/>
                  <a:pt x="9847" y="9227"/>
                </a:cubicBezTo>
                <a:cubicBezTo>
                  <a:pt x="9722" y="9291"/>
                  <a:pt x="9693" y="9330"/>
                  <a:pt x="9624" y="9252"/>
                </a:cubicBezTo>
                <a:cubicBezTo>
                  <a:pt x="9724" y="9053"/>
                  <a:pt x="9761" y="9101"/>
                  <a:pt x="9947" y="9178"/>
                </a:cubicBezTo>
                <a:cubicBezTo>
                  <a:pt x="10004" y="9197"/>
                  <a:pt x="10029" y="9188"/>
                  <a:pt x="10021" y="9227"/>
                </a:cubicBezTo>
              </a:path>
              <a:path w="7144" h="6574">
                <a:moveTo>
                  <a:pt x="9351" y="9475"/>
                </a:moveTo>
                <a:cubicBezTo>
                  <a:pt x="9601" y="9574"/>
                  <a:pt x="9835" y="9573"/>
                  <a:pt x="10096" y="9451"/>
                </a:cubicBezTo>
                <a:cubicBezTo>
                  <a:pt x="10341" y="9337"/>
                  <a:pt x="10558" y="9065"/>
                  <a:pt x="10468" y="8781"/>
                </a:cubicBezTo>
                <a:cubicBezTo>
                  <a:pt x="10352" y="8413"/>
                  <a:pt x="10050" y="8242"/>
                  <a:pt x="9674" y="8260"/>
                </a:cubicBezTo>
                <a:cubicBezTo>
                  <a:pt x="9288" y="8278"/>
                  <a:pt x="9066" y="8642"/>
                  <a:pt x="8979" y="8979"/>
                </a:cubicBezTo>
                <a:cubicBezTo>
                  <a:pt x="8897" y="9296"/>
                  <a:pt x="9017" y="9661"/>
                  <a:pt x="9401" y="9599"/>
                </a:cubicBezTo>
                <a:cubicBezTo>
                  <a:pt x="9503" y="9582"/>
                  <a:pt x="9644" y="9488"/>
                  <a:pt x="9748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12960" y="4044960"/>
            <a:ext cx="3081240" cy="2635200"/>
          </a:xfrm>
          <a:custGeom>
            <a:avLst/>
            <a:gdLst/>
            <a:ahLst/>
            <a:rect l="l" t="t" r="r" b="b"/>
            <a:pathLst>
              <a:path w="8559" h="7318">
                <a:moveTo>
                  <a:pt x="5110" y="12725"/>
                </a:moveTo>
                <a:cubicBezTo>
                  <a:pt x="5075" y="12941"/>
                  <a:pt x="5058" y="13154"/>
                  <a:pt x="5035" y="13370"/>
                </a:cubicBezTo>
                <a:cubicBezTo>
                  <a:pt x="5035" y="13378"/>
                  <a:pt x="5035" y="13387"/>
                  <a:pt x="5035" y="13395"/>
                </a:cubicBezTo>
              </a:path>
              <a:path w="8559" h="7318">
                <a:moveTo>
                  <a:pt x="7863" y="13742"/>
                </a:moveTo>
                <a:cubicBezTo>
                  <a:pt x="7920" y="13728"/>
                  <a:pt x="7976" y="13712"/>
                  <a:pt x="8037" y="13692"/>
                </a:cubicBezTo>
              </a:path>
              <a:path w="8559" h="7318">
                <a:moveTo>
                  <a:pt x="8062" y="13866"/>
                </a:moveTo>
                <a:lnTo>
                  <a:pt x="8062" y="13866"/>
                </a:lnTo>
              </a:path>
              <a:path w="8559" h="7318">
                <a:moveTo>
                  <a:pt x="8855" y="13196"/>
                </a:moveTo>
                <a:cubicBezTo>
                  <a:pt x="8897" y="13189"/>
                  <a:pt x="8937" y="13178"/>
                  <a:pt x="8979" y="13171"/>
                </a:cubicBezTo>
              </a:path>
              <a:path w="8559" h="7318">
                <a:moveTo>
                  <a:pt x="8905" y="13047"/>
                </a:moveTo>
                <a:lnTo>
                  <a:pt x="8905" y="13047"/>
                </a:lnTo>
              </a:path>
              <a:path w="8559" h="7318">
                <a:moveTo>
                  <a:pt x="8979" y="13320"/>
                </a:moveTo>
                <a:cubicBezTo>
                  <a:pt x="8979" y="13312"/>
                  <a:pt x="8979" y="13303"/>
                  <a:pt x="8979" y="13295"/>
                </a:cubicBezTo>
              </a:path>
              <a:path w="8559" h="7318">
                <a:moveTo>
                  <a:pt x="10120" y="11261"/>
                </a:moveTo>
                <a:cubicBezTo>
                  <a:pt x="10120" y="11253"/>
                  <a:pt x="10120" y="11245"/>
                  <a:pt x="10120" y="11237"/>
                </a:cubicBezTo>
              </a:path>
              <a:path w="8559" h="7318">
                <a:moveTo>
                  <a:pt x="13593" y="14511"/>
                </a:moveTo>
                <a:cubicBezTo>
                  <a:pt x="13561" y="14644"/>
                  <a:pt x="13525" y="14758"/>
                  <a:pt x="13469" y="14883"/>
                </a:cubicBezTo>
              </a:path>
              <a:path w="8559" h="7318">
                <a:moveTo>
                  <a:pt x="12477" y="18554"/>
                </a:moveTo>
                <a:lnTo>
                  <a:pt x="12477" y="185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5240" y="4687920"/>
            <a:ext cx="3268800" cy="1090440"/>
          </a:xfrm>
          <a:custGeom>
            <a:avLst/>
            <a:gdLst/>
            <a:ahLst/>
            <a:rect l="l" t="t" r="r" b="b"/>
            <a:pathLst>
              <a:path w="9079" h="3028">
                <a:moveTo>
                  <a:pt x="2381" y="14412"/>
                </a:moveTo>
                <a:cubicBezTo>
                  <a:pt x="2381" y="14570"/>
                  <a:pt x="2420" y="14726"/>
                  <a:pt x="2431" y="14883"/>
                </a:cubicBezTo>
                <a:cubicBezTo>
                  <a:pt x="2436" y="14958"/>
                  <a:pt x="2449" y="15028"/>
                  <a:pt x="2406" y="15056"/>
                </a:cubicBezTo>
              </a:path>
              <a:path w="9079" h="3028">
                <a:moveTo>
                  <a:pt x="2208" y="14833"/>
                </a:moveTo>
                <a:cubicBezTo>
                  <a:pt x="2329" y="14785"/>
                  <a:pt x="2535" y="14687"/>
                  <a:pt x="2629" y="14734"/>
                </a:cubicBezTo>
              </a:path>
              <a:path w="9079" h="3028">
                <a:moveTo>
                  <a:pt x="3547" y="14337"/>
                </a:moveTo>
                <a:cubicBezTo>
                  <a:pt x="3648" y="14262"/>
                  <a:pt x="3704" y="14248"/>
                  <a:pt x="3820" y="14213"/>
                </a:cubicBezTo>
                <a:cubicBezTo>
                  <a:pt x="3948" y="14406"/>
                  <a:pt x="3813" y="14484"/>
                  <a:pt x="3646" y="14635"/>
                </a:cubicBezTo>
                <a:cubicBezTo>
                  <a:pt x="3638" y="14643"/>
                  <a:pt x="3629" y="14652"/>
                  <a:pt x="3621" y="14660"/>
                </a:cubicBezTo>
                <a:cubicBezTo>
                  <a:pt x="3736" y="14545"/>
                  <a:pt x="3894" y="14549"/>
                  <a:pt x="3919" y="14759"/>
                </a:cubicBezTo>
                <a:cubicBezTo>
                  <a:pt x="3932" y="14871"/>
                  <a:pt x="3656" y="15233"/>
                  <a:pt x="3572" y="15081"/>
                </a:cubicBezTo>
                <a:cubicBezTo>
                  <a:pt x="3580" y="15048"/>
                  <a:pt x="3589" y="15015"/>
                  <a:pt x="3597" y="14982"/>
                </a:cubicBezTo>
              </a:path>
              <a:path w="9079" h="3028">
                <a:moveTo>
                  <a:pt x="4812" y="14163"/>
                </a:moveTo>
                <a:cubicBezTo>
                  <a:pt x="4840" y="14140"/>
                  <a:pt x="5005" y="14022"/>
                  <a:pt x="5011" y="14139"/>
                </a:cubicBezTo>
                <a:cubicBezTo>
                  <a:pt x="4983" y="14222"/>
                  <a:pt x="4968" y="14253"/>
                  <a:pt x="4911" y="14288"/>
                </a:cubicBezTo>
                <a:cubicBezTo>
                  <a:pt x="4903" y="14296"/>
                  <a:pt x="4895" y="14304"/>
                  <a:pt x="4887" y="14312"/>
                </a:cubicBezTo>
                <a:cubicBezTo>
                  <a:pt x="4951" y="14296"/>
                  <a:pt x="5202" y="14273"/>
                  <a:pt x="5060" y="14436"/>
                </a:cubicBezTo>
                <a:cubicBezTo>
                  <a:pt x="4972" y="14480"/>
                  <a:pt x="4951" y="14497"/>
                  <a:pt x="4887" y="14486"/>
                </a:cubicBezTo>
              </a:path>
              <a:path w="9079" h="3028">
                <a:moveTo>
                  <a:pt x="4713" y="14709"/>
                </a:moveTo>
                <a:cubicBezTo>
                  <a:pt x="4831" y="14681"/>
                  <a:pt x="5131" y="14556"/>
                  <a:pt x="5234" y="14660"/>
                </a:cubicBezTo>
                <a:cubicBezTo>
                  <a:pt x="5226" y="14660"/>
                  <a:pt x="5217" y="14660"/>
                  <a:pt x="5209" y="14660"/>
                </a:cubicBezTo>
              </a:path>
              <a:path w="9079" h="3028">
                <a:moveTo>
                  <a:pt x="4762" y="15106"/>
                </a:moveTo>
                <a:cubicBezTo>
                  <a:pt x="4730" y="15187"/>
                  <a:pt x="4697" y="15252"/>
                  <a:pt x="4688" y="15354"/>
                </a:cubicBezTo>
                <a:cubicBezTo>
                  <a:pt x="4825" y="15343"/>
                  <a:pt x="4904" y="15316"/>
                  <a:pt x="5011" y="15230"/>
                </a:cubicBezTo>
              </a:path>
              <a:path w="9079" h="3028">
                <a:moveTo>
                  <a:pt x="5011" y="15032"/>
                </a:moveTo>
                <a:cubicBezTo>
                  <a:pt x="4928" y="15155"/>
                  <a:pt x="4945" y="15355"/>
                  <a:pt x="4936" y="15503"/>
                </a:cubicBezTo>
                <a:cubicBezTo>
                  <a:pt x="4936" y="15586"/>
                  <a:pt x="4936" y="15602"/>
                  <a:pt x="4936" y="15652"/>
                </a:cubicBezTo>
              </a:path>
              <a:path w="9079" h="3028">
                <a:moveTo>
                  <a:pt x="2332" y="16049"/>
                </a:moveTo>
                <a:cubicBezTo>
                  <a:pt x="2259" y="15977"/>
                  <a:pt x="2534" y="15969"/>
                  <a:pt x="2729" y="15949"/>
                </a:cubicBezTo>
                <a:cubicBezTo>
                  <a:pt x="3406" y="15880"/>
                  <a:pt x="4087" y="15935"/>
                  <a:pt x="4762" y="15974"/>
                </a:cubicBezTo>
                <a:cubicBezTo>
                  <a:pt x="5169" y="15997"/>
                  <a:pt x="5605" y="15917"/>
                  <a:pt x="6003" y="15949"/>
                </a:cubicBezTo>
                <a:cubicBezTo>
                  <a:pt x="6003" y="15957"/>
                  <a:pt x="6003" y="15966"/>
                  <a:pt x="6003" y="15974"/>
                </a:cubicBezTo>
              </a:path>
              <a:path w="9079" h="3028">
                <a:moveTo>
                  <a:pt x="4142" y="15900"/>
                </a:moveTo>
                <a:cubicBezTo>
                  <a:pt x="4170" y="15845"/>
                  <a:pt x="4178" y="15822"/>
                  <a:pt x="4167" y="15776"/>
                </a:cubicBezTo>
              </a:path>
              <a:path w="9079" h="3028">
                <a:moveTo>
                  <a:pt x="4242" y="15429"/>
                </a:moveTo>
                <a:cubicBezTo>
                  <a:pt x="4242" y="15386"/>
                  <a:pt x="4247" y="15361"/>
                  <a:pt x="4266" y="15329"/>
                </a:cubicBezTo>
              </a:path>
              <a:path w="9079" h="3028">
                <a:moveTo>
                  <a:pt x="4341" y="15180"/>
                </a:moveTo>
                <a:cubicBezTo>
                  <a:pt x="4341" y="15132"/>
                  <a:pt x="4345" y="15130"/>
                  <a:pt x="4366" y="15081"/>
                </a:cubicBezTo>
              </a:path>
              <a:path w="9079" h="3028">
                <a:moveTo>
                  <a:pt x="4539" y="13494"/>
                </a:moveTo>
                <a:lnTo>
                  <a:pt x="4539" y="13494"/>
                </a:lnTo>
              </a:path>
              <a:path w="9079" h="3028">
                <a:moveTo>
                  <a:pt x="4514" y="13271"/>
                </a:moveTo>
                <a:cubicBezTo>
                  <a:pt x="4506" y="13246"/>
                  <a:pt x="4498" y="13221"/>
                  <a:pt x="4490" y="13196"/>
                </a:cubicBezTo>
              </a:path>
              <a:path w="9079" h="3028">
                <a:moveTo>
                  <a:pt x="4514" y="13072"/>
                </a:moveTo>
                <a:cubicBezTo>
                  <a:pt x="4514" y="13055"/>
                  <a:pt x="4514" y="13039"/>
                  <a:pt x="4514" y="13022"/>
                </a:cubicBezTo>
              </a:path>
              <a:path w="9079" h="3028">
                <a:moveTo>
                  <a:pt x="4514" y="13022"/>
                </a:moveTo>
                <a:lnTo>
                  <a:pt x="4514" y="13022"/>
                </a:lnTo>
              </a:path>
              <a:path w="9079" h="3028">
                <a:moveTo>
                  <a:pt x="8979" y="13891"/>
                </a:moveTo>
                <a:cubicBezTo>
                  <a:pt x="8979" y="13899"/>
                  <a:pt x="8979" y="13907"/>
                  <a:pt x="8979" y="13915"/>
                </a:cubicBezTo>
              </a:path>
              <a:path w="9079" h="3028">
                <a:moveTo>
                  <a:pt x="8979" y="14188"/>
                </a:moveTo>
                <a:lnTo>
                  <a:pt x="8979" y="14188"/>
                </a:lnTo>
                <a:lnTo>
                  <a:pt x="8979" y="14188"/>
                </a:lnTo>
              </a:path>
              <a:path w="9079" h="3028">
                <a:moveTo>
                  <a:pt x="8979" y="14188"/>
                </a:moveTo>
                <a:lnTo>
                  <a:pt x="8979" y="14188"/>
                </a:lnTo>
              </a:path>
              <a:path w="9079" h="3028">
                <a:moveTo>
                  <a:pt x="10840" y="14238"/>
                </a:moveTo>
                <a:cubicBezTo>
                  <a:pt x="10945" y="14260"/>
                  <a:pt x="11055" y="14270"/>
                  <a:pt x="11162" y="14288"/>
                </a:cubicBezTo>
                <a:cubicBezTo>
                  <a:pt x="11228" y="14309"/>
                  <a:pt x="11243" y="14317"/>
                  <a:pt x="11286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03640" y="4697280"/>
            <a:ext cx="849240" cy="901800"/>
          </a:xfrm>
          <a:custGeom>
            <a:avLst/>
            <a:gdLst/>
            <a:ahLst/>
            <a:rect l="l" t="t" r="r" b="b"/>
            <a:pathLst>
              <a:path w="2357" h="2507">
                <a:moveTo>
                  <a:pt x="7268" y="13643"/>
                </a:moveTo>
                <a:cubicBezTo>
                  <a:pt x="7249" y="13773"/>
                  <a:pt x="7202" y="13905"/>
                  <a:pt x="7218" y="14039"/>
                </a:cubicBezTo>
                <a:cubicBezTo>
                  <a:pt x="7226" y="14064"/>
                  <a:pt x="7235" y="14089"/>
                  <a:pt x="7243" y="14114"/>
                </a:cubicBezTo>
                <a:cubicBezTo>
                  <a:pt x="7396" y="14160"/>
                  <a:pt x="7456" y="14116"/>
                  <a:pt x="7491" y="13940"/>
                </a:cubicBezTo>
                <a:cubicBezTo>
                  <a:pt x="7491" y="13899"/>
                  <a:pt x="7499" y="13883"/>
                  <a:pt x="7466" y="13891"/>
                </a:cubicBezTo>
                <a:cubicBezTo>
                  <a:pt x="7346" y="13924"/>
                  <a:pt x="7285" y="14013"/>
                  <a:pt x="7317" y="14163"/>
                </a:cubicBezTo>
                <a:cubicBezTo>
                  <a:pt x="7325" y="14171"/>
                  <a:pt x="7334" y="14180"/>
                  <a:pt x="7342" y="14188"/>
                </a:cubicBezTo>
              </a:path>
              <a:path w="2357" h="2507">
                <a:moveTo>
                  <a:pt x="7045" y="14387"/>
                </a:moveTo>
                <a:cubicBezTo>
                  <a:pt x="7034" y="14221"/>
                  <a:pt x="7024" y="14055"/>
                  <a:pt x="6995" y="13891"/>
                </a:cubicBezTo>
                <a:cubicBezTo>
                  <a:pt x="6975" y="13778"/>
                  <a:pt x="6986" y="13703"/>
                  <a:pt x="6995" y="13593"/>
                </a:cubicBezTo>
                <a:cubicBezTo>
                  <a:pt x="7104" y="13585"/>
                  <a:pt x="7209" y="13565"/>
                  <a:pt x="7317" y="13543"/>
                </a:cubicBezTo>
                <a:cubicBezTo>
                  <a:pt x="7530" y="13499"/>
                  <a:pt x="7722" y="13476"/>
                  <a:pt x="7938" y="13469"/>
                </a:cubicBezTo>
              </a:path>
              <a:path w="2357" h="2507">
                <a:moveTo>
                  <a:pt x="6424" y="13816"/>
                </a:moveTo>
                <a:cubicBezTo>
                  <a:pt x="6415" y="13891"/>
                  <a:pt x="6400" y="13963"/>
                  <a:pt x="6400" y="14039"/>
                </a:cubicBezTo>
                <a:cubicBezTo>
                  <a:pt x="6506" y="14085"/>
                  <a:pt x="6607" y="14047"/>
                  <a:pt x="6722" y="14015"/>
                </a:cubicBezTo>
              </a:path>
              <a:path w="2357" h="2507">
                <a:moveTo>
                  <a:pt x="6623" y="13692"/>
                </a:moveTo>
                <a:cubicBezTo>
                  <a:pt x="6623" y="13851"/>
                  <a:pt x="6640" y="14005"/>
                  <a:pt x="6648" y="14163"/>
                </a:cubicBezTo>
                <a:cubicBezTo>
                  <a:pt x="6648" y="14289"/>
                  <a:pt x="6641" y="14316"/>
                  <a:pt x="6672" y="14387"/>
                </a:cubicBezTo>
              </a:path>
              <a:path w="2357" h="2507">
                <a:moveTo>
                  <a:pt x="7218" y="13072"/>
                </a:moveTo>
                <a:cubicBezTo>
                  <a:pt x="7218" y="12994"/>
                  <a:pt x="7218" y="13294"/>
                  <a:pt x="7218" y="13295"/>
                </a:cubicBezTo>
                <a:cubicBezTo>
                  <a:pt x="7218" y="13367"/>
                  <a:pt x="7228" y="13416"/>
                  <a:pt x="7268" y="13469"/>
                </a:cubicBezTo>
              </a:path>
              <a:path w="2357" h="2507">
                <a:moveTo>
                  <a:pt x="7268" y="14312"/>
                </a:moveTo>
                <a:cubicBezTo>
                  <a:pt x="7268" y="14304"/>
                  <a:pt x="7268" y="14296"/>
                  <a:pt x="7268" y="14288"/>
                </a:cubicBezTo>
                <a:cubicBezTo>
                  <a:pt x="7303" y="14357"/>
                  <a:pt x="7309" y="14452"/>
                  <a:pt x="7317" y="14536"/>
                </a:cubicBezTo>
                <a:cubicBezTo>
                  <a:pt x="7394" y="14527"/>
                  <a:pt x="7462" y="14511"/>
                  <a:pt x="7541" y="14511"/>
                </a:cubicBezTo>
              </a:path>
              <a:path w="2357" h="2507">
                <a:moveTo>
                  <a:pt x="7491" y="14288"/>
                </a:moveTo>
                <a:cubicBezTo>
                  <a:pt x="7438" y="14305"/>
                  <a:pt x="7490" y="14496"/>
                  <a:pt x="7491" y="14560"/>
                </a:cubicBezTo>
                <a:cubicBezTo>
                  <a:pt x="7494" y="14705"/>
                  <a:pt x="7495" y="14650"/>
                  <a:pt x="7516" y="14734"/>
                </a:cubicBezTo>
              </a:path>
              <a:path w="2357" h="2507">
                <a:moveTo>
                  <a:pt x="6995" y="14709"/>
                </a:moveTo>
                <a:cubicBezTo>
                  <a:pt x="7065" y="14685"/>
                  <a:pt x="7142" y="14667"/>
                  <a:pt x="7218" y="14660"/>
                </a:cubicBezTo>
                <a:cubicBezTo>
                  <a:pt x="7226" y="14660"/>
                  <a:pt x="7235" y="14660"/>
                  <a:pt x="7243" y="14660"/>
                </a:cubicBezTo>
              </a:path>
              <a:path w="2357" h="2507">
                <a:moveTo>
                  <a:pt x="7045" y="14957"/>
                </a:moveTo>
                <a:cubicBezTo>
                  <a:pt x="7251" y="14910"/>
                  <a:pt x="7455" y="14855"/>
                  <a:pt x="7665" y="14833"/>
                </a:cubicBezTo>
                <a:cubicBezTo>
                  <a:pt x="7723" y="14833"/>
                  <a:pt x="7731" y="14833"/>
                  <a:pt x="7764" y="14833"/>
                </a:cubicBezTo>
              </a:path>
              <a:path w="2357" h="2507">
                <a:moveTo>
                  <a:pt x="7317" y="15180"/>
                </a:moveTo>
                <a:cubicBezTo>
                  <a:pt x="7333" y="15117"/>
                  <a:pt x="7365" y="15110"/>
                  <a:pt x="7417" y="15131"/>
                </a:cubicBezTo>
                <a:cubicBezTo>
                  <a:pt x="7453" y="15281"/>
                  <a:pt x="7344" y="15385"/>
                  <a:pt x="7243" y="15503"/>
                </a:cubicBezTo>
                <a:cubicBezTo>
                  <a:pt x="7226" y="15520"/>
                  <a:pt x="7210" y="15536"/>
                  <a:pt x="7193" y="15553"/>
                </a:cubicBezTo>
                <a:cubicBezTo>
                  <a:pt x="7298" y="15535"/>
                  <a:pt x="7386" y="15478"/>
                  <a:pt x="7491" y="15453"/>
                </a:cubicBezTo>
                <a:cubicBezTo>
                  <a:pt x="7499" y="15453"/>
                  <a:pt x="7508" y="15453"/>
                  <a:pt x="7516" y="15453"/>
                </a:cubicBezTo>
              </a:path>
              <a:path w="2357" h="2507">
                <a:moveTo>
                  <a:pt x="8260" y="13295"/>
                </a:moveTo>
                <a:cubicBezTo>
                  <a:pt x="8260" y="13470"/>
                  <a:pt x="8293" y="13621"/>
                  <a:pt x="8310" y="13791"/>
                </a:cubicBezTo>
                <a:cubicBezTo>
                  <a:pt x="8313" y="13820"/>
                  <a:pt x="8291" y="14010"/>
                  <a:pt x="8334" y="13965"/>
                </a:cubicBezTo>
              </a:path>
              <a:path w="2357" h="2507">
                <a:moveTo>
                  <a:pt x="8508" y="13171"/>
                </a:moveTo>
                <a:cubicBezTo>
                  <a:pt x="8532" y="13139"/>
                  <a:pt x="8556" y="13130"/>
                  <a:pt x="8607" y="13122"/>
                </a:cubicBezTo>
                <a:cubicBezTo>
                  <a:pt x="8665" y="13236"/>
                  <a:pt x="8585" y="13271"/>
                  <a:pt x="8533" y="13370"/>
                </a:cubicBezTo>
                <a:cubicBezTo>
                  <a:pt x="8533" y="13378"/>
                  <a:pt x="8533" y="13387"/>
                  <a:pt x="8533" y="13395"/>
                </a:cubicBezTo>
                <a:cubicBezTo>
                  <a:pt x="8595" y="13395"/>
                  <a:pt x="8632" y="13385"/>
                  <a:pt x="8682" y="13370"/>
                </a:cubicBezTo>
                <a:cubicBezTo>
                  <a:pt x="8706" y="13370"/>
                  <a:pt x="8715" y="13370"/>
                  <a:pt x="8731" y="13370"/>
                </a:cubicBezTo>
              </a:path>
              <a:path w="2357" h="2507">
                <a:moveTo>
                  <a:pt x="8533" y="13643"/>
                </a:moveTo>
                <a:cubicBezTo>
                  <a:pt x="8585" y="13643"/>
                  <a:pt x="8662" y="13637"/>
                  <a:pt x="8706" y="13618"/>
                </a:cubicBezTo>
                <a:cubicBezTo>
                  <a:pt x="8729" y="13595"/>
                  <a:pt x="8733" y="13587"/>
                  <a:pt x="8756" y="13593"/>
                </a:cubicBezTo>
              </a:path>
              <a:path w="2357" h="2507">
                <a:moveTo>
                  <a:pt x="8558" y="13816"/>
                </a:moveTo>
                <a:cubicBezTo>
                  <a:pt x="8558" y="13866"/>
                  <a:pt x="8558" y="13915"/>
                  <a:pt x="8558" y="13965"/>
                </a:cubicBezTo>
                <a:cubicBezTo>
                  <a:pt x="8619" y="13958"/>
                  <a:pt x="8650" y="13958"/>
                  <a:pt x="8682" y="13915"/>
                </a:cubicBezTo>
              </a:path>
              <a:path w="2357" h="2507">
                <a:moveTo>
                  <a:pt x="8706" y="13816"/>
                </a:moveTo>
                <a:cubicBezTo>
                  <a:pt x="8691" y="13909"/>
                  <a:pt x="8682" y="13992"/>
                  <a:pt x="8682" y="14089"/>
                </a:cubicBezTo>
                <a:cubicBezTo>
                  <a:pt x="8682" y="14114"/>
                  <a:pt x="8682" y="14138"/>
                  <a:pt x="8682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089240"/>
            <a:ext cx="1571760" cy="590760"/>
          </a:xfrm>
          <a:custGeom>
            <a:avLst/>
            <a:gdLst/>
            <a:ahLst/>
            <a:rect l="l" t="t" r="r" b="b"/>
            <a:pathLst>
              <a:path w="4367" h="1638">
                <a:moveTo>
                  <a:pt x="14288" y="12452"/>
                </a:moveTo>
                <a:cubicBezTo>
                  <a:pt x="14304" y="12569"/>
                  <a:pt x="14312" y="12679"/>
                  <a:pt x="14312" y="12799"/>
                </a:cubicBezTo>
                <a:cubicBezTo>
                  <a:pt x="14312" y="12839"/>
                  <a:pt x="14323" y="12837"/>
                  <a:pt x="14362" y="12774"/>
                </a:cubicBezTo>
              </a:path>
              <a:path w="4367" h="1638">
                <a:moveTo>
                  <a:pt x="14585" y="12502"/>
                </a:moveTo>
                <a:cubicBezTo>
                  <a:pt x="14548" y="12643"/>
                  <a:pt x="14532" y="12643"/>
                  <a:pt x="14585" y="12774"/>
                </a:cubicBezTo>
                <a:cubicBezTo>
                  <a:pt x="14700" y="12717"/>
                  <a:pt x="14787" y="12672"/>
                  <a:pt x="14660" y="12551"/>
                </a:cubicBezTo>
                <a:cubicBezTo>
                  <a:pt x="14595" y="12508"/>
                  <a:pt x="14580" y="12487"/>
                  <a:pt x="14536" y="12526"/>
                </a:cubicBezTo>
              </a:path>
              <a:path w="4367" h="1638">
                <a:moveTo>
                  <a:pt x="14015" y="12229"/>
                </a:moveTo>
                <a:cubicBezTo>
                  <a:pt x="14137" y="12194"/>
                  <a:pt x="14339" y="12219"/>
                  <a:pt x="14486" y="12204"/>
                </a:cubicBezTo>
                <a:cubicBezTo>
                  <a:pt x="14611" y="12191"/>
                  <a:pt x="14677" y="12177"/>
                  <a:pt x="14784" y="12204"/>
                </a:cubicBezTo>
              </a:path>
              <a:path w="4367" h="1638">
                <a:moveTo>
                  <a:pt x="13246" y="12229"/>
                </a:moveTo>
                <a:cubicBezTo>
                  <a:pt x="13265" y="12298"/>
                  <a:pt x="13308" y="12415"/>
                  <a:pt x="13345" y="12452"/>
                </a:cubicBezTo>
              </a:path>
              <a:path w="4367" h="1638">
                <a:moveTo>
                  <a:pt x="13370" y="12254"/>
                </a:moveTo>
                <a:cubicBezTo>
                  <a:pt x="13354" y="12295"/>
                  <a:pt x="13211" y="12560"/>
                  <a:pt x="13271" y="12502"/>
                </a:cubicBezTo>
              </a:path>
              <a:path w="4367" h="1638">
                <a:moveTo>
                  <a:pt x="13643" y="12378"/>
                </a:moveTo>
                <a:cubicBezTo>
                  <a:pt x="13643" y="12422"/>
                  <a:pt x="13646" y="12436"/>
                  <a:pt x="13618" y="12452"/>
                </a:cubicBezTo>
                <a:cubicBezTo>
                  <a:pt x="13631" y="12492"/>
                  <a:pt x="13700" y="12536"/>
                  <a:pt x="13717" y="12601"/>
                </a:cubicBezTo>
                <a:cubicBezTo>
                  <a:pt x="13735" y="12668"/>
                  <a:pt x="13690" y="12665"/>
                  <a:pt x="13643" y="12675"/>
                </a:cubicBezTo>
              </a:path>
              <a:path w="4367" h="1638">
                <a:moveTo>
                  <a:pt x="13618" y="12402"/>
                </a:moveTo>
                <a:cubicBezTo>
                  <a:pt x="13667" y="12382"/>
                  <a:pt x="13670" y="12378"/>
                  <a:pt x="13717" y="12378"/>
                </a:cubicBezTo>
              </a:path>
              <a:path w="4367" h="1638">
                <a:moveTo>
                  <a:pt x="13543" y="12229"/>
                </a:moveTo>
                <a:cubicBezTo>
                  <a:pt x="13577" y="12263"/>
                  <a:pt x="13648" y="12254"/>
                  <a:pt x="13717" y="12254"/>
                </a:cubicBezTo>
                <a:cubicBezTo>
                  <a:pt x="13742" y="12254"/>
                  <a:pt x="13750" y="12254"/>
                  <a:pt x="13717" y="12254"/>
                </a:cubicBezTo>
              </a:path>
              <a:path w="4367" h="1638">
                <a:moveTo>
                  <a:pt x="13643" y="12005"/>
                </a:moveTo>
                <a:cubicBezTo>
                  <a:pt x="13602" y="12005"/>
                  <a:pt x="13560" y="12005"/>
                  <a:pt x="13519" y="12005"/>
                </a:cubicBezTo>
                <a:cubicBezTo>
                  <a:pt x="13526" y="12056"/>
                  <a:pt x="13543" y="12078"/>
                  <a:pt x="13543" y="12129"/>
                </a:cubicBezTo>
                <a:cubicBezTo>
                  <a:pt x="13595" y="12129"/>
                  <a:pt x="13622" y="12108"/>
                  <a:pt x="13643" y="12129"/>
                </a:cubicBezTo>
                <a:cubicBezTo>
                  <a:pt x="13771" y="12259"/>
                  <a:pt x="13559" y="12258"/>
                  <a:pt x="13494" y="12254"/>
                </a:cubicBezTo>
              </a:path>
              <a:path w="4367" h="1638">
                <a:moveTo>
                  <a:pt x="14412" y="11609"/>
                </a:moveTo>
                <a:cubicBezTo>
                  <a:pt x="14360" y="11625"/>
                  <a:pt x="14169" y="11633"/>
                  <a:pt x="14139" y="11658"/>
                </a:cubicBezTo>
                <a:cubicBezTo>
                  <a:pt x="14104" y="11688"/>
                  <a:pt x="14114" y="11832"/>
                  <a:pt x="14114" y="11881"/>
                </a:cubicBezTo>
                <a:cubicBezTo>
                  <a:pt x="14219" y="11881"/>
                  <a:pt x="14276" y="11794"/>
                  <a:pt x="14387" y="11807"/>
                </a:cubicBezTo>
                <a:cubicBezTo>
                  <a:pt x="14579" y="11830"/>
                  <a:pt x="14612" y="12033"/>
                  <a:pt x="14436" y="12105"/>
                </a:cubicBezTo>
                <a:cubicBezTo>
                  <a:pt x="14329" y="12126"/>
                  <a:pt x="14305" y="12134"/>
                  <a:pt x="14238" y="12129"/>
                </a:cubicBezTo>
              </a:path>
              <a:path w="4367" h="1638">
                <a:moveTo>
                  <a:pt x="12700" y="11832"/>
                </a:moveTo>
                <a:cubicBezTo>
                  <a:pt x="12720" y="11791"/>
                  <a:pt x="12718" y="11775"/>
                  <a:pt x="12750" y="11782"/>
                </a:cubicBezTo>
                <a:cubicBezTo>
                  <a:pt x="12849" y="11926"/>
                  <a:pt x="12990" y="12061"/>
                  <a:pt x="13122" y="12179"/>
                </a:cubicBezTo>
                <a:cubicBezTo>
                  <a:pt x="13280" y="12321"/>
                  <a:pt x="13442" y="12450"/>
                  <a:pt x="13593" y="12601"/>
                </a:cubicBezTo>
                <a:cubicBezTo>
                  <a:pt x="13627" y="12635"/>
                  <a:pt x="13620" y="12691"/>
                  <a:pt x="13667" y="12700"/>
                </a:cubicBezTo>
                <a:cubicBezTo>
                  <a:pt x="13667" y="12692"/>
                  <a:pt x="13667" y="12683"/>
                  <a:pt x="13667" y="12675"/>
                </a:cubicBezTo>
              </a:path>
              <a:path w="4367" h="1638">
                <a:moveTo>
                  <a:pt x="13618" y="11931"/>
                </a:moveTo>
                <a:cubicBezTo>
                  <a:pt x="13579" y="11939"/>
                  <a:pt x="13520" y="11977"/>
                  <a:pt x="13444" y="12080"/>
                </a:cubicBezTo>
                <a:cubicBezTo>
                  <a:pt x="13242" y="12354"/>
                  <a:pt x="13088" y="12656"/>
                  <a:pt x="12874" y="12923"/>
                </a:cubicBezTo>
                <a:cubicBezTo>
                  <a:pt x="12848" y="12955"/>
                  <a:pt x="12815" y="12982"/>
                  <a:pt x="12799" y="12998"/>
                </a:cubicBezTo>
              </a:path>
              <a:path w="4367" h="1638">
                <a:moveTo>
                  <a:pt x="15354" y="11683"/>
                </a:moveTo>
                <a:cubicBezTo>
                  <a:pt x="15354" y="11868"/>
                  <a:pt x="15367" y="12046"/>
                  <a:pt x="15379" y="12229"/>
                </a:cubicBezTo>
                <a:cubicBezTo>
                  <a:pt x="15386" y="12333"/>
                  <a:pt x="15420" y="12502"/>
                  <a:pt x="15404" y="12601"/>
                </a:cubicBezTo>
                <a:cubicBezTo>
                  <a:pt x="15395" y="12654"/>
                  <a:pt x="15382" y="12694"/>
                  <a:pt x="15379" y="12750"/>
                </a:cubicBezTo>
                <a:cubicBezTo>
                  <a:pt x="15379" y="12791"/>
                  <a:pt x="15379" y="12799"/>
                  <a:pt x="15379" y="12824"/>
                </a:cubicBezTo>
                <a:cubicBezTo>
                  <a:pt x="15423" y="12818"/>
                  <a:pt x="15460" y="12804"/>
                  <a:pt x="15503" y="12799"/>
                </a:cubicBezTo>
                <a:cubicBezTo>
                  <a:pt x="15553" y="12793"/>
                  <a:pt x="15609" y="12795"/>
                  <a:pt x="15652" y="12774"/>
                </a:cubicBezTo>
                <a:cubicBezTo>
                  <a:pt x="15715" y="12743"/>
                  <a:pt x="15773" y="12750"/>
                  <a:pt x="15850" y="12750"/>
                </a:cubicBezTo>
                <a:cubicBezTo>
                  <a:pt x="15920" y="12750"/>
                  <a:pt x="15917" y="12751"/>
                  <a:pt x="15949" y="12725"/>
                </a:cubicBezTo>
                <a:cubicBezTo>
                  <a:pt x="16025" y="12663"/>
                  <a:pt x="15984" y="12650"/>
                  <a:pt x="15974" y="12551"/>
                </a:cubicBezTo>
                <a:cubicBezTo>
                  <a:pt x="15963" y="12438"/>
                  <a:pt x="15967" y="12316"/>
                  <a:pt x="15949" y="12204"/>
                </a:cubicBezTo>
                <a:cubicBezTo>
                  <a:pt x="15937" y="12132"/>
                  <a:pt x="15911" y="12042"/>
                  <a:pt x="15900" y="11981"/>
                </a:cubicBezTo>
                <a:cubicBezTo>
                  <a:pt x="15884" y="11896"/>
                  <a:pt x="15875" y="11790"/>
                  <a:pt x="15850" y="11708"/>
                </a:cubicBezTo>
                <a:cubicBezTo>
                  <a:pt x="15830" y="11643"/>
                  <a:pt x="15788" y="11567"/>
                  <a:pt x="15776" y="11509"/>
                </a:cubicBezTo>
                <a:cubicBezTo>
                  <a:pt x="15768" y="11471"/>
                  <a:pt x="15782" y="11389"/>
                  <a:pt x="15751" y="11361"/>
                </a:cubicBezTo>
                <a:cubicBezTo>
                  <a:pt x="15726" y="11338"/>
                  <a:pt x="15590" y="11374"/>
                  <a:pt x="15577" y="11385"/>
                </a:cubicBezTo>
                <a:cubicBezTo>
                  <a:pt x="15538" y="11418"/>
                  <a:pt x="15405" y="11544"/>
                  <a:pt x="15379" y="11584"/>
                </a:cubicBezTo>
                <a:cubicBezTo>
                  <a:pt x="15338" y="11647"/>
                  <a:pt x="15295" y="11691"/>
                  <a:pt x="15255" y="11757"/>
                </a:cubicBezTo>
                <a:cubicBezTo>
                  <a:pt x="15234" y="11791"/>
                  <a:pt x="15203" y="11867"/>
                  <a:pt x="15205" y="11906"/>
                </a:cubicBezTo>
                <a:cubicBezTo>
                  <a:pt x="15207" y="11945"/>
                  <a:pt x="15293" y="11942"/>
                  <a:pt x="15329" y="11931"/>
                </a:cubicBezTo>
                <a:cubicBezTo>
                  <a:pt x="15329" y="11906"/>
                  <a:pt x="15329" y="11898"/>
                  <a:pt x="15354" y="11906"/>
                </a:cubicBezTo>
              </a:path>
              <a:path w="4367" h="1638">
                <a:moveTo>
                  <a:pt x="15478" y="12204"/>
                </a:moveTo>
                <a:cubicBezTo>
                  <a:pt x="15478" y="12137"/>
                  <a:pt x="15499" y="12149"/>
                  <a:pt x="15577" y="12129"/>
                </a:cubicBezTo>
                <a:cubicBezTo>
                  <a:pt x="15683" y="12101"/>
                  <a:pt x="15767" y="12125"/>
                  <a:pt x="15875" y="12105"/>
                </a:cubicBezTo>
                <a:cubicBezTo>
                  <a:pt x="15883" y="12105"/>
                  <a:pt x="15892" y="12105"/>
                  <a:pt x="15900" y="12105"/>
                </a:cubicBezTo>
              </a:path>
              <a:path w="4367" h="1638">
                <a:moveTo>
                  <a:pt x="15602" y="12378"/>
                </a:moveTo>
                <a:cubicBezTo>
                  <a:pt x="15594" y="12487"/>
                  <a:pt x="15577" y="12589"/>
                  <a:pt x="15577" y="12700"/>
                </a:cubicBezTo>
              </a:path>
              <a:path w="4367" h="1638">
                <a:moveTo>
                  <a:pt x="15751" y="12427"/>
                </a:moveTo>
                <a:cubicBezTo>
                  <a:pt x="15743" y="12468"/>
                  <a:pt x="15698" y="12557"/>
                  <a:pt x="15726" y="12601"/>
                </a:cubicBezTo>
                <a:cubicBezTo>
                  <a:pt x="15734" y="12601"/>
                  <a:pt x="15743" y="12601"/>
                  <a:pt x="15751" y="12601"/>
                </a:cubicBezTo>
                <a:cubicBezTo>
                  <a:pt x="15818" y="12572"/>
                  <a:pt x="15833" y="12536"/>
                  <a:pt x="15850" y="12452"/>
                </a:cubicBezTo>
                <a:cubicBezTo>
                  <a:pt x="15762" y="12441"/>
                  <a:pt x="15724" y="12433"/>
                  <a:pt x="15701" y="12353"/>
                </a:cubicBezTo>
              </a:path>
              <a:path w="4367" h="1638">
                <a:moveTo>
                  <a:pt x="15553" y="11807"/>
                </a:moveTo>
                <a:cubicBezTo>
                  <a:pt x="15502" y="11824"/>
                  <a:pt x="15528" y="11923"/>
                  <a:pt x="15528" y="11981"/>
                </a:cubicBezTo>
                <a:cubicBezTo>
                  <a:pt x="15528" y="12022"/>
                  <a:pt x="15528" y="12030"/>
                  <a:pt x="15528" y="12055"/>
                </a:cubicBezTo>
              </a:path>
              <a:path w="4367" h="1638">
                <a:moveTo>
                  <a:pt x="15726" y="11807"/>
                </a:moveTo>
                <a:cubicBezTo>
                  <a:pt x="15712" y="11875"/>
                  <a:pt x="15701" y="11931"/>
                  <a:pt x="15701" y="12005"/>
                </a:cubicBezTo>
                <a:cubicBezTo>
                  <a:pt x="15805" y="12005"/>
                  <a:pt x="15821" y="12015"/>
                  <a:pt x="15850" y="11906"/>
                </a:cubicBezTo>
                <a:cubicBezTo>
                  <a:pt x="15874" y="11815"/>
                  <a:pt x="15796" y="11819"/>
                  <a:pt x="15751" y="11832"/>
                </a:cubicBezTo>
              </a:path>
              <a:path w="4367" h="1638">
                <a:moveTo>
                  <a:pt x="14932" y="12229"/>
                </a:moveTo>
                <a:cubicBezTo>
                  <a:pt x="14940" y="12290"/>
                  <a:pt x="14957" y="12338"/>
                  <a:pt x="14957" y="12402"/>
                </a:cubicBezTo>
              </a:path>
              <a:path w="4367" h="1638">
                <a:moveTo>
                  <a:pt x="14883" y="12328"/>
                </a:moveTo>
                <a:cubicBezTo>
                  <a:pt x="14933" y="12328"/>
                  <a:pt x="14982" y="12328"/>
                  <a:pt x="15032" y="12328"/>
                </a:cubicBezTo>
              </a:path>
              <a:path w="4367" h="1638">
                <a:moveTo>
                  <a:pt x="16148" y="12179"/>
                </a:moveTo>
                <a:cubicBezTo>
                  <a:pt x="16204" y="12134"/>
                  <a:pt x="16249" y="12110"/>
                  <a:pt x="16321" y="12105"/>
                </a:cubicBezTo>
                <a:cubicBezTo>
                  <a:pt x="16329" y="12105"/>
                  <a:pt x="16338" y="12105"/>
                  <a:pt x="16346" y="12105"/>
                </a:cubicBezTo>
              </a:path>
              <a:path w="4367" h="1638">
                <a:moveTo>
                  <a:pt x="16222" y="12278"/>
                </a:moveTo>
                <a:cubicBezTo>
                  <a:pt x="16266" y="12270"/>
                  <a:pt x="16300" y="12254"/>
                  <a:pt x="16346" y="12254"/>
                </a:cubicBezTo>
              </a:path>
              <a:path w="4367" h="1638">
                <a:moveTo>
                  <a:pt x="16446" y="12254"/>
                </a:moveTo>
                <a:cubicBezTo>
                  <a:pt x="16602" y="12305"/>
                  <a:pt x="16772" y="12236"/>
                  <a:pt x="16942" y="12229"/>
                </a:cubicBezTo>
                <a:cubicBezTo>
                  <a:pt x="17020" y="12226"/>
                  <a:pt x="17050" y="12206"/>
                  <a:pt x="17066" y="12254"/>
                </a:cubicBezTo>
              </a:path>
              <a:path w="4367" h="1638">
                <a:moveTo>
                  <a:pt x="16594" y="12502"/>
                </a:moveTo>
                <a:cubicBezTo>
                  <a:pt x="16575" y="12616"/>
                  <a:pt x="16543" y="12734"/>
                  <a:pt x="16520" y="12849"/>
                </a:cubicBezTo>
              </a:path>
              <a:path w="4367" h="1638">
                <a:moveTo>
                  <a:pt x="16867" y="12452"/>
                </a:moveTo>
                <a:cubicBezTo>
                  <a:pt x="16867" y="12567"/>
                  <a:pt x="16799" y="12659"/>
                  <a:pt x="16818" y="12774"/>
                </a:cubicBezTo>
                <a:cubicBezTo>
                  <a:pt x="16826" y="12774"/>
                  <a:pt x="16834" y="12774"/>
                  <a:pt x="16842" y="12774"/>
                </a:cubicBezTo>
                <a:cubicBezTo>
                  <a:pt x="16920" y="12748"/>
                  <a:pt x="17086" y="12664"/>
                  <a:pt x="16966" y="12551"/>
                </a:cubicBezTo>
                <a:cubicBezTo>
                  <a:pt x="16941" y="12535"/>
                  <a:pt x="16917" y="12518"/>
                  <a:pt x="16892" y="12502"/>
                </a:cubicBezTo>
              </a:path>
              <a:path w="4367" h="1638">
                <a:moveTo>
                  <a:pt x="16446" y="11708"/>
                </a:moveTo>
                <a:cubicBezTo>
                  <a:pt x="16434" y="11850"/>
                  <a:pt x="16421" y="11986"/>
                  <a:pt x="16421" y="12129"/>
                </a:cubicBezTo>
              </a:path>
              <a:path w="4367" h="1638">
                <a:moveTo>
                  <a:pt x="16743" y="11609"/>
                </a:moveTo>
                <a:cubicBezTo>
                  <a:pt x="16657" y="11685"/>
                  <a:pt x="16581" y="11698"/>
                  <a:pt x="16570" y="11807"/>
                </a:cubicBezTo>
                <a:cubicBezTo>
                  <a:pt x="16570" y="11848"/>
                  <a:pt x="16570" y="11856"/>
                  <a:pt x="16570" y="11881"/>
                </a:cubicBezTo>
                <a:cubicBezTo>
                  <a:pt x="16633" y="11837"/>
                  <a:pt x="16786" y="11738"/>
                  <a:pt x="16818" y="11881"/>
                </a:cubicBezTo>
                <a:cubicBezTo>
                  <a:pt x="16836" y="11961"/>
                  <a:pt x="16766" y="12150"/>
                  <a:pt x="16644" y="12080"/>
                </a:cubicBezTo>
                <a:cubicBezTo>
                  <a:pt x="16644" y="12072"/>
                  <a:pt x="16644" y="12063"/>
                  <a:pt x="16644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71720" y="5000760"/>
            <a:ext cx="2303280" cy="1812960"/>
          </a:xfrm>
          <a:custGeom>
            <a:avLst/>
            <a:gdLst/>
            <a:ahLst/>
            <a:rect l="l" t="t" r="r" b="b"/>
            <a:pathLst>
              <a:path w="6400" h="5036">
                <a:moveTo>
                  <a:pt x="9203" y="13915"/>
                </a:moveTo>
                <a:cubicBezTo>
                  <a:pt x="9319" y="13890"/>
                  <a:pt x="9377" y="13938"/>
                  <a:pt x="9302" y="14064"/>
                </a:cubicBezTo>
                <a:cubicBezTo>
                  <a:pt x="9263" y="14103"/>
                  <a:pt x="9246" y="14105"/>
                  <a:pt x="9252" y="14139"/>
                </a:cubicBezTo>
                <a:cubicBezTo>
                  <a:pt x="9293" y="14139"/>
                  <a:pt x="9335" y="14139"/>
                  <a:pt x="9376" y="14139"/>
                </a:cubicBezTo>
              </a:path>
              <a:path w="6400" h="5036">
                <a:moveTo>
                  <a:pt x="8508" y="15131"/>
                </a:moveTo>
                <a:cubicBezTo>
                  <a:pt x="8508" y="15006"/>
                  <a:pt x="8540" y="15328"/>
                  <a:pt x="8533" y="15453"/>
                </a:cubicBezTo>
                <a:cubicBezTo>
                  <a:pt x="8526" y="15569"/>
                  <a:pt x="8508" y="15868"/>
                  <a:pt x="8508" y="15751"/>
                </a:cubicBezTo>
              </a:path>
              <a:path w="6400" h="5036">
                <a:moveTo>
                  <a:pt x="8880" y="14982"/>
                </a:moveTo>
                <a:cubicBezTo>
                  <a:pt x="8893" y="15084"/>
                  <a:pt x="8905" y="15177"/>
                  <a:pt x="8905" y="15280"/>
                </a:cubicBezTo>
              </a:path>
              <a:path w="6400" h="5036">
                <a:moveTo>
                  <a:pt x="8806" y="15429"/>
                </a:moveTo>
                <a:cubicBezTo>
                  <a:pt x="8913" y="15429"/>
                  <a:pt x="9021" y="15429"/>
                  <a:pt x="9128" y="15429"/>
                </a:cubicBezTo>
              </a:path>
              <a:path w="6400" h="5036">
                <a:moveTo>
                  <a:pt x="8880" y="15677"/>
                </a:moveTo>
                <a:cubicBezTo>
                  <a:pt x="8921" y="15621"/>
                  <a:pt x="8976" y="15627"/>
                  <a:pt x="9054" y="15627"/>
                </a:cubicBezTo>
                <a:cubicBezTo>
                  <a:pt x="9025" y="15684"/>
                  <a:pt x="8865" y="15848"/>
                  <a:pt x="8880" y="15900"/>
                </a:cubicBezTo>
                <a:cubicBezTo>
                  <a:pt x="8888" y="15900"/>
                  <a:pt x="8897" y="15900"/>
                  <a:pt x="8905" y="15900"/>
                </a:cubicBezTo>
                <a:cubicBezTo>
                  <a:pt x="8998" y="15890"/>
                  <a:pt x="9089" y="15868"/>
                  <a:pt x="9178" y="15850"/>
                </a:cubicBezTo>
                <a:cubicBezTo>
                  <a:pt x="9186" y="15850"/>
                  <a:pt x="9195" y="15850"/>
                  <a:pt x="9203" y="15850"/>
                </a:cubicBezTo>
              </a:path>
              <a:path w="6400" h="5036">
                <a:moveTo>
                  <a:pt x="4341" y="16297"/>
                </a:moveTo>
                <a:cubicBezTo>
                  <a:pt x="4404" y="16381"/>
                  <a:pt x="4497" y="16479"/>
                  <a:pt x="4564" y="16570"/>
                </a:cubicBezTo>
                <a:cubicBezTo>
                  <a:pt x="4694" y="16747"/>
                  <a:pt x="4820" y="16929"/>
                  <a:pt x="4936" y="17115"/>
                </a:cubicBezTo>
                <a:cubicBezTo>
                  <a:pt x="4971" y="17171"/>
                  <a:pt x="5063" y="17242"/>
                  <a:pt x="5085" y="17289"/>
                </a:cubicBezTo>
                <a:cubicBezTo>
                  <a:pt x="5085" y="17314"/>
                  <a:pt x="5085" y="17322"/>
                  <a:pt x="5085" y="17338"/>
                </a:cubicBezTo>
              </a:path>
              <a:path w="6400" h="5036">
                <a:moveTo>
                  <a:pt x="5060" y="16247"/>
                </a:moveTo>
                <a:cubicBezTo>
                  <a:pt x="5008" y="16226"/>
                  <a:pt x="4999" y="16230"/>
                  <a:pt x="4936" y="16321"/>
                </a:cubicBezTo>
                <a:cubicBezTo>
                  <a:pt x="4784" y="16539"/>
                  <a:pt x="4673" y="16786"/>
                  <a:pt x="4539" y="17016"/>
                </a:cubicBezTo>
                <a:cubicBezTo>
                  <a:pt x="4487" y="17106"/>
                  <a:pt x="4455" y="17204"/>
                  <a:pt x="4415" y="17289"/>
                </a:cubicBezTo>
                <a:cubicBezTo>
                  <a:pt x="4410" y="17300"/>
                  <a:pt x="4361" y="17364"/>
                  <a:pt x="4341" y="17388"/>
                </a:cubicBezTo>
                <a:cubicBezTo>
                  <a:pt x="4318" y="17411"/>
                  <a:pt x="4310" y="17415"/>
                  <a:pt x="4316" y="17438"/>
                </a:cubicBezTo>
              </a:path>
              <a:path w="6400" h="5036">
                <a:moveTo>
                  <a:pt x="8731" y="16173"/>
                </a:moveTo>
                <a:cubicBezTo>
                  <a:pt x="8731" y="16165"/>
                  <a:pt x="8731" y="16156"/>
                  <a:pt x="8731" y="16148"/>
                </a:cubicBezTo>
                <a:cubicBezTo>
                  <a:pt x="8724" y="16175"/>
                  <a:pt x="8690" y="16277"/>
                  <a:pt x="8632" y="16346"/>
                </a:cubicBezTo>
                <a:cubicBezTo>
                  <a:pt x="8547" y="16447"/>
                  <a:pt x="8441" y="16478"/>
                  <a:pt x="8334" y="16545"/>
                </a:cubicBezTo>
                <a:cubicBezTo>
                  <a:pt x="8244" y="16602"/>
                  <a:pt x="8155" y="16666"/>
                  <a:pt x="8062" y="16718"/>
                </a:cubicBezTo>
                <a:cubicBezTo>
                  <a:pt x="7957" y="16777"/>
                  <a:pt x="7841" y="16841"/>
                  <a:pt x="7739" y="16892"/>
                </a:cubicBezTo>
                <a:cubicBezTo>
                  <a:pt x="7642" y="16941"/>
                  <a:pt x="7540" y="16997"/>
                  <a:pt x="7441" y="17041"/>
                </a:cubicBezTo>
                <a:cubicBezTo>
                  <a:pt x="7333" y="17089"/>
                  <a:pt x="7230" y="17146"/>
                  <a:pt x="7119" y="17190"/>
                </a:cubicBezTo>
                <a:cubicBezTo>
                  <a:pt x="7041" y="17221"/>
                  <a:pt x="6977" y="17259"/>
                  <a:pt x="6896" y="17289"/>
                </a:cubicBezTo>
                <a:cubicBezTo>
                  <a:pt x="6779" y="17333"/>
                  <a:pt x="6669" y="17336"/>
                  <a:pt x="6548" y="17363"/>
                </a:cubicBezTo>
                <a:cubicBezTo>
                  <a:pt x="6438" y="17388"/>
                  <a:pt x="6302" y="17410"/>
                  <a:pt x="6201" y="17462"/>
                </a:cubicBezTo>
                <a:cubicBezTo>
                  <a:pt x="6095" y="17517"/>
                  <a:pt x="5993" y="17570"/>
                  <a:pt x="5879" y="17611"/>
                </a:cubicBezTo>
                <a:cubicBezTo>
                  <a:pt x="5819" y="17632"/>
                  <a:pt x="5718" y="17690"/>
                  <a:pt x="5655" y="17686"/>
                </a:cubicBezTo>
                <a:cubicBezTo>
                  <a:pt x="5631" y="17686"/>
                  <a:pt x="5623" y="17686"/>
                  <a:pt x="5631" y="17661"/>
                </a:cubicBezTo>
              </a:path>
              <a:path w="6400" h="5036">
                <a:moveTo>
                  <a:pt x="5879" y="17314"/>
                </a:moveTo>
                <a:cubicBezTo>
                  <a:pt x="5814" y="17421"/>
                  <a:pt x="5725" y="17510"/>
                  <a:pt x="5655" y="17611"/>
                </a:cubicBezTo>
                <a:cubicBezTo>
                  <a:pt x="5598" y="17693"/>
                  <a:pt x="5700" y="17717"/>
                  <a:pt x="5755" y="17760"/>
                </a:cubicBezTo>
                <a:cubicBezTo>
                  <a:pt x="5777" y="17783"/>
                  <a:pt x="5782" y="17791"/>
                  <a:pt x="5804" y="17785"/>
                </a:cubicBezTo>
              </a:path>
              <a:path w="6400" h="5036">
                <a:moveTo>
                  <a:pt x="4812" y="17636"/>
                </a:moveTo>
                <a:cubicBezTo>
                  <a:pt x="4726" y="17657"/>
                  <a:pt x="4762" y="17780"/>
                  <a:pt x="4738" y="17859"/>
                </a:cubicBezTo>
                <a:cubicBezTo>
                  <a:pt x="4718" y="17925"/>
                  <a:pt x="4738" y="17942"/>
                  <a:pt x="4738" y="18008"/>
                </a:cubicBezTo>
              </a:path>
              <a:path w="6400" h="5036">
                <a:moveTo>
                  <a:pt x="4514" y="18182"/>
                </a:moveTo>
                <a:cubicBezTo>
                  <a:pt x="4608" y="18182"/>
                  <a:pt x="4986" y="18133"/>
                  <a:pt x="5011" y="18207"/>
                </a:cubicBezTo>
              </a:path>
              <a:path w="6400" h="5036">
                <a:moveTo>
                  <a:pt x="4663" y="18380"/>
                </a:moveTo>
                <a:cubicBezTo>
                  <a:pt x="4721" y="18380"/>
                  <a:pt x="4779" y="18380"/>
                  <a:pt x="4837" y="18380"/>
                </a:cubicBezTo>
                <a:cubicBezTo>
                  <a:pt x="4815" y="18514"/>
                  <a:pt x="4749" y="18567"/>
                  <a:pt x="4638" y="18653"/>
                </a:cubicBezTo>
                <a:cubicBezTo>
                  <a:pt x="4588" y="18692"/>
                  <a:pt x="4548" y="18716"/>
                  <a:pt x="4490" y="18728"/>
                </a:cubicBezTo>
                <a:cubicBezTo>
                  <a:pt x="4515" y="18802"/>
                  <a:pt x="4647" y="18765"/>
                  <a:pt x="4713" y="18752"/>
                </a:cubicBezTo>
                <a:cubicBezTo>
                  <a:pt x="4792" y="18737"/>
                  <a:pt x="4856" y="18728"/>
                  <a:pt x="4936" y="18728"/>
                </a:cubicBezTo>
              </a:path>
              <a:path w="6400" h="5036">
                <a:moveTo>
                  <a:pt x="3572" y="17462"/>
                </a:moveTo>
                <a:cubicBezTo>
                  <a:pt x="3524" y="17534"/>
                  <a:pt x="3514" y="17603"/>
                  <a:pt x="3497" y="17686"/>
                </a:cubicBezTo>
                <a:cubicBezTo>
                  <a:pt x="3481" y="17764"/>
                  <a:pt x="3451" y="17877"/>
                  <a:pt x="3473" y="17959"/>
                </a:cubicBezTo>
                <a:cubicBezTo>
                  <a:pt x="3490" y="18023"/>
                  <a:pt x="3543" y="18094"/>
                  <a:pt x="3597" y="18132"/>
                </a:cubicBezTo>
                <a:cubicBezTo>
                  <a:pt x="3659" y="18176"/>
                  <a:pt x="3756" y="18135"/>
                  <a:pt x="3820" y="18107"/>
                </a:cubicBezTo>
                <a:cubicBezTo>
                  <a:pt x="3883" y="18080"/>
                  <a:pt x="3920" y="18031"/>
                  <a:pt x="3969" y="17983"/>
                </a:cubicBezTo>
                <a:cubicBezTo>
                  <a:pt x="3995" y="17958"/>
                  <a:pt x="4010" y="17897"/>
                  <a:pt x="3994" y="17859"/>
                </a:cubicBezTo>
                <a:cubicBezTo>
                  <a:pt x="3984" y="17835"/>
                  <a:pt x="3916" y="17790"/>
                  <a:pt x="3894" y="17785"/>
                </a:cubicBezTo>
                <a:cubicBezTo>
                  <a:pt x="3833" y="17772"/>
                  <a:pt x="3815" y="17795"/>
                  <a:pt x="3770" y="17810"/>
                </a:cubicBezTo>
                <a:cubicBezTo>
                  <a:pt x="3733" y="17822"/>
                  <a:pt x="3706" y="17909"/>
                  <a:pt x="3696" y="17959"/>
                </a:cubicBezTo>
                <a:cubicBezTo>
                  <a:pt x="3683" y="18027"/>
                  <a:pt x="3703" y="18079"/>
                  <a:pt x="3721" y="18132"/>
                </a:cubicBezTo>
                <a:cubicBezTo>
                  <a:pt x="3721" y="18157"/>
                  <a:pt x="3721" y="18165"/>
                  <a:pt x="3721" y="18182"/>
                </a:cubicBezTo>
              </a:path>
              <a:path w="6400" h="5036">
                <a:moveTo>
                  <a:pt x="5308" y="17512"/>
                </a:moveTo>
                <a:cubicBezTo>
                  <a:pt x="5247" y="17496"/>
                  <a:pt x="5187" y="17483"/>
                  <a:pt x="5135" y="17462"/>
                </a:cubicBezTo>
                <a:cubicBezTo>
                  <a:pt x="5095" y="17446"/>
                  <a:pt x="5089" y="17459"/>
                  <a:pt x="5060" y="17438"/>
                </a:cubicBezTo>
                <a:cubicBezTo>
                  <a:pt x="5004" y="17399"/>
                  <a:pt x="5002" y="17406"/>
                  <a:pt x="4936" y="17388"/>
                </a:cubicBezTo>
                <a:cubicBezTo>
                  <a:pt x="4899" y="17378"/>
                  <a:pt x="4855" y="17350"/>
                  <a:pt x="4812" y="17338"/>
                </a:cubicBezTo>
                <a:cubicBezTo>
                  <a:pt x="4756" y="17323"/>
                  <a:pt x="4688" y="17277"/>
                  <a:pt x="4638" y="17264"/>
                </a:cubicBezTo>
                <a:cubicBezTo>
                  <a:pt x="4575" y="17248"/>
                  <a:pt x="4502" y="17256"/>
                  <a:pt x="4440" y="17239"/>
                </a:cubicBezTo>
                <a:cubicBezTo>
                  <a:pt x="4350" y="17214"/>
                  <a:pt x="4255" y="17196"/>
                  <a:pt x="4167" y="17165"/>
                </a:cubicBezTo>
                <a:cubicBezTo>
                  <a:pt x="4079" y="17134"/>
                  <a:pt x="4002" y="17100"/>
                  <a:pt x="3919" y="17066"/>
                </a:cubicBezTo>
                <a:cubicBezTo>
                  <a:pt x="3812" y="17022"/>
                  <a:pt x="3686" y="17041"/>
                  <a:pt x="3572" y="17041"/>
                </a:cubicBezTo>
                <a:cubicBezTo>
                  <a:pt x="3474" y="17041"/>
                  <a:pt x="3392" y="17056"/>
                  <a:pt x="3299" y="17066"/>
                </a:cubicBezTo>
                <a:cubicBezTo>
                  <a:pt x="3213" y="17075"/>
                  <a:pt x="3152" y="17092"/>
                  <a:pt x="3076" y="17140"/>
                </a:cubicBezTo>
                <a:cubicBezTo>
                  <a:pt x="3030" y="17169"/>
                  <a:pt x="2977" y="17261"/>
                  <a:pt x="2977" y="17314"/>
                </a:cubicBezTo>
                <a:cubicBezTo>
                  <a:pt x="2977" y="17375"/>
                  <a:pt x="2999" y="17433"/>
                  <a:pt x="3026" y="17487"/>
                </a:cubicBezTo>
                <a:cubicBezTo>
                  <a:pt x="3050" y="17535"/>
                  <a:pt x="3094" y="17590"/>
                  <a:pt x="3125" y="17636"/>
                </a:cubicBezTo>
                <a:cubicBezTo>
                  <a:pt x="3163" y="17693"/>
                  <a:pt x="3206" y="17759"/>
                  <a:pt x="3249" y="17810"/>
                </a:cubicBezTo>
                <a:cubicBezTo>
                  <a:pt x="3316" y="17889"/>
                  <a:pt x="3337" y="17915"/>
                  <a:pt x="3373" y="18008"/>
                </a:cubicBezTo>
                <a:cubicBezTo>
                  <a:pt x="3405" y="18090"/>
                  <a:pt x="3420" y="18143"/>
                  <a:pt x="3423" y="18231"/>
                </a:cubicBezTo>
                <a:cubicBezTo>
                  <a:pt x="3427" y="18344"/>
                  <a:pt x="3420" y="18447"/>
                  <a:pt x="3448" y="18554"/>
                </a:cubicBezTo>
                <a:cubicBezTo>
                  <a:pt x="3473" y="18648"/>
                  <a:pt x="3523" y="18762"/>
                  <a:pt x="3597" y="18827"/>
                </a:cubicBezTo>
                <a:cubicBezTo>
                  <a:pt x="3651" y="18873"/>
                  <a:pt x="3698" y="18871"/>
                  <a:pt x="3770" y="18876"/>
                </a:cubicBezTo>
                <a:cubicBezTo>
                  <a:pt x="3840" y="18881"/>
                  <a:pt x="3900" y="18857"/>
                  <a:pt x="3969" y="18852"/>
                </a:cubicBezTo>
                <a:cubicBezTo>
                  <a:pt x="4035" y="18847"/>
                  <a:pt x="4083" y="18862"/>
                  <a:pt x="4142" y="18876"/>
                </a:cubicBezTo>
                <a:cubicBezTo>
                  <a:pt x="4217" y="18894"/>
                  <a:pt x="4286" y="18899"/>
                  <a:pt x="4366" y="18901"/>
                </a:cubicBezTo>
                <a:cubicBezTo>
                  <a:pt x="4502" y="18905"/>
                  <a:pt x="4630" y="18911"/>
                  <a:pt x="4762" y="18926"/>
                </a:cubicBezTo>
                <a:cubicBezTo>
                  <a:pt x="4873" y="18938"/>
                  <a:pt x="4990" y="18922"/>
                  <a:pt x="5085" y="18901"/>
                </a:cubicBezTo>
                <a:cubicBezTo>
                  <a:pt x="5204" y="18875"/>
                  <a:pt x="5301" y="18844"/>
                  <a:pt x="5407" y="18777"/>
                </a:cubicBezTo>
                <a:cubicBezTo>
                  <a:pt x="5501" y="18718"/>
                  <a:pt x="5582" y="18606"/>
                  <a:pt x="5631" y="18504"/>
                </a:cubicBezTo>
                <a:cubicBezTo>
                  <a:pt x="5667" y="18429"/>
                  <a:pt x="5694" y="18336"/>
                  <a:pt x="5705" y="18256"/>
                </a:cubicBezTo>
                <a:cubicBezTo>
                  <a:pt x="5715" y="18184"/>
                  <a:pt x="5721" y="18071"/>
                  <a:pt x="5680" y="18008"/>
                </a:cubicBezTo>
                <a:cubicBezTo>
                  <a:pt x="5634" y="17938"/>
                  <a:pt x="5562" y="17906"/>
                  <a:pt x="5507" y="17859"/>
                </a:cubicBezTo>
                <a:cubicBezTo>
                  <a:pt x="5472" y="17829"/>
                  <a:pt x="5410" y="17778"/>
                  <a:pt x="5383" y="17735"/>
                </a:cubicBezTo>
                <a:cubicBezTo>
                  <a:pt x="5357" y="17695"/>
                  <a:pt x="5346" y="17647"/>
                  <a:pt x="5308" y="17611"/>
                </a:cubicBezTo>
                <a:cubicBezTo>
                  <a:pt x="5285" y="17589"/>
                  <a:pt x="5263" y="17606"/>
                  <a:pt x="5234" y="175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89040" y="4991040"/>
            <a:ext cx="46080" cy="322200"/>
          </a:xfrm>
          <a:custGeom>
            <a:avLst/>
            <a:gdLst/>
            <a:ahLst/>
            <a:rect l="l" t="t" r="r" b="b"/>
            <a:pathLst>
              <a:path w="125" h="894">
                <a:moveTo>
                  <a:pt x="4415" y="14759"/>
                </a:moveTo>
                <a:cubicBezTo>
                  <a:pt x="4415" y="14751"/>
                  <a:pt x="4415" y="14742"/>
                  <a:pt x="4415" y="14734"/>
                </a:cubicBezTo>
              </a:path>
              <a:path w="125" h="894">
                <a:moveTo>
                  <a:pt x="4490" y="14536"/>
                </a:moveTo>
                <a:cubicBezTo>
                  <a:pt x="4482" y="14519"/>
                  <a:pt x="4473" y="14503"/>
                  <a:pt x="4465" y="14486"/>
                </a:cubicBezTo>
              </a:path>
              <a:path w="125" h="894">
                <a:moveTo>
                  <a:pt x="4465" y="14486"/>
                </a:moveTo>
                <a:lnTo>
                  <a:pt x="4465" y="14486"/>
                </a:lnTo>
              </a:path>
              <a:path w="125" h="894">
                <a:moveTo>
                  <a:pt x="4514" y="14263"/>
                </a:moveTo>
                <a:cubicBezTo>
                  <a:pt x="4506" y="14246"/>
                  <a:pt x="4498" y="14230"/>
                  <a:pt x="4490" y="14213"/>
                </a:cubicBezTo>
              </a:path>
              <a:path w="125" h="894">
                <a:moveTo>
                  <a:pt x="4539" y="13940"/>
                </a:moveTo>
                <a:cubicBezTo>
                  <a:pt x="4539" y="13915"/>
                  <a:pt x="4539" y="13891"/>
                  <a:pt x="4539" y="13866"/>
                </a:cubicBezTo>
              </a:path>
              <a:path w="125" h="894">
                <a:moveTo>
                  <a:pt x="4539" y="13866"/>
                </a:moveTo>
                <a:lnTo>
                  <a:pt x="4539" y="138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25760" y="4857840"/>
            <a:ext cx="1728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4564" y="13742"/>
                </a:moveTo>
                <a:cubicBezTo>
                  <a:pt x="4544" y="13695"/>
                  <a:pt x="4542" y="13679"/>
                  <a:pt x="4514" y="13643"/>
                </a:cubicBezTo>
              </a:path>
              <a:path w="51" h="249">
                <a:moveTo>
                  <a:pt x="4539" y="13593"/>
                </a:moveTo>
                <a:cubicBezTo>
                  <a:pt x="4539" y="13552"/>
                  <a:pt x="4539" y="13527"/>
                  <a:pt x="4539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6040" y="4616280"/>
            <a:ext cx="9720" cy="44640"/>
          </a:xfrm>
          <a:custGeom>
            <a:avLst/>
            <a:gdLst/>
            <a:ahLst/>
            <a:rect l="l" t="t" r="r" b="b"/>
            <a:pathLst>
              <a:path w="25" h="125">
                <a:moveTo>
                  <a:pt x="4490" y="12948"/>
                </a:moveTo>
                <a:cubicBezTo>
                  <a:pt x="4490" y="12884"/>
                  <a:pt x="4489" y="12884"/>
                  <a:pt x="4514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25760" y="4017960"/>
            <a:ext cx="106200" cy="581040"/>
          </a:xfrm>
          <a:custGeom>
            <a:avLst/>
            <a:gdLst/>
            <a:ahLst/>
            <a:rect l="l" t="t" r="r" b="b"/>
            <a:pathLst>
              <a:path w="299" h="1613">
                <a:moveTo>
                  <a:pt x="4514" y="12774"/>
                </a:moveTo>
                <a:cubicBezTo>
                  <a:pt x="4555" y="12735"/>
                  <a:pt x="4563" y="12705"/>
                  <a:pt x="4539" y="12650"/>
                </a:cubicBezTo>
              </a:path>
              <a:path w="299" h="1613">
                <a:moveTo>
                  <a:pt x="4539" y="12650"/>
                </a:moveTo>
                <a:lnTo>
                  <a:pt x="4539" y="12650"/>
                </a:lnTo>
              </a:path>
              <a:path w="299" h="1613">
                <a:moveTo>
                  <a:pt x="4589" y="12502"/>
                </a:moveTo>
                <a:cubicBezTo>
                  <a:pt x="4597" y="12469"/>
                  <a:pt x="4606" y="12435"/>
                  <a:pt x="4614" y="12402"/>
                </a:cubicBezTo>
              </a:path>
              <a:path w="299" h="1613">
                <a:moveTo>
                  <a:pt x="4638" y="12278"/>
                </a:moveTo>
                <a:cubicBezTo>
                  <a:pt x="4630" y="12253"/>
                  <a:pt x="4622" y="12229"/>
                  <a:pt x="4614" y="12204"/>
                </a:cubicBezTo>
              </a:path>
              <a:path w="299" h="1613">
                <a:moveTo>
                  <a:pt x="4614" y="12204"/>
                </a:moveTo>
                <a:lnTo>
                  <a:pt x="4614" y="12204"/>
                </a:lnTo>
              </a:path>
              <a:path w="299" h="1613">
                <a:moveTo>
                  <a:pt x="4688" y="12055"/>
                </a:moveTo>
                <a:cubicBezTo>
                  <a:pt x="4688" y="12047"/>
                  <a:pt x="4688" y="12038"/>
                  <a:pt x="4688" y="12030"/>
                </a:cubicBezTo>
              </a:path>
              <a:path w="299" h="1613">
                <a:moveTo>
                  <a:pt x="4738" y="11559"/>
                </a:moveTo>
                <a:cubicBezTo>
                  <a:pt x="4730" y="11534"/>
                  <a:pt x="4721" y="11510"/>
                  <a:pt x="4713" y="11485"/>
                </a:cubicBezTo>
              </a:path>
              <a:path w="299" h="1613">
                <a:moveTo>
                  <a:pt x="4787" y="11336"/>
                </a:moveTo>
                <a:cubicBezTo>
                  <a:pt x="4787" y="11319"/>
                  <a:pt x="4787" y="11303"/>
                  <a:pt x="4787" y="11286"/>
                </a:cubicBezTo>
              </a:path>
              <a:path w="299" h="1613">
                <a:moveTo>
                  <a:pt x="4787" y="11286"/>
                </a:moveTo>
                <a:lnTo>
                  <a:pt x="4787" y="11286"/>
                </a:lnTo>
              </a:path>
              <a:path w="299" h="1613">
                <a:moveTo>
                  <a:pt x="4812" y="11212"/>
                </a:moveTo>
                <a:cubicBezTo>
                  <a:pt x="4812" y="11195"/>
                  <a:pt x="4812" y="11179"/>
                  <a:pt x="4812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28880" y="4741920"/>
            <a:ext cx="169920" cy="706320"/>
          </a:xfrm>
          <a:custGeom>
            <a:avLst/>
            <a:gdLst/>
            <a:ahLst/>
            <a:rect l="l" t="t" r="r" b="b"/>
            <a:pathLst>
              <a:path w="472" h="1961">
                <a:moveTo>
                  <a:pt x="5482" y="13171"/>
                </a:moveTo>
                <a:cubicBezTo>
                  <a:pt x="5510" y="13258"/>
                  <a:pt x="5525" y="13196"/>
                  <a:pt x="5606" y="13320"/>
                </a:cubicBezTo>
                <a:cubicBezTo>
                  <a:pt x="5692" y="13451"/>
                  <a:pt x="5802" y="13608"/>
                  <a:pt x="5829" y="13767"/>
                </a:cubicBezTo>
                <a:cubicBezTo>
                  <a:pt x="5859" y="13945"/>
                  <a:pt x="5825" y="14190"/>
                  <a:pt x="5779" y="14362"/>
                </a:cubicBezTo>
                <a:cubicBezTo>
                  <a:pt x="5732" y="14539"/>
                  <a:pt x="5632" y="14730"/>
                  <a:pt x="5531" y="14883"/>
                </a:cubicBezTo>
                <a:cubicBezTo>
                  <a:pt x="5483" y="14956"/>
                  <a:pt x="5432" y="15034"/>
                  <a:pt x="5383" y="15106"/>
                </a:cubicBezTo>
                <a:cubicBezTo>
                  <a:pt x="5358" y="15106"/>
                  <a:pt x="5350" y="15106"/>
                  <a:pt x="5358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25760" y="5857920"/>
            <a:ext cx="214200" cy="428760"/>
          </a:xfrm>
          <a:custGeom>
            <a:avLst/>
            <a:gdLst/>
            <a:ahLst/>
            <a:rect l="l" t="t" r="r" b="b"/>
            <a:pathLst>
              <a:path w="597" h="1191">
                <a:moveTo>
                  <a:pt x="4762" y="16867"/>
                </a:moveTo>
                <a:cubicBezTo>
                  <a:pt x="4711" y="16919"/>
                  <a:pt x="4697" y="17027"/>
                  <a:pt x="4688" y="17115"/>
                </a:cubicBezTo>
                <a:cubicBezTo>
                  <a:pt x="4787" y="17115"/>
                  <a:pt x="4869" y="17108"/>
                  <a:pt x="4961" y="17090"/>
                </a:cubicBezTo>
              </a:path>
              <a:path w="597" h="1191">
                <a:moveTo>
                  <a:pt x="4936" y="16867"/>
                </a:moveTo>
                <a:cubicBezTo>
                  <a:pt x="4919" y="17001"/>
                  <a:pt x="4911" y="17127"/>
                  <a:pt x="4911" y="17264"/>
                </a:cubicBezTo>
                <a:cubicBezTo>
                  <a:pt x="4911" y="17338"/>
                  <a:pt x="4911" y="17512"/>
                  <a:pt x="4911" y="17438"/>
                </a:cubicBezTo>
                <a:cubicBezTo>
                  <a:pt x="4911" y="17405"/>
                  <a:pt x="4911" y="17371"/>
                  <a:pt x="4911" y="17338"/>
                </a:cubicBezTo>
              </a:path>
              <a:path w="597" h="1191">
                <a:moveTo>
                  <a:pt x="4514" y="16793"/>
                </a:moveTo>
                <a:cubicBezTo>
                  <a:pt x="4667" y="16793"/>
                  <a:pt x="4809" y="16756"/>
                  <a:pt x="4961" y="16743"/>
                </a:cubicBezTo>
                <a:cubicBezTo>
                  <a:pt x="5019" y="16738"/>
                  <a:pt x="5143" y="16743"/>
                  <a:pt x="5085" y="16743"/>
                </a:cubicBezTo>
              </a:path>
              <a:path w="597" h="1191">
                <a:moveTo>
                  <a:pt x="4713" y="16272"/>
                </a:moveTo>
                <a:cubicBezTo>
                  <a:pt x="4701" y="16321"/>
                  <a:pt x="4686" y="16369"/>
                  <a:pt x="4663" y="16421"/>
                </a:cubicBezTo>
                <a:cubicBezTo>
                  <a:pt x="4632" y="16491"/>
                  <a:pt x="4595" y="16542"/>
                  <a:pt x="4589" y="16619"/>
                </a:cubicBezTo>
                <a:cubicBezTo>
                  <a:pt x="4586" y="16659"/>
                  <a:pt x="4636" y="16651"/>
                  <a:pt x="4663" y="16669"/>
                </a:cubicBezTo>
                <a:cubicBezTo>
                  <a:pt x="4698" y="16693"/>
                  <a:pt x="4738" y="16710"/>
                  <a:pt x="4787" y="16694"/>
                </a:cubicBezTo>
                <a:cubicBezTo>
                  <a:pt x="4829" y="16680"/>
                  <a:pt x="4881" y="16646"/>
                  <a:pt x="4911" y="16619"/>
                </a:cubicBezTo>
                <a:cubicBezTo>
                  <a:pt x="4937" y="16596"/>
                  <a:pt x="4957" y="16553"/>
                  <a:pt x="4961" y="16520"/>
                </a:cubicBezTo>
                <a:cubicBezTo>
                  <a:pt x="4964" y="16490"/>
                  <a:pt x="4917" y="16473"/>
                  <a:pt x="4887" y="16470"/>
                </a:cubicBezTo>
                <a:cubicBezTo>
                  <a:pt x="4827" y="16463"/>
                  <a:pt x="4809" y="16484"/>
                  <a:pt x="4787" y="16495"/>
                </a:cubicBezTo>
                <a:cubicBezTo>
                  <a:pt x="4763" y="16507"/>
                  <a:pt x="4728" y="16556"/>
                  <a:pt x="4713" y="16594"/>
                </a:cubicBezTo>
                <a:cubicBezTo>
                  <a:pt x="4698" y="16632"/>
                  <a:pt x="4718" y="16668"/>
                  <a:pt x="4738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3760" y="4249800"/>
            <a:ext cx="1795320" cy="2197080"/>
          </a:xfrm>
          <a:custGeom>
            <a:avLst/>
            <a:gdLst/>
            <a:ahLst/>
            <a:rect l="l" t="t" r="r" b="b"/>
            <a:pathLst>
              <a:path w="4987" h="6103">
                <a:moveTo>
                  <a:pt x="11757" y="12229"/>
                </a:moveTo>
                <a:cubicBezTo>
                  <a:pt x="11913" y="12207"/>
                  <a:pt x="12024" y="12145"/>
                  <a:pt x="12179" y="12154"/>
                </a:cubicBezTo>
                <a:cubicBezTo>
                  <a:pt x="12192" y="12333"/>
                  <a:pt x="12128" y="12420"/>
                  <a:pt x="11956" y="12502"/>
                </a:cubicBezTo>
                <a:cubicBezTo>
                  <a:pt x="11921" y="12502"/>
                  <a:pt x="11917" y="12493"/>
                  <a:pt x="11956" y="12452"/>
                </a:cubicBezTo>
                <a:cubicBezTo>
                  <a:pt x="12131" y="12478"/>
                  <a:pt x="12375" y="12577"/>
                  <a:pt x="12154" y="12799"/>
                </a:cubicBezTo>
                <a:cubicBezTo>
                  <a:pt x="12090" y="12863"/>
                  <a:pt x="11681" y="12937"/>
                  <a:pt x="11708" y="12898"/>
                </a:cubicBezTo>
                <a:cubicBezTo>
                  <a:pt x="11716" y="12898"/>
                  <a:pt x="11725" y="12898"/>
                  <a:pt x="11733" y="12898"/>
                </a:cubicBezTo>
              </a:path>
              <a:path w="4987" h="6103">
                <a:moveTo>
                  <a:pt x="12750" y="11807"/>
                </a:moveTo>
                <a:cubicBezTo>
                  <a:pt x="12765" y="11900"/>
                  <a:pt x="12794" y="11984"/>
                  <a:pt x="12799" y="12080"/>
                </a:cubicBezTo>
                <a:cubicBezTo>
                  <a:pt x="12799" y="12088"/>
                  <a:pt x="12799" y="12097"/>
                  <a:pt x="12799" y="12105"/>
                </a:cubicBezTo>
              </a:path>
              <a:path w="4987" h="6103">
                <a:moveTo>
                  <a:pt x="12626" y="12303"/>
                </a:moveTo>
                <a:cubicBezTo>
                  <a:pt x="12776" y="12279"/>
                  <a:pt x="12920" y="12254"/>
                  <a:pt x="13072" y="12254"/>
                </a:cubicBezTo>
              </a:path>
              <a:path w="4987" h="6103">
                <a:moveTo>
                  <a:pt x="12725" y="12477"/>
                </a:moveTo>
                <a:cubicBezTo>
                  <a:pt x="12841" y="12477"/>
                  <a:pt x="12956" y="12477"/>
                  <a:pt x="13072" y="12477"/>
                </a:cubicBezTo>
                <a:cubicBezTo>
                  <a:pt x="13022" y="12639"/>
                  <a:pt x="12879" y="12725"/>
                  <a:pt x="12750" y="12849"/>
                </a:cubicBezTo>
                <a:cubicBezTo>
                  <a:pt x="12720" y="12879"/>
                  <a:pt x="12715" y="12893"/>
                  <a:pt x="12750" y="12923"/>
                </a:cubicBezTo>
                <a:cubicBezTo>
                  <a:pt x="12900" y="12914"/>
                  <a:pt x="13072" y="12849"/>
                  <a:pt x="13221" y="12874"/>
                </a:cubicBezTo>
                <a:cubicBezTo>
                  <a:pt x="13282" y="12884"/>
                  <a:pt x="13259" y="12909"/>
                  <a:pt x="13246" y="12948"/>
                </a:cubicBezTo>
              </a:path>
              <a:path w="4987" h="6103">
                <a:moveTo>
                  <a:pt x="11832" y="14064"/>
                </a:moveTo>
                <a:cubicBezTo>
                  <a:pt x="11851" y="14275"/>
                  <a:pt x="11909" y="14496"/>
                  <a:pt x="11906" y="14709"/>
                </a:cubicBezTo>
                <a:cubicBezTo>
                  <a:pt x="11886" y="14849"/>
                  <a:pt x="11877" y="14873"/>
                  <a:pt x="11881" y="14957"/>
                </a:cubicBezTo>
              </a:path>
              <a:path w="4987" h="6103">
                <a:moveTo>
                  <a:pt x="12725" y="13990"/>
                </a:moveTo>
                <a:cubicBezTo>
                  <a:pt x="12725" y="14056"/>
                  <a:pt x="12725" y="14122"/>
                  <a:pt x="12725" y="14188"/>
                </a:cubicBezTo>
                <a:cubicBezTo>
                  <a:pt x="12831" y="14175"/>
                  <a:pt x="12921" y="14139"/>
                  <a:pt x="13022" y="14114"/>
                </a:cubicBezTo>
              </a:path>
              <a:path w="4987" h="6103">
                <a:moveTo>
                  <a:pt x="12973" y="13791"/>
                </a:moveTo>
                <a:cubicBezTo>
                  <a:pt x="12973" y="13993"/>
                  <a:pt x="12984" y="14187"/>
                  <a:pt x="12998" y="14387"/>
                </a:cubicBezTo>
                <a:cubicBezTo>
                  <a:pt x="12998" y="14448"/>
                  <a:pt x="12989" y="14463"/>
                  <a:pt x="13022" y="14486"/>
                </a:cubicBezTo>
              </a:path>
              <a:path w="4987" h="6103">
                <a:moveTo>
                  <a:pt x="12626" y="14585"/>
                </a:moveTo>
                <a:cubicBezTo>
                  <a:pt x="12877" y="14575"/>
                  <a:pt x="13121" y="14537"/>
                  <a:pt x="13370" y="14585"/>
                </a:cubicBezTo>
                <a:cubicBezTo>
                  <a:pt x="13437" y="14608"/>
                  <a:pt x="13465" y="14609"/>
                  <a:pt x="13419" y="14660"/>
                </a:cubicBezTo>
              </a:path>
              <a:path w="4987" h="6103">
                <a:moveTo>
                  <a:pt x="13122" y="14908"/>
                </a:moveTo>
                <a:cubicBezTo>
                  <a:pt x="13054" y="14908"/>
                  <a:pt x="12958" y="14901"/>
                  <a:pt x="12898" y="14932"/>
                </a:cubicBezTo>
                <a:cubicBezTo>
                  <a:pt x="12845" y="14959"/>
                  <a:pt x="12874" y="15104"/>
                  <a:pt x="12874" y="15156"/>
                </a:cubicBezTo>
                <a:cubicBezTo>
                  <a:pt x="12874" y="15172"/>
                  <a:pt x="12874" y="15189"/>
                  <a:pt x="12874" y="15205"/>
                </a:cubicBezTo>
                <a:cubicBezTo>
                  <a:pt x="12960" y="15183"/>
                  <a:pt x="13041" y="15129"/>
                  <a:pt x="13146" y="15156"/>
                </a:cubicBezTo>
                <a:cubicBezTo>
                  <a:pt x="13171" y="15172"/>
                  <a:pt x="13196" y="15189"/>
                  <a:pt x="13221" y="15205"/>
                </a:cubicBezTo>
                <a:cubicBezTo>
                  <a:pt x="13163" y="15381"/>
                  <a:pt x="13056" y="15389"/>
                  <a:pt x="12874" y="15379"/>
                </a:cubicBezTo>
              </a:path>
              <a:path w="4987" h="6103">
                <a:moveTo>
                  <a:pt x="10567" y="15701"/>
                </a:moveTo>
                <a:cubicBezTo>
                  <a:pt x="10930" y="15753"/>
                  <a:pt x="11416" y="15623"/>
                  <a:pt x="11782" y="15602"/>
                </a:cubicBezTo>
                <a:cubicBezTo>
                  <a:pt x="12400" y="15566"/>
                  <a:pt x="13024" y="15545"/>
                  <a:pt x="13643" y="15528"/>
                </a:cubicBezTo>
                <a:cubicBezTo>
                  <a:pt x="13651" y="15528"/>
                  <a:pt x="13659" y="15528"/>
                  <a:pt x="13667" y="15528"/>
                </a:cubicBezTo>
              </a:path>
              <a:path w="4987" h="6103">
                <a:moveTo>
                  <a:pt x="14436" y="14759"/>
                </a:moveTo>
                <a:cubicBezTo>
                  <a:pt x="14436" y="14887"/>
                  <a:pt x="14406" y="15005"/>
                  <a:pt x="14387" y="15131"/>
                </a:cubicBezTo>
                <a:cubicBezTo>
                  <a:pt x="14387" y="15156"/>
                  <a:pt x="14387" y="15164"/>
                  <a:pt x="14387" y="15131"/>
                </a:cubicBezTo>
              </a:path>
              <a:path w="4987" h="6103">
                <a:moveTo>
                  <a:pt x="14684" y="14784"/>
                </a:moveTo>
                <a:cubicBezTo>
                  <a:pt x="14645" y="14896"/>
                  <a:pt x="14635" y="14961"/>
                  <a:pt x="14635" y="15081"/>
                </a:cubicBezTo>
                <a:cubicBezTo>
                  <a:pt x="14699" y="15081"/>
                  <a:pt x="14982" y="14986"/>
                  <a:pt x="14833" y="14858"/>
                </a:cubicBezTo>
                <a:cubicBezTo>
                  <a:pt x="14743" y="14835"/>
                  <a:pt x="14719" y="14827"/>
                  <a:pt x="14660" y="14833"/>
                </a:cubicBezTo>
              </a:path>
              <a:path w="4987" h="6103">
                <a:moveTo>
                  <a:pt x="13494" y="14560"/>
                </a:moveTo>
                <a:cubicBezTo>
                  <a:pt x="13494" y="14522"/>
                  <a:pt x="13574" y="14679"/>
                  <a:pt x="13593" y="14709"/>
                </a:cubicBezTo>
                <a:cubicBezTo>
                  <a:pt x="13618" y="14759"/>
                  <a:pt x="13626" y="14775"/>
                  <a:pt x="13643" y="14808"/>
                </a:cubicBezTo>
              </a:path>
              <a:path w="4987" h="6103">
                <a:moveTo>
                  <a:pt x="13866" y="14784"/>
                </a:moveTo>
                <a:cubicBezTo>
                  <a:pt x="13899" y="14784"/>
                  <a:pt x="13932" y="14784"/>
                  <a:pt x="13965" y="14784"/>
                </a:cubicBezTo>
                <a:cubicBezTo>
                  <a:pt x="14012" y="14940"/>
                  <a:pt x="13946" y="15008"/>
                  <a:pt x="13841" y="15131"/>
                </a:cubicBezTo>
                <a:cubicBezTo>
                  <a:pt x="13824" y="15147"/>
                  <a:pt x="13808" y="15164"/>
                  <a:pt x="13791" y="15180"/>
                </a:cubicBezTo>
                <a:cubicBezTo>
                  <a:pt x="13874" y="15169"/>
                  <a:pt x="14017" y="15156"/>
                  <a:pt x="14089" y="15106"/>
                </a:cubicBezTo>
                <a:cubicBezTo>
                  <a:pt x="14089" y="15098"/>
                  <a:pt x="14089" y="15089"/>
                  <a:pt x="14089" y="15081"/>
                </a:cubicBezTo>
              </a:path>
              <a:path w="4987" h="6103">
                <a:moveTo>
                  <a:pt x="13816" y="14660"/>
                </a:moveTo>
                <a:cubicBezTo>
                  <a:pt x="13866" y="14652"/>
                  <a:pt x="13996" y="14585"/>
                  <a:pt x="14039" y="14610"/>
                </a:cubicBezTo>
                <a:cubicBezTo>
                  <a:pt x="14039" y="14618"/>
                  <a:pt x="14039" y="14627"/>
                  <a:pt x="14039" y="14635"/>
                </a:cubicBezTo>
              </a:path>
              <a:path w="4987" h="6103">
                <a:moveTo>
                  <a:pt x="14536" y="14585"/>
                </a:moveTo>
                <a:cubicBezTo>
                  <a:pt x="14419" y="14585"/>
                  <a:pt x="14717" y="14554"/>
                  <a:pt x="14833" y="14536"/>
                </a:cubicBezTo>
                <a:cubicBezTo>
                  <a:pt x="14957" y="14515"/>
                  <a:pt x="14981" y="14507"/>
                  <a:pt x="15056" y="14511"/>
                </a:cubicBezTo>
              </a:path>
              <a:path w="4987" h="6103">
                <a:moveTo>
                  <a:pt x="13742" y="14362"/>
                </a:moveTo>
                <a:cubicBezTo>
                  <a:pt x="13792" y="14345"/>
                  <a:pt x="13842" y="14315"/>
                  <a:pt x="13891" y="14288"/>
                </a:cubicBezTo>
                <a:cubicBezTo>
                  <a:pt x="13869" y="14404"/>
                  <a:pt x="13832" y="14513"/>
                  <a:pt x="13742" y="14585"/>
                </a:cubicBezTo>
                <a:cubicBezTo>
                  <a:pt x="13815" y="14573"/>
                  <a:pt x="13876" y="14534"/>
                  <a:pt x="13940" y="14511"/>
                </a:cubicBezTo>
                <a:cubicBezTo>
                  <a:pt x="13948" y="14511"/>
                  <a:pt x="13957" y="14511"/>
                  <a:pt x="13965" y="14511"/>
                </a:cubicBezTo>
              </a:path>
              <a:path w="4987" h="6103">
                <a:moveTo>
                  <a:pt x="14709" y="13990"/>
                </a:moveTo>
                <a:cubicBezTo>
                  <a:pt x="14609" y="14020"/>
                  <a:pt x="14534" y="14068"/>
                  <a:pt x="14486" y="14163"/>
                </a:cubicBezTo>
                <a:cubicBezTo>
                  <a:pt x="14634" y="14199"/>
                  <a:pt x="14729" y="14234"/>
                  <a:pt x="14858" y="14312"/>
                </a:cubicBezTo>
                <a:cubicBezTo>
                  <a:pt x="14756" y="14442"/>
                  <a:pt x="14542" y="14557"/>
                  <a:pt x="14660" y="14263"/>
                </a:cubicBezTo>
                <a:cubicBezTo>
                  <a:pt x="14705" y="14149"/>
                  <a:pt x="14835" y="14037"/>
                  <a:pt x="14635" y="14114"/>
                </a:cubicBezTo>
                <a:cubicBezTo>
                  <a:pt x="14618" y="14122"/>
                  <a:pt x="14602" y="14131"/>
                  <a:pt x="14585" y="14139"/>
                </a:cubicBezTo>
              </a:path>
              <a:path w="4987" h="6103">
                <a:moveTo>
                  <a:pt x="12650" y="14089"/>
                </a:moveTo>
                <a:cubicBezTo>
                  <a:pt x="12694" y="14067"/>
                  <a:pt x="12724" y="14076"/>
                  <a:pt x="12824" y="14163"/>
                </a:cubicBezTo>
                <a:cubicBezTo>
                  <a:pt x="13072" y="14379"/>
                  <a:pt x="13279" y="14660"/>
                  <a:pt x="13494" y="14908"/>
                </a:cubicBezTo>
                <a:cubicBezTo>
                  <a:pt x="13600" y="15030"/>
                  <a:pt x="13695" y="15121"/>
                  <a:pt x="13816" y="15205"/>
                </a:cubicBezTo>
              </a:path>
              <a:path w="4987" h="6103">
                <a:moveTo>
                  <a:pt x="13791" y="14238"/>
                </a:moveTo>
                <a:cubicBezTo>
                  <a:pt x="13624" y="14388"/>
                  <a:pt x="13529" y="14536"/>
                  <a:pt x="13395" y="14734"/>
                </a:cubicBezTo>
                <a:cubicBezTo>
                  <a:pt x="13287" y="14894"/>
                  <a:pt x="12994" y="15194"/>
                  <a:pt x="12948" y="15379"/>
                </a:cubicBezTo>
                <a:cubicBezTo>
                  <a:pt x="12935" y="15431"/>
                  <a:pt x="13017" y="15325"/>
                  <a:pt x="13047" y="15280"/>
                </a:cubicBezTo>
              </a:path>
              <a:path w="4987" h="6103">
                <a:moveTo>
                  <a:pt x="14412" y="16470"/>
                </a:moveTo>
                <a:cubicBezTo>
                  <a:pt x="14422" y="16441"/>
                  <a:pt x="14646" y="16406"/>
                  <a:pt x="14684" y="16396"/>
                </a:cubicBezTo>
                <a:cubicBezTo>
                  <a:pt x="14750" y="16379"/>
                  <a:pt x="15101" y="16241"/>
                  <a:pt x="15131" y="16321"/>
                </a:cubicBezTo>
                <a:cubicBezTo>
                  <a:pt x="15131" y="16329"/>
                  <a:pt x="15131" y="16338"/>
                  <a:pt x="15131" y="16346"/>
                </a:cubicBezTo>
              </a:path>
              <a:path w="4987" h="6103">
                <a:moveTo>
                  <a:pt x="14585" y="16892"/>
                </a:moveTo>
                <a:cubicBezTo>
                  <a:pt x="14585" y="17007"/>
                  <a:pt x="14542" y="17104"/>
                  <a:pt x="14511" y="17214"/>
                </a:cubicBezTo>
                <a:cubicBezTo>
                  <a:pt x="14492" y="17289"/>
                  <a:pt x="14484" y="17348"/>
                  <a:pt x="14486" y="17289"/>
                </a:cubicBezTo>
              </a:path>
              <a:path w="4987" h="6103">
                <a:moveTo>
                  <a:pt x="14784" y="16892"/>
                </a:moveTo>
                <a:cubicBezTo>
                  <a:pt x="14723" y="17027"/>
                  <a:pt x="14673" y="17094"/>
                  <a:pt x="14734" y="17214"/>
                </a:cubicBezTo>
                <a:cubicBezTo>
                  <a:pt x="14866" y="17179"/>
                  <a:pt x="15030" y="17046"/>
                  <a:pt x="14833" y="16917"/>
                </a:cubicBezTo>
                <a:cubicBezTo>
                  <a:pt x="14743" y="16894"/>
                  <a:pt x="14719" y="16886"/>
                  <a:pt x="14660" y="16892"/>
                </a:cubicBezTo>
              </a:path>
              <a:path w="4987" h="6103">
                <a:moveTo>
                  <a:pt x="11733" y="12229"/>
                </a:moveTo>
                <a:cubicBezTo>
                  <a:pt x="11708" y="12229"/>
                  <a:pt x="11700" y="12229"/>
                  <a:pt x="11708" y="12204"/>
                </a:cubicBezTo>
                <a:cubicBezTo>
                  <a:pt x="11708" y="12229"/>
                  <a:pt x="11708" y="12253"/>
                  <a:pt x="11708" y="12278"/>
                </a:cubicBezTo>
                <a:cubicBezTo>
                  <a:pt x="11728" y="12291"/>
                  <a:pt x="11748" y="12313"/>
                  <a:pt x="11757" y="12328"/>
                </a:cubicBezTo>
                <a:cubicBezTo>
                  <a:pt x="11770" y="12368"/>
                  <a:pt x="11769" y="12338"/>
                  <a:pt x="11782" y="12378"/>
                </a:cubicBezTo>
                <a:cubicBezTo>
                  <a:pt x="11818" y="12387"/>
                  <a:pt x="11832" y="12406"/>
                  <a:pt x="11857" y="12452"/>
                </a:cubicBezTo>
                <a:cubicBezTo>
                  <a:pt x="11886" y="12505"/>
                  <a:pt x="11918" y="12498"/>
                  <a:pt x="11931" y="12551"/>
                </a:cubicBezTo>
                <a:cubicBezTo>
                  <a:pt x="11971" y="12564"/>
                  <a:pt x="11992" y="12631"/>
                  <a:pt x="12030" y="12675"/>
                </a:cubicBezTo>
                <a:cubicBezTo>
                  <a:pt x="12055" y="12704"/>
                  <a:pt x="12126" y="12802"/>
                  <a:pt x="12154" y="12824"/>
                </a:cubicBezTo>
                <a:cubicBezTo>
                  <a:pt x="12182" y="12846"/>
                  <a:pt x="12252" y="12876"/>
                  <a:pt x="12278" y="12898"/>
                </a:cubicBezTo>
                <a:cubicBezTo>
                  <a:pt x="12330" y="12942"/>
                  <a:pt x="12355" y="12999"/>
                  <a:pt x="12402" y="13047"/>
                </a:cubicBezTo>
                <a:cubicBezTo>
                  <a:pt x="12438" y="13084"/>
                  <a:pt x="12439" y="13057"/>
                  <a:pt x="12452" y="13097"/>
                </a:cubicBezTo>
              </a:path>
              <a:path w="4987" h="6103">
                <a:moveTo>
                  <a:pt x="11162" y="12452"/>
                </a:moveTo>
                <a:cubicBezTo>
                  <a:pt x="11168" y="12415"/>
                  <a:pt x="11185" y="12325"/>
                  <a:pt x="11212" y="12303"/>
                </a:cubicBezTo>
                <a:cubicBezTo>
                  <a:pt x="11275" y="12251"/>
                  <a:pt x="11348" y="12245"/>
                  <a:pt x="11410" y="12278"/>
                </a:cubicBezTo>
                <a:cubicBezTo>
                  <a:pt x="11511" y="12331"/>
                  <a:pt x="11499" y="12453"/>
                  <a:pt x="11460" y="12551"/>
                </a:cubicBezTo>
                <a:cubicBezTo>
                  <a:pt x="11434" y="12614"/>
                  <a:pt x="11374" y="12690"/>
                  <a:pt x="11336" y="12750"/>
                </a:cubicBezTo>
                <a:cubicBezTo>
                  <a:pt x="11286" y="12830"/>
                  <a:pt x="11242" y="12922"/>
                  <a:pt x="11187" y="12998"/>
                </a:cubicBezTo>
                <a:cubicBezTo>
                  <a:pt x="11150" y="13049"/>
                  <a:pt x="11162" y="13106"/>
                  <a:pt x="11162" y="13171"/>
                </a:cubicBezTo>
                <a:cubicBezTo>
                  <a:pt x="11162" y="13112"/>
                  <a:pt x="11178" y="13083"/>
                  <a:pt x="11187" y="13022"/>
                </a:cubicBezTo>
                <a:cubicBezTo>
                  <a:pt x="11196" y="12960"/>
                  <a:pt x="11196" y="12954"/>
                  <a:pt x="11261" y="12948"/>
                </a:cubicBezTo>
                <a:cubicBezTo>
                  <a:pt x="11374" y="12938"/>
                  <a:pt x="11310" y="13050"/>
                  <a:pt x="11336" y="13097"/>
                </a:cubicBezTo>
                <a:cubicBezTo>
                  <a:pt x="11357" y="13135"/>
                  <a:pt x="11440" y="13176"/>
                  <a:pt x="11485" y="13146"/>
                </a:cubicBezTo>
                <a:cubicBezTo>
                  <a:pt x="11517" y="13125"/>
                  <a:pt x="11576" y="13070"/>
                  <a:pt x="11584" y="13047"/>
                </a:cubicBezTo>
              </a:path>
              <a:path w="4987" h="6103">
                <a:moveTo>
                  <a:pt x="14536" y="15726"/>
                </a:moveTo>
                <a:cubicBezTo>
                  <a:pt x="14536" y="15764"/>
                  <a:pt x="14541" y="15885"/>
                  <a:pt x="14511" y="15825"/>
                </a:cubicBezTo>
                <a:cubicBezTo>
                  <a:pt x="14536" y="15714"/>
                  <a:pt x="14589" y="15654"/>
                  <a:pt x="14709" y="15627"/>
                </a:cubicBezTo>
                <a:cubicBezTo>
                  <a:pt x="14736" y="15621"/>
                  <a:pt x="14779" y="15627"/>
                  <a:pt x="14808" y="15627"/>
                </a:cubicBezTo>
                <a:cubicBezTo>
                  <a:pt x="14801" y="15811"/>
                  <a:pt x="14759" y="15971"/>
                  <a:pt x="14734" y="16148"/>
                </a:cubicBezTo>
                <a:cubicBezTo>
                  <a:pt x="14728" y="16191"/>
                  <a:pt x="14723" y="16158"/>
                  <a:pt x="14709" y="16197"/>
                </a:cubicBezTo>
              </a:path>
              <a:path w="4987" h="6103">
                <a:moveTo>
                  <a:pt x="12750" y="16321"/>
                </a:moveTo>
                <a:cubicBezTo>
                  <a:pt x="12663" y="16350"/>
                  <a:pt x="12703" y="16747"/>
                  <a:pt x="12700" y="16793"/>
                </a:cubicBezTo>
                <a:cubicBezTo>
                  <a:pt x="12695" y="16870"/>
                  <a:pt x="12594" y="17294"/>
                  <a:pt x="12675" y="17388"/>
                </a:cubicBezTo>
                <a:cubicBezTo>
                  <a:pt x="12683" y="17388"/>
                  <a:pt x="12692" y="17388"/>
                  <a:pt x="12700" y="17388"/>
                </a:cubicBezTo>
              </a:path>
              <a:path w="4987" h="6103">
                <a:moveTo>
                  <a:pt x="11757" y="17661"/>
                </a:moveTo>
                <a:cubicBezTo>
                  <a:pt x="11960" y="17744"/>
                  <a:pt x="12134" y="17792"/>
                  <a:pt x="12353" y="17835"/>
                </a:cubicBezTo>
                <a:cubicBezTo>
                  <a:pt x="12661" y="17895"/>
                  <a:pt x="12955" y="17927"/>
                  <a:pt x="13271" y="17909"/>
                </a:cubicBezTo>
                <a:cubicBezTo>
                  <a:pt x="13568" y="17892"/>
                  <a:pt x="13903" y="17877"/>
                  <a:pt x="14188" y="17785"/>
                </a:cubicBezTo>
                <a:cubicBezTo>
                  <a:pt x="14395" y="17718"/>
                  <a:pt x="14610" y="17616"/>
                  <a:pt x="14784" y="17487"/>
                </a:cubicBezTo>
                <a:cubicBezTo>
                  <a:pt x="14928" y="17380"/>
                  <a:pt x="15045" y="17255"/>
                  <a:pt x="15156" y="17115"/>
                </a:cubicBezTo>
                <a:cubicBezTo>
                  <a:pt x="15274" y="16965"/>
                  <a:pt x="15298" y="16818"/>
                  <a:pt x="15354" y="16644"/>
                </a:cubicBezTo>
                <a:cubicBezTo>
                  <a:pt x="15416" y="16451"/>
                  <a:pt x="15490" y="16274"/>
                  <a:pt x="15528" y="16073"/>
                </a:cubicBezTo>
                <a:cubicBezTo>
                  <a:pt x="15552" y="15944"/>
                  <a:pt x="15601" y="15703"/>
                  <a:pt x="15528" y="15577"/>
                </a:cubicBezTo>
                <a:cubicBezTo>
                  <a:pt x="15458" y="15458"/>
                  <a:pt x="15321" y="15443"/>
                  <a:pt x="15205" y="15404"/>
                </a:cubicBezTo>
                <a:cubicBezTo>
                  <a:pt x="15077" y="15361"/>
                  <a:pt x="14893" y="15364"/>
                  <a:pt x="14759" y="15379"/>
                </a:cubicBezTo>
                <a:cubicBezTo>
                  <a:pt x="14619" y="15395"/>
                  <a:pt x="14475" y="15410"/>
                  <a:pt x="14337" y="15429"/>
                </a:cubicBezTo>
                <a:cubicBezTo>
                  <a:pt x="14171" y="15452"/>
                  <a:pt x="13995" y="15485"/>
                  <a:pt x="13841" y="15553"/>
                </a:cubicBezTo>
                <a:cubicBezTo>
                  <a:pt x="13680" y="15624"/>
                  <a:pt x="13496" y="15657"/>
                  <a:pt x="13345" y="15751"/>
                </a:cubicBezTo>
                <a:cubicBezTo>
                  <a:pt x="13197" y="15843"/>
                  <a:pt x="13052" y="15947"/>
                  <a:pt x="12898" y="16024"/>
                </a:cubicBezTo>
                <a:cubicBezTo>
                  <a:pt x="12755" y="16095"/>
                  <a:pt x="12630" y="16155"/>
                  <a:pt x="12502" y="16247"/>
                </a:cubicBezTo>
                <a:cubicBezTo>
                  <a:pt x="12399" y="16321"/>
                  <a:pt x="12327" y="16414"/>
                  <a:pt x="12254" y="16520"/>
                </a:cubicBezTo>
                <a:cubicBezTo>
                  <a:pt x="12190" y="16613"/>
                  <a:pt x="12134" y="16719"/>
                  <a:pt x="12080" y="16818"/>
                </a:cubicBezTo>
                <a:cubicBezTo>
                  <a:pt x="12025" y="16919"/>
                  <a:pt x="12006" y="17008"/>
                  <a:pt x="11981" y="17115"/>
                </a:cubicBezTo>
                <a:cubicBezTo>
                  <a:pt x="11959" y="17209"/>
                  <a:pt x="11967" y="17273"/>
                  <a:pt x="11981" y="17363"/>
                </a:cubicBezTo>
                <a:cubicBezTo>
                  <a:pt x="12008" y="17542"/>
                  <a:pt x="12066" y="17532"/>
                  <a:pt x="12254" y="17537"/>
                </a:cubicBezTo>
                <a:cubicBezTo>
                  <a:pt x="12312" y="17537"/>
                  <a:pt x="12320" y="17537"/>
                  <a:pt x="12353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000" y="554040"/>
            <a:ext cx="125280" cy="27000"/>
          </a:xfrm>
          <a:custGeom>
            <a:avLst/>
            <a:gdLst/>
            <a:ahLst/>
            <a:rect l="l" t="t" r="r" b="b"/>
            <a:pathLst>
              <a:path w="349" h="75">
                <a:moveTo>
                  <a:pt x="372" y="1538"/>
                </a:moveTo>
                <a:cubicBezTo>
                  <a:pt x="417" y="1538"/>
                  <a:pt x="589" y="1538"/>
                  <a:pt x="546" y="1538"/>
                </a:cubicBezTo>
                <a:cubicBezTo>
                  <a:pt x="477" y="1550"/>
                  <a:pt x="271" y="1538"/>
                  <a:pt x="223" y="1588"/>
                </a:cubicBezTo>
                <a:cubicBezTo>
                  <a:pt x="171" y="1643"/>
                  <a:pt x="371" y="1571"/>
                  <a:pt x="446" y="1563"/>
                </a:cubicBezTo>
                <a:cubicBezTo>
                  <a:pt x="486" y="1563"/>
                  <a:pt x="344" y="1586"/>
                  <a:pt x="298" y="1612"/>
                </a:cubicBezTo>
                <a:cubicBezTo>
                  <a:pt x="331" y="1598"/>
                  <a:pt x="483" y="1517"/>
                  <a:pt x="471" y="1563"/>
                </a:cubicBezTo>
                <a:cubicBezTo>
                  <a:pt x="463" y="1579"/>
                  <a:pt x="454" y="1596"/>
                  <a:pt x="446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05120" y="2133720"/>
          <a:ext cx="1600200" cy="7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133720"/>
                    <a:ext cx="16002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095880" y="2133720"/>
          <a:ext cx="1600200" cy="76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2133720"/>
                    <a:ext cx="16002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95240" y="2330280"/>
            <a:ext cx="1606680" cy="2805120"/>
          </a:xfrm>
          <a:custGeom>
            <a:avLst/>
            <a:gdLst/>
            <a:ahLst/>
            <a:rect l="l" t="t" r="r" b="b"/>
            <a:pathLst>
              <a:path w="4465" h="7790">
                <a:moveTo>
                  <a:pt x="2208" y="6474"/>
                </a:moveTo>
                <a:cubicBezTo>
                  <a:pt x="2216" y="6474"/>
                  <a:pt x="2224" y="6474"/>
                  <a:pt x="2232" y="6474"/>
                </a:cubicBezTo>
              </a:path>
              <a:path w="4465" h="7790">
                <a:moveTo>
                  <a:pt x="2877" y="11981"/>
                </a:moveTo>
                <a:cubicBezTo>
                  <a:pt x="3084" y="11939"/>
                  <a:pt x="3290" y="11898"/>
                  <a:pt x="3497" y="11857"/>
                </a:cubicBezTo>
              </a:path>
              <a:path w="4465" h="7790">
                <a:moveTo>
                  <a:pt x="5011" y="11212"/>
                </a:moveTo>
                <a:cubicBezTo>
                  <a:pt x="4992" y="11307"/>
                  <a:pt x="4927" y="11550"/>
                  <a:pt x="5110" y="11509"/>
                </a:cubicBezTo>
                <a:cubicBezTo>
                  <a:pt x="5203" y="11463"/>
                  <a:pt x="5232" y="11452"/>
                  <a:pt x="5259" y="11385"/>
                </a:cubicBezTo>
              </a:path>
              <a:path w="4465" h="7790">
                <a:moveTo>
                  <a:pt x="6028" y="12154"/>
                </a:moveTo>
                <a:cubicBezTo>
                  <a:pt x="6021" y="12214"/>
                  <a:pt x="6010" y="12268"/>
                  <a:pt x="6003" y="12328"/>
                </a:cubicBezTo>
              </a:path>
              <a:path w="4465" h="7790">
                <a:moveTo>
                  <a:pt x="5928" y="11981"/>
                </a:moveTo>
                <a:cubicBezTo>
                  <a:pt x="5946" y="11944"/>
                  <a:pt x="5957" y="11940"/>
                  <a:pt x="6003" y="11931"/>
                </a:cubicBezTo>
              </a:path>
              <a:path w="4465" h="7790">
                <a:moveTo>
                  <a:pt x="5953" y="11757"/>
                </a:moveTo>
                <a:lnTo>
                  <a:pt x="5953" y="11757"/>
                </a:lnTo>
              </a:path>
              <a:path w="4465" h="7790">
                <a:moveTo>
                  <a:pt x="6573" y="13990"/>
                </a:moveTo>
                <a:lnTo>
                  <a:pt x="6573" y="13990"/>
                </a:lnTo>
              </a:path>
              <a:path w="4465" h="7790">
                <a:moveTo>
                  <a:pt x="6598" y="14263"/>
                </a:moveTo>
                <a:cubicBezTo>
                  <a:pt x="6623" y="14213"/>
                  <a:pt x="6631" y="14197"/>
                  <a:pt x="6672" y="14188"/>
                </a:cubicBezTo>
              </a:path>
              <a:path w="4465" h="7790">
                <a:moveTo>
                  <a:pt x="6672" y="14188"/>
                </a:moveTo>
                <a:lnTo>
                  <a:pt x="6672" y="141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527720"/>
            <a:ext cx="1617480" cy="152280"/>
          </a:xfrm>
          <a:custGeom>
            <a:avLst/>
            <a:gdLst/>
            <a:ahLst/>
            <a:rect l="l" t="t" r="r" b="b"/>
            <a:pathLst>
              <a:path w="4491" h="423">
                <a:moveTo>
                  <a:pt x="2753" y="12998"/>
                </a:moveTo>
                <a:cubicBezTo>
                  <a:pt x="3056" y="12990"/>
                  <a:pt x="3344" y="12956"/>
                  <a:pt x="3646" y="12923"/>
                </a:cubicBezTo>
                <a:cubicBezTo>
                  <a:pt x="4433" y="12837"/>
                  <a:pt x="5217" y="12726"/>
                  <a:pt x="6003" y="12626"/>
                </a:cubicBezTo>
                <a:cubicBezTo>
                  <a:pt x="6150" y="12607"/>
                  <a:pt x="6348" y="12634"/>
                  <a:pt x="6474" y="12626"/>
                </a:cubicBezTo>
                <a:cubicBezTo>
                  <a:pt x="6522" y="12623"/>
                  <a:pt x="6508" y="12604"/>
                  <a:pt x="6598" y="12601"/>
                </a:cubicBezTo>
                <a:cubicBezTo>
                  <a:pt x="6783" y="12595"/>
                  <a:pt x="6964" y="12595"/>
                  <a:pt x="7144" y="12576"/>
                </a:cubicBezTo>
                <a:cubicBezTo>
                  <a:pt x="7185" y="12572"/>
                  <a:pt x="7177" y="12581"/>
                  <a:pt x="7218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71720" y="3330720"/>
            <a:ext cx="1616040" cy="1839600"/>
          </a:xfrm>
          <a:custGeom>
            <a:avLst/>
            <a:gdLst/>
            <a:ahLst/>
            <a:rect l="l" t="t" r="r" b="b"/>
            <a:pathLst>
              <a:path w="4490" h="5111">
                <a:moveTo>
                  <a:pt x="3522" y="9525"/>
                </a:moveTo>
                <a:cubicBezTo>
                  <a:pt x="3529" y="9677"/>
                  <a:pt x="3530" y="9738"/>
                  <a:pt x="3448" y="9872"/>
                </a:cubicBezTo>
                <a:cubicBezTo>
                  <a:pt x="3600" y="9830"/>
                  <a:pt x="3687" y="9862"/>
                  <a:pt x="3820" y="9922"/>
                </a:cubicBezTo>
                <a:cubicBezTo>
                  <a:pt x="3845" y="9930"/>
                  <a:pt x="3869" y="9939"/>
                  <a:pt x="3894" y="9947"/>
                </a:cubicBezTo>
              </a:path>
              <a:path w="4490" h="5111">
                <a:moveTo>
                  <a:pt x="3944" y="9475"/>
                </a:moveTo>
                <a:cubicBezTo>
                  <a:pt x="3937" y="9701"/>
                  <a:pt x="3871" y="9976"/>
                  <a:pt x="3894" y="10195"/>
                </a:cubicBezTo>
                <a:cubicBezTo>
                  <a:pt x="3902" y="10195"/>
                  <a:pt x="3911" y="10195"/>
                  <a:pt x="3919" y="10195"/>
                </a:cubicBezTo>
              </a:path>
              <a:path w="4490" h="5111">
                <a:moveTo>
                  <a:pt x="4514" y="9277"/>
                </a:moveTo>
                <a:cubicBezTo>
                  <a:pt x="4648" y="9255"/>
                  <a:pt x="4774" y="9252"/>
                  <a:pt x="4911" y="9252"/>
                </a:cubicBezTo>
                <a:cubicBezTo>
                  <a:pt x="4896" y="9388"/>
                  <a:pt x="4851" y="9513"/>
                  <a:pt x="4837" y="9649"/>
                </a:cubicBezTo>
              </a:path>
              <a:path w="4490" h="5111">
                <a:moveTo>
                  <a:pt x="4390" y="9847"/>
                </a:moveTo>
                <a:cubicBezTo>
                  <a:pt x="4606" y="9822"/>
                  <a:pt x="4817" y="9798"/>
                  <a:pt x="5035" y="9798"/>
                </a:cubicBezTo>
              </a:path>
              <a:path w="4490" h="5111">
                <a:moveTo>
                  <a:pt x="4490" y="10220"/>
                </a:moveTo>
                <a:cubicBezTo>
                  <a:pt x="4490" y="10360"/>
                  <a:pt x="4480" y="10502"/>
                  <a:pt x="4465" y="10641"/>
                </a:cubicBezTo>
                <a:cubicBezTo>
                  <a:pt x="4465" y="10625"/>
                  <a:pt x="4465" y="10608"/>
                  <a:pt x="4465" y="10592"/>
                </a:cubicBezTo>
              </a:path>
              <a:path w="4490" h="5111">
                <a:moveTo>
                  <a:pt x="4738" y="10244"/>
                </a:moveTo>
                <a:cubicBezTo>
                  <a:pt x="4875" y="10214"/>
                  <a:pt x="4936" y="10203"/>
                  <a:pt x="5060" y="10244"/>
                </a:cubicBezTo>
                <a:cubicBezTo>
                  <a:pt x="5011" y="10417"/>
                  <a:pt x="4895" y="10490"/>
                  <a:pt x="4762" y="10616"/>
                </a:cubicBezTo>
                <a:cubicBezTo>
                  <a:pt x="4734" y="10643"/>
                  <a:pt x="5045" y="10585"/>
                  <a:pt x="5135" y="10567"/>
                </a:cubicBezTo>
              </a:path>
              <a:path w="4490" h="5111">
                <a:moveTo>
                  <a:pt x="2977" y="11683"/>
                </a:moveTo>
                <a:cubicBezTo>
                  <a:pt x="2998" y="11848"/>
                  <a:pt x="3026" y="12027"/>
                  <a:pt x="2977" y="12179"/>
                </a:cubicBezTo>
              </a:path>
              <a:path w="4490" h="5111">
                <a:moveTo>
                  <a:pt x="3845" y="11782"/>
                </a:moveTo>
                <a:cubicBezTo>
                  <a:pt x="3945" y="11782"/>
                  <a:pt x="3979" y="11782"/>
                  <a:pt x="4043" y="11807"/>
                </a:cubicBezTo>
                <a:cubicBezTo>
                  <a:pt x="4083" y="12024"/>
                  <a:pt x="3926" y="12096"/>
                  <a:pt x="3795" y="12254"/>
                </a:cubicBezTo>
                <a:cubicBezTo>
                  <a:pt x="3779" y="12279"/>
                  <a:pt x="3762" y="12303"/>
                  <a:pt x="3746" y="12328"/>
                </a:cubicBezTo>
                <a:cubicBezTo>
                  <a:pt x="3887" y="12317"/>
                  <a:pt x="4041" y="12303"/>
                  <a:pt x="4167" y="12254"/>
                </a:cubicBezTo>
              </a:path>
              <a:path w="4490" h="5111">
                <a:moveTo>
                  <a:pt x="5209" y="11212"/>
                </a:moveTo>
                <a:cubicBezTo>
                  <a:pt x="5185" y="11395"/>
                  <a:pt x="5210" y="11587"/>
                  <a:pt x="5184" y="11757"/>
                </a:cubicBezTo>
              </a:path>
              <a:path w="4490" h="5111">
                <a:moveTo>
                  <a:pt x="4638" y="12005"/>
                </a:moveTo>
                <a:cubicBezTo>
                  <a:pt x="4906" y="11957"/>
                  <a:pt x="5264" y="11840"/>
                  <a:pt x="5531" y="11881"/>
                </a:cubicBezTo>
                <a:cubicBezTo>
                  <a:pt x="5523" y="11889"/>
                  <a:pt x="5515" y="11898"/>
                  <a:pt x="5507" y="11906"/>
                </a:cubicBezTo>
              </a:path>
              <a:path w="4490" h="5111">
                <a:moveTo>
                  <a:pt x="4812" y="12254"/>
                </a:moveTo>
                <a:cubicBezTo>
                  <a:pt x="4794" y="12336"/>
                  <a:pt x="4699" y="12602"/>
                  <a:pt x="4762" y="12675"/>
                </a:cubicBezTo>
                <a:cubicBezTo>
                  <a:pt x="4812" y="12625"/>
                  <a:pt x="4845" y="12592"/>
                  <a:pt x="4887" y="12551"/>
                </a:cubicBezTo>
              </a:path>
              <a:path w="4490" h="5111">
                <a:moveTo>
                  <a:pt x="5085" y="12353"/>
                </a:moveTo>
                <a:cubicBezTo>
                  <a:pt x="5085" y="12464"/>
                  <a:pt x="5198" y="12432"/>
                  <a:pt x="5259" y="12502"/>
                </a:cubicBezTo>
                <a:cubicBezTo>
                  <a:pt x="5361" y="12620"/>
                  <a:pt x="5168" y="12621"/>
                  <a:pt x="5110" y="12626"/>
                </a:cubicBezTo>
              </a:path>
              <a:path w="4490" h="5111">
                <a:moveTo>
                  <a:pt x="6548" y="12129"/>
                </a:moveTo>
                <a:cubicBezTo>
                  <a:pt x="6516" y="12183"/>
                  <a:pt x="6296" y="12502"/>
                  <a:pt x="6499" y="12502"/>
                </a:cubicBezTo>
                <a:cubicBezTo>
                  <a:pt x="6648" y="12452"/>
                  <a:pt x="6699" y="12435"/>
                  <a:pt x="6772" y="12353"/>
                </a:cubicBezTo>
                <a:cubicBezTo>
                  <a:pt x="6780" y="12345"/>
                  <a:pt x="6788" y="12336"/>
                  <a:pt x="6796" y="12328"/>
                </a:cubicBezTo>
                <a:cubicBezTo>
                  <a:pt x="6685" y="12362"/>
                  <a:pt x="6465" y="12471"/>
                  <a:pt x="6722" y="12452"/>
                </a:cubicBezTo>
              </a:path>
              <a:path w="4490" h="5111">
                <a:moveTo>
                  <a:pt x="7045" y="12179"/>
                </a:moveTo>
                <a:cubicBezTo>
                  <a:pt x="6992" y="12328"/>
                  <a:pt x="6962" y="12331"/>
                  <a:pt x="7069" y="12427"/>
                </a:cubicBezTo>
                <a:cubicBezTo>
                  <a:pt x="7214" y="12321"/>
                  <a:pt x="7237" y="12231"/>
                  <a:pt x="7069" y="12129"/>
                </a:cubicBezTo>
                <a:cubicBezTo>
                  <a:pt x="7036" y="12113"/>
                  <a:pt x="7003" y="12096"/>
                  <a:pt x="6970" y="12080"/>
                </a:cubicBezTo>
              </a:path>
              <a:path w="4490" h="5111">
                <a:moveTo>
                  <a:pt x="5655" y="11832"/>
                </a:moveTo>
                <a:cubicBezTo>
                  <a:pt x="5663" y="11856"/>
                  <a:pt x="5721" y="12080"/>
                  <a:pt x="5730" y="12080"/>
                </a:cubicBezTo>
                <a:cubicBezTo>
                  <a:pt x="5730" y="12072"/>
                  <a:pt x="5730" y="12063"/>
                  <a:pt x="5730" y="12055"/>
                </a:cubicBezTo>
              </a:path>
              <a:path w="4490" h="5111">
                <a:moveTo>
                  <a:pt x="5730" y="11881"/>
                </a:moveTo>
                <a:cubicBezTo>
                  <a:pt x="5719" y="11957"/>
                  <a:pt x="5632" y="12029"/>
                  <a:pt x="5631" y="12105"/>
                </a:cubicBezTo>
                <a:cubicBezTo>
                  <a:pt x="5639" y="12105"/>
                  <a:pt x="5647" y="12105"/>
                  <a:pt x="5655" y="12105"/>
                </a:cubicBezTo>
              </a:path>
              <a:path w="4490" h="5111">
                <a:moveTo>
                  <a:pt x="6375" y="11981"/>
                </a:moveTo>
                <a:cubicBezTo>
                  <a:pt x="6629" y="11963"/>
                  <a:pt x="6891" y="11940"/>
                  <a:pt x="7144" y="11906"/>
                </a:cubicBezTo>
                <a:cubicBezTo>
                  <a:pt x="7225" y="11895"/>
                  <a:pt x="7310" y="11843"/>
                  <a:pt x="7268" y="11906"/>
                </a:cubicBezTo>
              </a:path>
              <a:path w="4490" h="5111">
                <a:moveTo>
                  <a:pt x="5854" y="12129"/>
                </a:moveTo>
                <a:cubicBezTo>
                  <a:pt x="5900" y="12144"/>
                  <a:pt x="5879" y="12197"/>
                  <a:pt x="5879" y="12254"/>
                </a:cubicBezTo>
                <a:cubicBezTo>
                  <a:pt x="5879" y="12345"/>
                  <a:pt x="6030" y="12216"/>
                  <a:pt x="6052" y="12204"/>
                </a:cubicBezTo>
              </a:path>
              <a:path w="4490" h="5111">
                <a:moveTo>
                  <a:pt x="5829" y="11534"/>
                </a:moveTo>
                <a:cubicBezTo>
                  <a:pt x="5829" y="11594"/>
                  <a:pt x="5817" y="11674"/>
                  <a:pt x="5904" y="11658"/>
                </a:cubicBezTo>
                <a:cubicBezTo>
                  <a:pt x="5959" y="11630"/>
                  <a:pt x="5975" y="11615"/>
                  <a:pt x="5953" y="11559"/>
                </a:cubicBezTo>
              </a:path>
              <a:path w="4490" h="5111">
                <a:moveTo>
                  <a:pt x="5953" y="11509"/>
                </a:moveTo>
                <a:cubicBezTo>
                  <a:pt x="5947" y="11589"/>
                  <a:pt x="5898" y="11721"/>
                  <a:pt x="5953" y="11757"/>
                </a:cubicBezTo>
              </a:path>
              <a:path w="4490" h="5111">
                <a:moveTo>
                  <a:pt x="6449" y="11410"/>
                </a:moveTo>
                <a:cubicBezTo>
                  <a:pt x="6462" y="11529"/>
                  <a:pt x="6474" y="11637"/>
                  <a:pt x="6474" y="11757"/>
                </a:cubicBezTo>
              </a:path>
              <a:path w="4490" h="5111">
                <a:moveTo>
                  <a:pt x="6672" y="11286"/>
                </a:moveTo>
                <a:cubicBezTo>
                  <a:pt x="6725" y="11304"/>
                  <a:pt x="6708" y="11540"/>
                  <a:pt x="6722" y="11609"/>
                </a:cubicBezTo>
                <a:cubicBezTo>
                  <a:pt x="6759" y="11789"/>
                  <a:pt x="6922" y="11620"/>
                  <a:pt x="6995" y="11559"/>
                </a:cubicBezTo>
                <a:cubicBezTo>
                  <a:pt x="6892" y="11473"/>
                  <a:pt x="6865" y="11568"/>
                  <a:pt x="6846" y="11683"/>
                </a:cubicBezTo>
              </a:path>
              <a:path w="4490" h="5111">
                <a:moveTo>
                  <a:pt x="4762" y="11336"/>
                </a:moveTo>
                <a:cubicBezTo>
                  <a:pt x="5000" y="11422"/>
                  <a:pt x="5141" y="11708"/>
                  <a:pt x="5333" y="11881"/>
                </a:cubicBezTo>
                <a:cubicBezTo>
                  <a:pt x="5498" y="12029"/>
                  <a:pt x="5690" y="12092"/>
                  <a:pt x="5854" y="12229"/>
                </a:cubicBezTo>
              </a:path>
              <a:path w="4490" h="5111">
                <a:moveTo>
                  <a:pt x="5829" y="11460"/>
                </a:moveTo>
                <a:cubicBezTo>
                  <a:pt x="5627" y="11712"/>
                  <a:pt x="5405" y="11917"/>
                  <a:pt x="5184" y="12154"/>
                </a:cubicBezTo>
                <a:cubicBezTo>
                  <a:pt x="5106" y="12251"/>
                  <a:pt x="5089" y="12262"/>
                  <a:pt x="5060" y="12328"/>
                </a:cubicBezTo>
              </a:path>
              <a:path w="4490" h="5111">
                <a:moveTo>
                  <a:pt x="6003" y="12874"/>
                </a:moveTo>
                <a:cubicBezTo>
                  <a:pt x="5937" y="12907"/>
                  <a:pt x="5759" y="12961"/>
                  <a:pt x="5730" y="12998"/>
                </a:cubicBezTo>
                <a:cubicBezTo>
                  <a:pt x="5692" y="13048"/>
                  <a:pt x="5687" y="13085"/>
                  <a:pt x="5680" y="13146"/>
                </a:cubicBezTo>
                <a:cubicBezTo>
                  <a:pt x="5795" y="13172"/>
                  <a:pt x="5882" y="13160"/>
                  <a:pt x="6003" y="13221"/>
                </a:cubicBezTo>
                <a:cubicBezTo>
                  <a:pt x="5979" y="13310"/>
                  <a:pt x="5840" y="13689"/>
                  <a:pt x="5705" y="13419"/>
                </a:cubicBezTo>
                <a:cubicBezTo>
                  <a:pt x="5705" y="13386"/>
                  <a:pt x="5705" y="13353"/>
                  <a:pt x="5705" y="13320"/>
                </a:cubicBezTo>
              </a:path>
              <a:path w="4490" h="5111">
                <a:moveTo>
                  <a:pt x="6226" y="12923"/>
                </a:moveTo>
                <a:cubicBezTo>
                  <a:pt x="6249" y="13100"/>
                  <a:pt x="6269" y="13273"/>
                  <a:pt x="6226" y="13444"/>
                </a:cubicBezTo>
              </a:path>
              <a:path w="4490" h="5111">
                <a:moveTo>
                  <a:pt x="5581" y="13643"/>
                </a:moveTo>
                <a:cubicBezTo>
                  <a:pt x="5869" y="13583"/>
                  <a:pt x="6152" y="13593"/>
                  <a:pt x="6449" y="13593"/>
                </a:cubicBezTo>
                <a:cubicBezTo>
                  <a:pt x="6490" y="13593"/>
                  <a:pt x="6482" y="13593"/>
                  <a:pt x="6400" y="13593"/>
                </a:cubicBezTo>
              </a:path>
              <a:path w="4490" h="5111">
                <a:moveTo>
                  <a:pt x="5804" y="13915"/>
                </a:moveTo>
                <a:cubicBezTo>
                  <a:pt x="5790" y="14001"/>
                  <a:pt x="5673" y="14254"/>
                  <a:pt x="5730" y="14337"/>
                </a:cubicBezTo>
                <a:cubicBezTo>
                  <a:pt x="5816" y="14460"/>
                  <a:pt x="5963" y="14230"/>
                  <a:pt x="6003" y="14188"/>
                </a:cubicBezTo>
                <a:cubicBezTo>
                  <a:pt x="5930" y="14200"/>
                  <a:pt x="5801" y="14231"/>
                  <a:pt x="5829" y="14288"/>
                </a:cubicBezTo>
              </a:path>
              <a:path w="4490" h="5111">
                <a:moveTo>
                  <a:pt x="6152" y="13990"/>
                </a:moveTo>
                <a:cubicBezTo>
                  <a:pt x="6069" y="14130"/>
                  <a:pt x="6058" y="14152"/>
                  <a:pt x="6077" y="14312"/>
                </a:cubicBezTo>
                <a:cubicBezTo>
                  <a:pt x="6186" y="14293"/>
                  <a:pt x="6439" y="14243"/>
                  <a:pt x="6325" y="14064"/>
                </a:cubicBezTo>
                <a:cubicBezTo>
                  <a:pt x="6239" y="13929"/>
                  <a:pt x="6160" y="14090"/>
                  <a:pt x="6201" y="13940"/>
                </a:cubicBezTo>
              </a:path>
              <a:path w="4490" h="5111">
                <a:moveTo>
                  <a:pt x="6573" y="13022"/>
                </a:moveTo>
                <a:cubicBezTo>
                  <a:pt x="6573" y="13072"/>
                  <a:pt x="6573" y="13121"/>
                  <a:pt x="6573" y="13171"/>
                </a:cubicBezTo>
              </a:path>
              <a:path w="4490" h="5111">
                <a:moveTo>
                  <a:pt x="6846" y="13047"/>
                </a:moveTo>
                <a:cubicBezTo>
                  <a:pt x="6933" y="12982"/>
                  <a:pt x="6948" y="12977"/>
                  <a:pt x="6921" y="13072"/>
                </a:cubicBezTo>
                <a:cubicBezTo>
                  <a:pt x="6921" y="13080"/>
                  <a:pt x="6921" y="13089"/>
                  <a:pt x="6921" y="13097"/>
                </a:cubicBezTo>
                <a:cubicBezTo>
                  <a:pt x="6996" y="13110"/>
                  <a:pt x="7012" y="13127"/>
                  <a:pt x="7069" y="13171"/>
                </a:cubicBezTo>
                <a:cubicBezTo>
                  <a:pt x="7003" y="13223"/>
                  <a:pt x="6981" y="13236"/>
                  <a:pt x="6896" y="13246"/>
                </a:cubicBezTo>
              </a:path>
              <a:path w="4490" h="5111">
                <a:moveTo>
                  <a:pt x="6524" y="14114"/>
                </a:moveTo>
                <a:cubicBezTo>
                  <a:pt x="6609" y="14114"/>
                  <a:pt x="6666" y="14109"/>
                  <a:pt x="6747" y="14089"/>
                </a:cubicBezTo>
              </a:path>
              <a:path w="4490" h="5111">
                <a:moveTo>
                  <a:pt x="6945" y="14015"/>
                </a:moveTo>
                <a:cubicBezTo>
                  <a:pt x="6970" y="14007"/>
                  <a:pt x="6995" y="13998"/>
                  <a:pt x="7020" y="13990"/>
                </a:cubicBezTo>
                <a:cubicBezTo>
                  <a:pt x="7037" y="14123"/>
                  <a:pt x="6952" y="14054"/>
                  <a:pt x="7069" y="14139"/>
                </a:cubicBezTo>
                <a:cubicBezTo>
                  <a:pt x="7086" y="14155"/>
                  <a:pt x="7102" y="14172"/>
                  <a:pt x="7119" y="14188"/>
                </a:cubicBezTo>
                <a:cubicBezTo>
                  <a:pt x="7009" y="14274"/>
                  <a:pt x="6956" y="14290"/>
                  <a:pt x="6970" y="14139"/>
                </a:cubicBezTo>
              </a:path>
              <a:path w="4490" h="5111">
                <a:moveTo>
                  <a:pt x="7218" y="13667"/>
                </a:moveTo>
                <a:cubicBezTo>
                  <a:pt x="7269" y="13663"/>
                  <a:pt x="7479" y="13643"/>
                  <a:pt x="7441" y="13643"/>
                </a:cubicBezTo>
              </a:path>
              <a:path w="4490" h="5111">
                <a:moveTo>
                  <a:pt x="7293" y="13816"/>
                </a:moveTo>
                <a:cubicBezTo>
                  <a:pt x="7334" y="13816"/>
                  <a:pt x="7342" y="13816"/>
                  <a:pt x="7367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87680" y="3313080"/>
            <a:ext cx="849240" cy="419040"/>
          </a:xfrm>
          <a:custGeom>
            <a:avLst/>
            <a:gdLst/>
            <a:ahLst/>
            <a:rect l="l" t="t" r="r" b="b"/>
            <a:pathLst>
              <a:path w="2358" h="1166">
                <a:moveTo>
                  <a:pt x="5556" y="9401"/>
                </a:moveTo>
                <a:cubicBezTo>
                  <a:pt x="5534" y="9444"/>
                  <a:pt x="5531" y="9456"/>
                  <a:pt x="5507" y="9475"/>
                </a:cubicBezTo>
                <a:cubicBezTo>
                  <a:pt x="5547" y="9485"/>
                  <a:pt x="5633" y="9513"/>
                  <a:pt x="5606" y="9575"/>
                </a:cubicBezTo>
                <a:cubicBezTo>
                  <a:pt x="5563" y="9575"/>
                  <a:pt x="5538" y="9569"/>
                  <a:pt x="5507" y="9550"/>
                </a:cubicBezTo>
              </a:path>
              <a:path w="2358" h="1166">
                <a:moveTo>
                  <a:pt x="5507" y="9401"/>
                </a:moveTo>
                <a:cubicBezTo>
                  <a:pt x="5625" y="9361"/>
                  <a:pt x="5661" y="9351"/>
                  <a:pt x="5779" y="9351"/>
                </a:cubicBezTo>
              </a:path>
              <a:path w="2358" h="1166">
                <a:moveTo>
                  <a:pt x="6152" y="9426"/>
                </a:moveTo>
                <a:cubicBezTo>
                  <a:pt x="6163" y="9418"/>
                  <a:pt x="6318" y="9351"/>
                  <a:pt x="6350" y="9401"/>
                </a:cubicBezTo>
                <a:cubicBezTo>
                  <a:pt x="6416" y="9503"/>
                  <a:pt x="6321" y="9510"/>
                  <a:pt x="6251" y="9550"/>
                </a:cubicBezTo>
                <a:cubicBezTo>
                  <a:pt x="6326" y="9580"/>
                  <a:pt x="6429" y="9552"/>
                  <a:pt x="6524" y="9599"/>
                </a:cubicBezTo>
                <a:cubicBezTo>
                  <a:pt x="6510" y="9618"/>
                  <a:pt x="6208" y="9898"/>
                  <a:pt x="6201" y="9723"/>
                </a:cubicBezTo>
                <a:cubicBezTo>
                  <a:pt x="6218" y="9690"/>
                  <a:pt x="6234" y="9657"/>
                  <a:pt x="6251" y="9624"/>
                </a:cubicBezTo>
              </a:path>
              <a:path w="2358" h="1166">
                <a:moveTo>
                  <a:pt x="6697" y="9351"/>
                </a:moveTo>
                <a:cubicBezTo>
                  <a:pt x="6689" y="9406"/>
                  <a:pt x="6680" y="9420"/>
                  <a:pt x="6672" y="9475"/>
                </a:cubicBezTo>
                <a:cubicBezTo>
                  <a:pt x="6743" y="9486"/>
                  <a:pt x="6975" y="9511"/>
                  <a:pt x="6896" y="9649"/>
                </a:cubicBezTo>
                <a:cubicBezTo>
                  <a:pt x="6814" y="9794"/>
                  <a:pt x="6731" y="9678"/>
                  <a:pt x="6672" y="9624"/>
                </a:cubicBezTo>
              </a:path>
              <a:path w="2358" h="1166">
                <a:moveTo>
                  <a:pt x="6846" y="9252"/>
                </a:moveTo>
                <a:cubicBezTo>
                  <a:pt x="6913" y="9237"/>
                  <a:pt x="7015" y="9208"/>
                  <a:pt x="7045" y="9227"/>
                </a:cubicBezTo>
              </a:path>
              <a:path w="2358" h="1166">
                <a:moveTo>
                  <a:pt x="5904" y="9872"/>
                </a:moveTo>
                <a:cubicBezTo>
                  <a:pt x="5841" y="9872"/>
                  <a:pt x="6014" y="9872"/>
                  <a:pt x="6052" y="9872"/>
                </a:cubicBezTo>
              </a:path>
              <a:path w="2358" h="1166">
                <a:moveTo>
                  <a:pt x="5854" y="10046"/>
                </a:moveTo>
                <a:cubicBezTo>
                  <a:pt x="5895" y="10046"/>
                  <a:pt x="5937" y="10046"/>
                  <a:pt x="5978" y="10046"/>
                </a:cubicBezTo>
              </a:path>
              <a:path w="2358" h="1166">
                <a:moveTo>
                  <a:pt x="4688" y="9277"/>
                </a:moveTo>
                <a:cubicBezTo>
                  <a:pt x="4778" y="9435"/>
                  <a:pt x="4905" y="9665"/>
                  <a:pt x="5035" y="9798"/>
                </a:cubicBezTo>
                <a:cubicBezTo>
                  <a:pt x="5142" y="9908"/>
                  <a:pt x="5444" y="10177"/>
                  <a:pt x="5507" y="10244"/>
                </a:cubicBezTo>
              </a:path>
              <a:path w="2358" h="1166">
                <a:moveTo>
                  <a:pt x="5730" y="9252"/>
                </a:moveTo>
                <a:cubicBezTo>
                  <a:pt x="5570" y="9492"/>
                  <a:pt x="5404" y="9751"/>
                  <a:pt x="5184" y="9971"/>
                </a:cubicBezTo>
                <a:cubicBezTo>
                  <a:pt x="5041" y="10114"/>
                  <a:pt x="4937" y="10219"/>
                  <a:pt x="4812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57240" y="3500280"/>
            <a:ext cx="196920" cy="18756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5184" y="9748"/>
                </a:moveTo>
                <a:cubicBezTo>
                  <a:pt x="5202" y="9821"/>
                  <a:pt x="5272" y="9880"/>
                  <a:pt x="5308" y="9947"/>
                </a:cubicBezTo>
                <a:cubicBezTo>
                  <a:pt x="5308" y="9955"/>
                  <a:pt x="5308" y="9963"/>
                  <a:pt x="5308" y="9971"/>
                </a:cubicBezTo>
              </a:path>
              <a:path w="547" h="522">
                <a:moveTo>
                  <a:pt x="5259" y="9723"/>
                </a:moveTo>
                <a:cubicBezTo>
                  <a:pt x="5230" y="9822"/>
                  <a:pt x="5179" y="9923"/>
                  <a:pt x="5159" y="10021"/>
                </a:cubicBezTo>
              </a:path>
              <a:path w="547" h="522">
                <a:moveTo>
                  <a:pt x="5606" y="9996"/>
                </a:moveTo>
                <a:cubicBezTo>
                  <a:pt x="5599" y="10026"/>
                  <a:pt x="5588" y="10041"/>
                  <a:pt x="5581" y="10071"/>
                </a:cubicBezTo>
                <a:cubicBezTo>
                  <a:pt x="5605" y="10087"/>
                  <a:pt x="5756" y="10132"/>
                  <a:pt x="5705" y="10195"/>
                </a:cubicBezTo>
                <a:cubicBezTo>
                  <a:pt x="5640" y="10238"/>
                  <a:pt x="5626" y="10259"/>
                  <a:pt x="5581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4720" y="3562200"/>
            <a:ext cx="312480" cy="250920"/>
          </a:xfrm>
          <a:custGeom>
            <a:avLst/>
            <a:gdLst/>
            <a:ahLst/>
            <a:rect l="l" t="t" r="r" b="b"/>
            <a:pathLst>
              <a:path w="869" h="696">
                <a:moveTo>
                  <a:pt x="6325" y="10170"/>
                </a:moveTo>
                <a:cubicBezTo>
                  <a:pt x="6268" y="10256"/>
                  <a:pt x="6149" y="10438"/>
                  <a:pt x="6152" y="10542"/>
                </a:cubicBezTo>
                <a:cubicBezTo>
                  <a:pt x="6157" y="10705"/>
                  <a:pt x="6395" y="10422"/>
                  <a:pt x="6400" y="10418"/>
                </a:cubicBezTo>
                <a:cubicBezTo>
                  <a:pt x="6400" y="10401"/>
                  <a:pt x="6400" y="10385"/>
                  <a:pt x="6400" y="10368"/>
                </a:cubicBezTo>
                <a:cubicBezTo>
                  <a:pt x="6278" y="10442"/>
                  <a:pt x="6148" y="10518"/>
                  <a:pt x="6350" y="10517"/>
                </a:cubicBezTo>
              </a:path>
              <a:path w="869" h="696">
                <a:moveTo>
                  <a:pt x="6722" y="10220"/>
                </a:moveTo>
                <a:cubicBezTo>
                  <a:pt x="6641" y="10364"/>
                  <a:pt x="6630" y="10345"/>
                  <a:pt x="6697" y="10492"/>
                </a:cubicBezTo>
                <a:cubicBezTo>
                  <a:pt x="6800" y="10450"/>
                  <a:pt x="7078" y="10322"/>
                  <a:pt x="6846" y="10220"/>
                </a:cubicBezTo>
                <a:cubicBezTo>
                  <a:pt x="6805" y="10212"/>
                  <a:pt x="6763" y="10203"/>
                  <a:pt x="6722" y="10195"/>
                </a:cubicBezTo>
              </a:path>
              <a:path w="869" h="696">
                <a:moveTo>
                  <a:pt x="6251" y="10021"/>
                </a:moveTo>
                <a:cubicBezTo>
                  <a:pt x="6475" y="9971"/>
                  <a:pt x="6688" y="9916"/>
                  <a:pt x="6921" y="9897"/>
                </a:cubicBezTo>
                <a:cubicBezTo>
                  <a:pt x="7004" y="9897"/>
                  <a:pt x="7053" y="9897"/>
                  <a:pt x="6970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3490920"/>
            <a:ext cx="4761000" cy="911160"/>
          </a:xfrm>
          <a:custGeom>
            <a:avLst/>
            <a:gdLst/>
            <a:ahLst/>
            <a:rect l="l" t="t" r="r" b="b"/>
            <a:pathLst>
              <a:path w="13222" h="2531">
                <a:moveTo>
                  <a:pt x="5209" y="12229"/>
                </a:moveTo>
                <a:cubicBezTo>
                  <a:pt x="5331" y="12192"/>
                  <a:pt x="5431" y="12176"/>
                  <a:pt x="5556" y="12154"/>
                </a:cubicBezTo>
              </a:path>
              <a:path w="13222" h="2531">
                <a:moveTo>
                  <a:pt x="5606" y="10021"/>
                </a:moveTo>
                <a:cubicBezTo>
                  <a:pt x="5677" y="9973"/>
                  <a:pt x="5698" y="9957"/>
                  <a:pt x="5755" y="9947"/>
                </a:cubicBezTo>
              </a:path>
              <a:path w="13222" h="2531">
                <a:moveTo>
                  <a:pt x="5482" y="9773"/>
                </a:moveTo>
                <a:cubicBezTo>
                  <a:pt x="5533" y="9721"/>
                  <a:pt x="5640" y="9708"/>
                  <a:pt x="5730" y="9699"/>
                </a:cubicBezTo>
              </a:path>
              <a:path w="13222" h="2531">
                <a:moveTo>
                  <a:pt x="15577" y="11485"/>
                </a:moveTo>
                <a:cubicBezTo>
                  <a:pt x="15692" y="11462"/>
                  <a:pt x="15807" y="11452"/>
                  <a:pt x="15925" y="11435"/>
                </a:cubicBezTo>
              </a:path>
              <a:path w="13222" h="2531">
                <a:moveTo>
                  <a:pt x="17909" y="11410"/>
                </a:moveTo>
                <a:cubicBezTo>
                  <a:pt x="17946" y="11483"/>
                  <a:pt x="17986" y="11557"/>
                  <a:pt x="18008" y="11633"/>
                </a:cubicBezTo>
              </a:path>
              <a:path w="13222" h="2531">
                <a:moveTo>
                  <a:pt x="18058" y="11435"/>
                </a:moveTo>
                <a:cubicBezTo>
                  <a:pt x="18019" y="11519"/>
                  <a:pt x="17952" y="11594"/>
                  <a:pt x="17934" y="11683"/>
                </a:cubicBezTo>
              </a:path>
              <a:path w="13222" h="2531">
                <a:moveTo>
                  <a:pt x="18281" y="11584"/>
                </a:moveTo>
                <a:cubicBezTo>
                  <a:pt x="18370" y="11562"/>
                  <a:pt x="18395" y="11561"/>
                  <a:pt x="18430" y="11509"/>
                </a:cubicBezTo>
              </a:path>
              <a:path w="13222" h="2531">
                <a:moveTo>
                  <a:pt x="18281" y="11112"/>
                </a:moveTo>
                <a:cubicBezTo>
                  <a:pt x="18325" y="11091"/>
                  <a:pt x="18337" y="11088"/>
                  <a:pt x="18355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1920" y="5402160"/>
            <a:ext cx="1135080" cy="527040"/>
          </a:xfrm>
          <a:custGeom>
            <a:avLst/>
            <a:gdLst/>
            <a:ahLst/>
            <a:rect l="l" t="t" r="r" b="b"/>
            <a:pathLst>
              <a:path w="3151" h="1464">
                <a:moveTo>
                  <a:pt x="5383" y="15180"/>
                </a:moveTo>
                <a:cubicBezTo>
                  <a:pt x="5406" y="15302"/>
                  <a:pt x="5407" y="15425"/>
                  <a:pt x="5407" y="15553"/>
                </a:cubicBezTo>
                <a:cubicBezTo>
                  <a:pt x="5407" y="15612"/>
                  <a:pt x="5410" y="15619"/>
                  <a:pt x="5432" y="15528"/>
                </a:cubicBezTo>
              </a:path>
              <a:path w="3151" h="1464">
                <a:moveTo>
                  <a:pt x="5556" y="15106"/>
                </a:moveTo>
                <a:cubicBezTo>
                  <a:pt x="5664" y="15106"/>
                  <a:pt x="5771" y="15106"/>
                  <a:pt x="5879" y="15106"/>
                </a:cubicBezTo>
                <a:cubicBezTo>
                  <a:pt x="5879" y="15234"/>
                  <a:pt x="5845" y="15352"/>
                  <a:pt x="5829" y="15478"/>
                </a:cubicBezTo>
                <a:cubicBezTo>
                  <a:pt x="5829" y="15495"/>
                  <a:pt x="5829" y="15511"/>
                  <a:pt x="5829" y="15528"/>
                </a:cubicBezTo>
              </a:path>
              <a:path w="3151" h="1464">
                <a:moveTo>
                  <a:pt x="5159" y="15776"/>
                </a:moveTo>
                <a:cubicBezTo>
                  <a:pt x="5400" y="15776"/>
                  <a:pt x="5642" y="15686"/>
                  <a:pt x="5879" y="15652"/>
                </a:cubicBezTo>
                <a:cubicBezTo>
                  <a:pt x="6020" y="15632"/>
                  <a:pt x="6393" y="15602"/>
                  <a:pt x="6251" y="15602"/>
                </a:cubicBezTo>
              </a:path>
              <a:path w="3151" h="1464">
                <a:moveTo>
                  <a:pt x="5308" y="15974"/>
                </a:moveTo>
                <a:cubicBezTo>
                  <a:pt x="5308" y="15999"/>
                  <a:pt x="5308" y="16007"/>
                  <a:pt x="5308" y="16024"/>
                </a:cubicBezTo>
                <a:cubicBezTo>
                  <a:pt x="5316" y="16001"/>
                  <a:pt x="5440" y="15900"/>
                  <a:pt x="5482" y="15925"/>
                </a:cubicBezTo>
                <a:cubicBezTo>
                  <a:pt x="5616" y="16003"/>
                  <a:pt x="5377" y="16231"/>
                  <a:pt x="5333" y="16272"/>
                </a:cubicBezTo>
                <a:cubicBezTo>
                  <a:pt x="5308" y="16297"/>
                  <a:pt x="5300" y="16305"/>
                  <a:pt x="5283" y="16321"/>
                </a:cubicBezTo>
                <a:cubicBezTo>
                  <a:pt x="5354" y="16266"/>
                  <a:pt x="5386" y="16190"/>
                  <a:pt x="5482" y="16197"/>
                </a:cubicBezTo>
                <a:cubicBezTo>
                  <a:pt x="5539" y="16201"/>
                  <a:pt x="5626" y="16278"/>
                  <a:pt x="5680" y="16272"/>
                </a:cubicBezTo>
                <a:cubicBezTo>
                  <a:pt x="5768" y="16262"/>
                  <a:pt x="5854" y="16126"/>
                  <a:pt x="5904" y="16073"/>
                </a:cubicBezTo>
              </a:path>
              <a:path w="3151" h="1464">
                <a:moveTo>
                  <a:pt x="5953" y="15974"/>
                </a:moveTo>
                <a:cubicBezTo>
                  <a:pt x="5880" y="16040"/>
                  <a:pt x="5850" y="16082"/>
                  <a:pt x="5804" y="16173"/>
                </a:cubicBezTo>
                <a:cubicBezTo>
                  <a:pt x="5920" y="16207"/>
                  <a:pt x="6030" y="16231"/>
                  <a:pt x="6077" y="16098"/>
                </a:cubicBezTo>
                <a:cubicBezTo>
                  <a:pt x="6104" y="16021"/>
                  <a:pt x="6002" y="16001"/>
                  <a:pt x="5953" y="15974"/>
                </a:cubicBezTo>
              </a:path>
              <a:path w="3151" h="1464">
                <a:moveTo>
                  <a:pt x="3994" y="15255"/>
                </a:moveTo>
                <a:cubicBezTo>
                  <a:pt x="4045" y="15273"/>
                  <a:pt x="4018" y="15427"/>
                  <a:pt x="4018" y="15478"/>
                </a:cubicBezTo>
                <a:cubicBezTo>
                  <a:pt x="4018" y="15567"/>
                  <a:pt x="3945" y="15833"/>
                  <a:pt x="4043" y="15900"/>
                </a:cubicBezTo>
                <a:cubicBezTo>
                  <a:pt x="4168" y="15986"/>
                  <a:pt x="4405" y="15894"/>
                  <a:pt x="4514" y="15801"/>
                </a:cubicBezTo>
                <a:cubicBezTo>
                  <a:pt x="4564" y="15758"/>
                  <a:pt x="4664" y="15631"/>
                  <a:pt x="4564" y="15577"/>
                </a:cubicBezTo>
                <a:cubicBezTo>
                  <a:pt x="4397" y="15487"/>
                  <a:pt x="4280" y="15633"/>
                  <a:pt x="4242" y="15776"/>
                </a:cubicBezTo>
                <a:cubicBezTo>
                  <a:pt x="4242" y="15827"/>
                  <a:pt x="4243" y="15845"/>
                  <a:pt x="4266" y="15875"/>
                </a:cubicBezTo>
              </a:path>
              <a:path w="3151" h="1464">
                <a:moveTo>
                  <a:pt x="3423" y="16173"/>
                </a:moveTo>
                <a:cubicBezTo>
                  <a:pt x="3502" y="16245"/>
                  <a:pt x="3592" y="16290"/>
                  <a:pt x="3721" y="16321"/>
                </a:cubicBezTo>
                <a:cubicBezTo>
                  <a:pt x="3959" y="16378"/>
                  <a:pt x="4193" y="16455"/>
                  <a:pt x="4440" y="16470"/>
                </a:cubicBezTo>
                <a:cubicBezTo>
                  <a:pt x="4779" y="16491"/>
                  <a:pt x="5146" y="16494"/>
                  <a:pt x="5482" y="16446"/>
                </a:cubicBezTo>
                <a:cubicBezTo>
                  <a:pt x="5694" y="16415"/>
                  <a:pt x="5922" y="16314"/>
                  <a:pt x="6102" y="16197"/>
                </a:cubicBezTo>
                <a:cubicBezTo>
                  <a:pt x="6244" y="16104"/>
                  <a:pt x="6523" y="15958"/>
                  <a:pt x="6573" y="15776"/>
                </a:cubicBezTo>
                <a:cubicBezTo>
                  <a:pt x="6616" y="15616"/>
                  <a:pt x="6411" y="15431"/>
                  <a:pt x="6300" y="15354"/>
                </a:cubicBezTo>
                <a:cubicBezTo>
                  <a:pt x="6070" y="15195"/>
                  <a:pt x="5826" y="15119"/>
                  <a:pt x="5556" y="15056"/>
                </a:cubicBezTo>
                <a:cubicBezTo>
                  <a:pt x="5305" y="14997"/>
                  <a:pt x="5068" y="15007"/>
                  <a:pt x="4812" y="15007"/>
                </a:cubicBezTo>
                <a:cubicBezTo>
                  <a:pt x="4492" y="15007"/>
                  <a:pt x="4248" y="15077"/>
                  <a:pt x="3969" y="15230"/>
                </a:cubicBezTo>
                <a:cubicBezTo>
                  <a:pt x="3794" y="15326"/>
                  <a:pt x="3663" y="15474"/>
                  <a:pt x="3572" y="15652"/>
                </a:cubicBezTo>
                <a:cubicBezTo>
                  <a:pt x="3548" y="15698"/>
                  <a:pt x="3432" y="16018"/>
                  <a:pt x="3448" y="16049"/>
                </a:cubicBezTo>
                <a:cubicBezTo>
                  <a:pt x="3503" y="16158"/>
                  <a:pt x="3686" y="16143"/>
                  <a:pt x="3795" y="16148"/>
                </a:cubicBezTo>
                <a:cubicBezTo>
                  <a:pt x="3818" y="16171"/>
                  <a:pt x="3826" y="16182"/>
                  <a:pt x="3820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52840" y="4705200"/>
            <a:ext cx="392040" cy="438480"/>
          </a:xfrm>
          <a:custGeom>
            <a:avLst/>
            <a:gdLst/>
            <a:ahLst/>
            <a:rect l="l" t="t" r="r" b="b"/>
            <a:pathLst>
              <a:path w="1092" h="1217">
                <a:moveTo>
                  <a:pt x="7367" y="13816"/>
                </a:moveTo>
                <a:lnTo>
                  <a:pt x="7367" y="13816"/>
                </a:lnTo>
              </a:path>
              <a:path w="1092" h="1217">
                <a:moveTo>
                  <a:pt x="7789" y="13171"/>
                </a:moveTo>
                <a:cubicBezTo>
                  <a:pt x="7790" y="13192"/>
                  <a:pt x="7813" y="13690"/>
                  <a:pt x="7813" y="13543"/>
                </a:cubicBezTo>
              </a:path>
              <a:path w="1092" h="1217">
                <a:moveTo>
                  <a:pt x="7962" y="13097"/>
                </a:moveTo>
                <a:cubicBezTo>
                  <a:pt x="8064" y="13092"/>
                  <a:pt x="8159" y="13081"/>
                  <a:pt x="8260" y="13072"/>
                </a:cubicBezTo>
                <a:cubicBezTo>
                  <a:pt x="8240" y="13212"/>
                  <a:pt x="8206" y="13353"/>
                  <a:pt x="8186" y="13494"/>
                </a:cubicBezTo>
                <a:cubicBezTo>
                  <a:pt x="8186" y="13502"/>
                  <a:pt x="8186" y="13511"/>
                  <a:pt x="8186" y="13519"/>
                </a:cubicBezTo>
              </a:path>
              <a:path w="1092" h="1217">
                <a:moveTo>
                  <a:pt x="7665" y="13692"/>
                </a:moveTo>
                <a:cubicBezTo>
                  <a:pt x="7931" y="13632"/>
                  <a:pt x="8185" y="13593"/>
                  <a:pt x="8458" y="13593"/>
                </a:cubicBezTo>
              </a:path>
              <a:path w="1092" h="1217">
                <a:moveTo>
                  <a:pt x="7863" y="13816"/>
                </a:moveTo>
                <a:cubicBezTo>
                  <a:pt x="7808" y="13926"/>
                  <a:pt x="7797" y="14064"/>
                  <a:pt x="7764" y="14188"/>
                </a:cubicBezTo>
                <a:cubicBezTo>
                  <a:pt x="7888" y="14163"/>
                  <a:pt x="7921" y="14100"/>
                  <a:pt x="8012" y="14039"/>
                </a:cubicBezTo>
                <a:cubicBezTo>
                  <a:pt x="7926" y="14040"/>
                  <a:pt x="7818" y="14053"/>
                  <a:pt x="7863" y="14163"/>
                </a:cubicBezTo>
              </a:path>
              <a:path w="1092" h="1217">
                <a:moveTo>
                  <a:pt x="8136" y="13841"/>
                </a:moveTo>
                <a:cubicBezTo>
                  <a:pt x="8080" y="14007"/>
                  <a:pt x="8074" y="14019"/>
                  <a:pt x="8161" y="14163"/>
                </a:cubicBezTo>
                <a:cubicBezTo>
                  <a:pt x="8261" y="14120"/>
                  <a:pt x="8504" y="13956"/>
                  <a:pt x="8260" y="13866"/>
                </a:cubicBezTo>
                <a:cubicBezTo>
                  <a:pt x="8219" y="13866"/>
                  <a:pt x="8177" y="13866"/>
                  <a:pt x="8136" y="13866"/>
                </a:cubicBezTo>
              </a:path>
              <a:path w="1092" h="1217">
                <a:moveTo>
                  <a:pt x="7689" y="13940"/>
                </a:moveTo>
                <a:cubicBezTo>
                  <a:pt x="7705" y="13846"/>
                  <a:pt x="7713" y="13847"/>
                  <a:pt x="7789" y="13816"/>
                </a:cubicBezTo>
                <a:cubicBezTo>
                  <a:pt x="7867" y="13784"/>
                  <a:pt x="7885" y="13800"/>
                  <a:pt x="7962" y="13816"/>
                </a:cubicBezTo>
                <a:cubicBezTo>
                  <a:pt x="7953" y="13900"/>
                  <a:pt x="7927" y="14003"/>
                  <a:pt x="7863" y="14064"/>
                </a:cubicBezTo>
                <a:cubicBezTo>
                  <a:pt x="7789" y="14134"/>
                  <a:pt x="7622" y="14381"/>
                  <a:pt x="7665" y="14288"/>
                </a:cubicBezTo>
                <a:cubicBezTo>
                  <a:pt x="7700" y="14212"/>
                  <a:pt x="7730" y="14146"/>
                  <a:pt x="7813" y="14114"/>
                </a:cubicBezTo>
                <a:cubicBezTo>
                  <a:pt x="7873" y="14091"/>
                  <a:pt x="7937" y="14168"/>
                  <a:pt x="7987" y="14188"/>
                </a:cubicBezTo>
                <a:cubicBezTo>
                  <a:pt x="8048" y="14208"/>
                  <a:pt x="8063" y="14227"/>
                  <a:pt x="8086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30920" y="3375000"/>
            <a:ext cx="492120" cy="384120"/>
          </a:xfrm>
          <a:custGeom>
            <a:avLst/>
            <a:gdLst/>
            <a:ahLst/>
            <a:rect l="l" t="t" r="r" b="b"/>
            <a:pathLst>
              <a:path w="1366" h="1068">
                <a:moveTo>
                  <a:pt x="16495" y="9575"/>
                </a:moveTo>
                <a:cubicBezTo>
                  <a:pt x="16364" y="9627"/>
                  <a:pt x="16292" y="9654"/>
                  <a:pt x="16197" y="9748"/>
                </a:cubicBezTo>
                <a:cubicBezTo>
                  <a:pt x="16269" y="9828"/>
                  <a:pt x="16641" y="10095"/>
                  <a:pt x="16520" y="10220"/>
                </a:cubicBezTo>
                <a:cubicBezTo>
                  <a:pt x="16398" y="10268"/>
                  <a:pt x="16359" y="10285"/>
                  <a:pt x="16272" y="10244"/>
                </a:cubicBezTo>
                <a:cubicBezTo>
                  <a:pt x="16323" y="10112"/>
                  <a:pt x="16545" y="9914"/>
                  <a:pt x="16545" y="9798"/>
                </a:cubicBezTo>
                <a:cubicBezTo>
                  <a:pt x="16512" y="9798"/>
                  <a:pt x="16503" y="9790"/>
                  <a:pt x="16520" y="9748"/>
                </a:cubicBezTo>
              </a:path>
              <a:path w="1366" h="1068">
                <a:moveTo>
                  <a:pt x="17066" y="9401"/>
                </a:moveTo>
                <a:cubicBezTo>
                  <a:pt x="17080" y="9500"/>
                  <a:pt x="17090" y="9573"/>
                  <a:pt x="17090" y="9674"/>
                </a:cubicBezTo>
              </a:path>
              <a:path w="1366" h="1068">
                <a:moveTo>
                  <a:pt x="17314" y="9376"/>
                </a:moveTo>
                <a:cubicBezTo>
                  <a:pt x="17329" y="9465"/>
                  <a:pt x="17338" y="9531"/>
                  <a:pt x="17338" y="9624"/>
                </a:cubicBezTo>
              </a:path>
              <a:path w="1366" h="1068">
                <a:moveTo>
                  <a:pt x="16867" y="9947"/>
                </a:moveTo>
                <a:cubicBezTo>
                  <a:pt x="17055" y="9906"/>
                  <a:pt x="17244" y="9835"/>
                  <a:pt x="17438" y="9798"/>
                </a:cubicBezTo>
                <a:cubicBezTo>
                  <a:pt x="17462" y="9798"/>
                  <a:pt x="17470" y="9798"/>
                  <a:pt x="17462" y="9823"/>
                </a:cubicBezTo>
              </a:path>
              <a:path w="1366" h="1068">
                <a:moveTo>
                  <a:pt x="16892" y="10170"/>
                </a:moveTo>
                <a:cubicBezTo>
                  <a:pt x="16924" y="10170"/>
                  <a:pt x="17133" y="10149"/>
                  <a:pt x="17066" y="10244"/>
                </a:cubicBezTo>
                <a:cubicBezTo>
                  <a:pt x="16968" y="10342"/>
                  <a:pt x="16937" y="10374"/>
                  <a:pt x="16842" y="10393"/>
                </a:cubicBezTo>
                <a:cubicBezTo>
                  <a:pt x="16834" y="10401"/>
                  <a:pt x="16826" y="10410"/>
                  <a:pt x="16818" y="10418"/>
                </a:cubicBezTo>
                <a:cubicBezTo>
                  <a:pt x="16959" y="10439"/>
                  <a:pt x="17013" y="10432"/>
                  <a:pt x="17140" y="10368"/>
                </a:cubicBezTo>
              </a:path>
              <a:path w="1366" h="1068">
                <a:moveTo>
                  <a:pt x="17314" y="10170"/>
                </a:moveTo>
                <a:cubicBezTo>
                  <a:pt x="17247" y="10281"/>
                  <a:pt x="17222" y="10307"/>
                  <a:pt x="17239" y="10393"/>
                </a:cubicBezTo>
                <a:cubicBezTo>
                  <a:pt x="17346" y="10393"/>
                  <a:pt x="17638" y="10426"/>
                  <a:pt x="17562" y="10220"/>
                </a:cubicBezTo>
                <a:cubicBezTo>
                  <a:pt x="17488" y="10146"/>
                  <a:pt x="17464" y="10121"/>
                  <a:pt x="17388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1880" y="3983040"/>
            <a:ext cx="1687320" cy="1044720"/>
          </a:xfrm>
          <a:custGeom>
            <a:avLst/>
            <a:gdLst/>
            <a:ahLst/>
            <a:rect l="l" t="t" r="r" b="b"/>
            <a:pathLst>
              <a:path w="4689" h="2903">
                <a:moveTo>
                  <a:pt x="15627" y="11311"/>
                </a:moveTo>
                <a:cubicBezTo>
                  <a:pt x="15630" y="11378"/>
                  <a:pt x="15703" y="11683"/>
                  <a:pt x="15627" y="11584"/>
                </a:cubicBezTo>
              </a:path>
              <a:path w="4689" h="2903">
                <a:moveTo>
                  <a:pt x="16371" y="11286"/>
                </a:moveTo>
                <a:cubicBezTo>
                  <a:pt x="16401" y="11226"/>
                  <a:pt x="16443" y="11234"/>
                  <a:pt x="16520" y="11212"/>
                </a:cubicBezTo>
                <a:cubicBezTo>
                  <a:pt x="16564" y="11388"/>
                  <a:pt x="16410" y="11528"/>
                  <a:pt x="16321" y="11683"/>
                </a:cubicBezTo>
                <a:cubicBezTo>
                  <a:pt x="16305" y="11716"/>
                  <a:pt x="16288" y="11749"/>
                  <a:pt x="16272" y="11782"/>
                </a:cubicBezTo>
                <a:cubicBezTo>
                  <a:pt x="16418" y="11758"/>
                  <a:pt x="16573" y="11756"/>
                  <a:pt x="16718" y="11733"/>
                </a:cubicBezTo>
                <a:cubicBezTo>
                  <a:pt x="16735" y="11725"/>
                  <a:pt x="16751" y="11716"/>
                  <a:pt x="16768" y="11708"/>
                </a:cubicBezTo>
              </a:path>
              <a:path w="4689" h="2903">
                <a:moveTo>
                  <a:pt x="16098" y="11311"/>
                </a:moveTo>
                <a:cubicBezTo>
                  <a:pt x="16098" y="11452"/>
                  <a:pt x="16076" y="11591"/>
                  <a:pt x="16073" y="11733"/>
                </a:cubicBezTo>
                <a:cubicBezTo>
                  <a:pt x="16072" y="11799"/>
                  <a:pt x="16073" y="11947"/>
                  <a:pt x="16073" y="11881"/>
                </a:cubicBezTo>
              </a:path>
              <a:path w="4689" h="2903">
                <a:moveTo>
                  <a:pt x="17314" y="11088"/>
                </a:moveTo>
                <a:cubicBezTo>
                  <a:pt x="17314" y="11004"/>
                  <a:pt x="17336" y="11202"/>
                  <a:pt x="17338" y="11286"/>
                </a:cubicBezTo>
                <a:cubicBezTo>
                  <a:pt x="17338" y="11360"/>
                  <a:pt x="17338" y="11369"/>
                  <a:pt x="17338" y="11410"/>
                </a:cubicBezTo>
              </a:path>
              <a:path w="4689" h="2903">
                <a:moveTo>
                  <a:pt x="17115" y="11485"/>
                </a:moveTo>
                <a:cubicBezTo>
                  <a:pt x="17298" y="11477"/>
                  <a:pt x="17477" y="11460"/>
                  <a:pt x="17661" y="11460"/>
                </a:cubicBezTo>
              </a:path>
              <a:path w="4689" h="2903">
                <a:moveTo>
                  <a:pt x="17289" y="11733"/>
                </a:moveTo>
                <a:cubicBezTo>
                  <a:pt x="17274" y="11793"/>
                  <a:pt x="17229" y="11840"/>
                  <a:pt x="17214" y="11906"/>
                </a:cubicBezTo>
                <a:cubicBezTo>
                  <a:pt x="17358" y="11946"/>
                  <a:pt x="17414" y="11953"/>
                  <a:pt x="17487" y="11832"/>
                </a:cubicBezTo>
              </a:path>
              <a:path w="4689" h="2903">
                <a:moveTo>
                  <a:pt x="17462" y="11733"/>
                </a:moveTo>
                <a:cubicBezTo>
                  <a:pt x="17462" y="11857"/>
                  <a:pt x="17462" y="11981"/>
                  <a:pt x="17462" y="12105"/>
                </a:cubicBezTo>
              </a:path>
              <a:path w="4689" h="2903">
                <a:moveTo>
                  <a:pt x="18231" y="11336"/>
                </a:moveTo>
                <a:cubicBezTo>
                  <a:pt x="18277" y="11327"/>
                  <a:pt x="18312" y="11308"/>
                  <a:pt x="18355" y="11286"/>
                </a:cubicBezTo>
              </a:path>
              <a:path w="4689" h="2903">
                <a:moveTo>
                  <a:pt x="18256" y="11137"/>
                </a:moveTo>
                <a:cubicBezTo>
                  <a:pt x="18233" y="11160"/>
                  <a:pt x="18225" y="11164"/>
                  <a:pt x="18231" y="11187"/>
                </a:cubicBezTo>
                <a:cubicBezTo>
                  <a:pt x="18301" y="11187"/>
                  <a:pt x="18288" y="11210"/>
                  <a:pt x="18256" y="11261"/>
                </a:cubicBezTo>
                <a:cubicBezTo>
                  <a:pt x="18226" y="11232"/>
                  <a:pt x="18212" y="11221"/>
                  <a:pt x="18182" y="11212"/>
                </a:cubicBezTo>
              </a:path>
              <a:path w="4689" h="2903">
                <a:moveTo>
                  <a:pt x="17487" y="11112"/>
                </a:moveTo>
                <a:cubicBezTo>
                  <a:pt x="17548" y="11156"/>
                  <a:pt x="17703" y="11244"/>
                  <a:pt x="17785" y="11286"/>
                </a:cubicBezTo>
                <a:cubicBezTo>
                  <a:pt x="18041" y="11418"/>
                  <a:pt x="18366" y="11509"/>
                  <a:pt x="18604" y="11658"/>
                </a:cubicBezTo>
                <a:cubicBezTo>
                  <a:pt x="18596" y="11666"/>
                  <a:pt x="18587" y="11675"/>
                  <a:pt x="18579" y="11683"/>
                </a:cubicBezTo>
              </a:path>
              <a:path w="4689" h="2903">
                <a:moveTo>
                  <a:pt x="18430" y="11088"/>
                </a:moveTo>
                <a:cubicBezTo>
                  <a:pt x="18298" y="11210"/>
                  <a:pt x="18015" y="11512"/>
                  <a:pt x="17835" y="11683"/>
                </a:cubicBezTo>
                <a:cubicBezTo>
                  <a:pt x="17751" y="11762"/>
                  <a:pt x="17497" y="12017"/>
                  <a:pt x="17462" y="12055"/>
                </a:cubicBezTo>
              </a:path>
              <a:path w="4689" h="2903">
                <a:moveTo>
                  <a:pt x="15056" y="12353"/>
                </a:moveTo>
                <a:cubicBezTo>
                  <a:pt x="15114" y="12397"/>
                  <a:pt x="15264" y="12425"/>
                  <a:pt x="15453" y="12427"/>
                </a:cubicBezTo>
                <a:cubicBezTo>
                  <a:pt x="15886" y="12432"/>
                  <a:pt x="16311" y="12407"/>
                  <a:pt x="16743" y="12378"/>
                </a:cubicBezTo>
                <a:cubicBezTo>
                  <a:pt x="17180" y="12349"/>
                  <a:pt x="17620" y="12332"/>
                  <a:pt x="18058" y="12328"/>
                </a:cubicBezTo>
                <a:cubicBezTo>
                  <a:pt x="18399" y="12325"/>
                  <a:pt x="18736" y="12291"/>
                  <a:pt x="19075" y="12278"/>
                </a:cubicBezTo>
                <a:cubicBezTo>
                  <a:pt x="19285" y="12270"/>
                  <a:pt x="19489" y="12284"/>
                  <a:pt x="19695" y="12303"/>
                </a:cubicBezTo>
                <a:cubicBezTo>
                  <a:pt x="19703" y="12303"/>
                  <a:pt x="19712" y="12303"/>
                  <a:pt x="19720" y="12303"/>
                </a:cubicBezTo>
              </a:path>
              <a:path w="4689" h="2903">
                <a:moveTo>
                  <a:pt x="16991" y="12626"/>
                </a:moveTo>
                <a:cubicBezTo>
                  <a:pt x="17012" y="12752"/>
                  <a:pt x="17016" y="12869"/>
                  <a:pt x="17016" y="12998"/>
                </a:cubicBezTo>
                <a:cubicBezTo>
                  <a:pt x="17016" y="12990"/>
                  <a:pt x="17016" y="12981"/>
                  <a:pt x="17016" y="12973"/>
                </a:cubicBezTo>
              </a:path>
              <a:path w="4689" h="2903">
                <a:moveTo>
                  <a:pt x="17289" y="12601"/>
                </a:moveTo>
                <a:cubicBezTo>
                  <a:pt x="17261" y="12667"/>
                  <a:pt x="17140" y="12883"/>
                  <a:pt x="17239" y="12948"/>
                </a:cubicBezTo>
                <a:cubicBezTo>
                  <a:pt x="17320" y="13001"/>
                  <a:pt x="17374" y="12965"/>
                  <a:pt x="17438" y="12923"/>
                </a:cubicBezTo>
                <a:cubicBezTo>
                  <a:pt x="17353" y="12880"/>
                  <a:pt x="17302" y="12900"/>
                  <a:pt x="17264" y="12998"/>
                </a:cubicBezTo>
                <a:cubicBezTo>
                  <a:pt x="17264" y="13006"/>
                  <a:pt x="17264" y="13014"/>
                  <a:pt x="17264" y="13022"/>
                </a:cubicBezTo>
              </a:path>
              <a:path w="4689" h="2903">
                <a:moveTo>
                  <a:pt x="17016" y="13295"/>
                </a:moveTo>
                <a:cubicBezTo>
                  <a:pt x="17206" y="13272"/>
                  <a:pt x="17397" y="13242"/>
                  <a:pt x="17587" y="13221"/>
                </a:cubicBezTo>
              </a:path>
              <a:path w="4689" h="2903">
                <a:moveTo>
                  <a:pt x="17016" y="13618"/>
                </a:moveTo>
                <a:cubicBezTo>
                  <a:pt x="17091" y="13631"/>
                  <a:pt x="17111" y="13706"/>
                  <a:pt x="17066" y="13791"/>
                </a:cubicBezTo>
                <a:cubicBezTo>
                  <a:pt x="16995" y="13886"/>
                  <a:pt x="16975" y="13914"/>
                  <a:pt x="16917" y="13965"/>
                </a:cubicBezTo>
                <a:cubicBezTo>
                  <a:pt x="17044" y="13965"/>
                  <a:pt x="17158" y="13992"/>
                  <a:pt x="17264" y="13915"/>
                </a:cubicBezTo>
                <a:cubicBezTo>
                  <a:pt x="17289" y="13890"/>
                  <a:pt x="17313" y="13866"/>
                  <a:pt x="17338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86240" y="3911760"/>
            <a:ext cx="1795680" cy="2160360"/>
          </a:xfrm>
          <a:custGeom>
            <a:avLst/>
            <a:gdLst/>
            <a:ahLst/>
            <a:rect l="l" t="t" r="r" b="b"/>
            <a:pathLst>
              <a:path w="4987" h="6004">
                <a:moveTo>
                  <a:pt x="18231" y="11584"/>
                </a:moveTo>
                <a:cubicBezTo>
                  <a:pt x="18252" y="11636"/>
                  <a:pt x="18355" y="11694"/>
                  <a:pt x="18355" y="11757"/>
                </a:cubicBezTo>
                <a:cubicBezTo>
                  <a:pt x="18355" y="11853"/>
                  <a:pt x="18246" y="11793"/>
                  <a:pt x="18207" y="11782"/>
                </a:cubicBezTo>
              </a:path>
              <a:path w="4987" h="6004">
                <a:moveTo>
                  <a:pt x="18653" y="11336"/>
                </a:moveTo>
                <a:cubicBezTo>
                  <a:pt x="18738" y="11336"/>
                  <a:pt x="18786" y="11310"/>
                  <a:pt x="18752" y="11361"/>
                </a:cubicBezTo>
              </a:path>
              <a:path w="4987" h="6004">
                <a:moveTo>
                  <a:pt x="18604" y="11460"/>
                </a:moveTo>
                <a:cubicBezTo>
                  <a:pt x="18686" y="11432"/>
                  <a:pt x="18718" y="11422"/>
                  <a:pt x="18777" y="11410"/>
                </a:cubicBezTo>
              </a:path>
              <a:path w="4987" h="6004">
                <a:moveTo>
                  <a:pt x="18777" y="11410"/>
                </a:moveTo>
                <a:lnTo>
                  <a:pt x="18777" y="11410"/>
                </a:lnTo>
              </a:path>
              <a:path w="4987" h="6004">
                <a:moveTo>
                  <a:pt x="19124" y="10914"/>
                </a:moveTo>
                <a:cubicBezTo>
                  <a:pt x="19102" y="10937"/>
                  <a:pt x="19094" y="10942"/>
                  <a:pt x="19100" y="10964"/>
                </a:cubicBezTo>
                <a:cubicBezTo>
                  <a:pt x="19217" y="11015"/>
                  <a:pt x="19242" y="11009"/>
                  <a:pt x="19199" y="11137"/>
                </a:cubicBezTo>
                <a:cubicBezTo>
                  <a:pt x="19086" y="11124"/>
                  <a:pt x="19105" y="11137"/>
                  <a:pt x="19075" y="11038"/>
                </a:cubicBezTo>
              </a:path>
              <a:path w="4987" h="6004">
                <a:moveTo>
                  <a:pt x="19248" y="10889"/>
                </a:moveTo>
                <a:cubicBezTo>
                  <a:pt x="19319" y="10874"/>
                  <a:pt x="19354" y="10864"/>
                  <a:pt x="19422" y="10864"/>
                </a:cubicBezTo>
              </a:path>
              <a:path w="4987" h="6004">
                <a:moveTo>
                  <a:pt x="18876" y="11435"/>
                </a:moveTo>
                <a:cubicBezTo>
                  <a:pt x="18717" y="11435"/>
                  <a:pt x="19141" y="11385"/>
                  <a:pt x="19298" y="11361"/>
                </a:cubicBezTo>
                <a:cubicBezTo>
                  <a:pt x="19388" y="11347"/>
                  <a:pt x="19520" y="11310"/>
                  <a:pt x="19571" y="11361"/>
                </a:cubicBezTo>
              </a:path>
              <a:path w="4987" h="6004">
                <a:moveTo>
                  <a:pt x="18876" y="11782"/>
                </a:moveTo>
                <a:cubicBezTo>
                  <a:pt x="18984" y="11770"/>
                  <a:pt x="19163" y="11769"/>
                  <a:pt x="19050" y="11956"/>
                </a:cubicBezTo>
                <a:cubicBezTo>
                  <a:pt x="18982" y="12068"/>
                  <a:pt x="18874" y="12045"/>
                  <a:pt x="18777" y="12030"/>
                </a:cubicBezTo>
                <a:cubicBezTo>
                  <a:pt x="18869" y="11924"/>
                  <a:pt x="18881" y="11986"/>
                  <a:pt x="19000" y="12005"/>
                </a:cubicBezTo>
                <a:cubicBezTo>
                  <a:pt x="19025" y="12005"/>
                  <a:pt x="19050" y="12005"/>
                  <a:pt x="19075" y="12005"/>
                </a:cubicBezTo>
              </a:path>
              <a:path w="4987" h="6004">
                <a:moveTo>
                  <a:pt x="19298" y="11733"/>
                </a:moveTo>
                <a:cubicBezTo>
                  <a:pt x="19211" y="11841"/>
                  <a:pt x="19178" y="11863"/>
                  <a:pt x="19199" y="11956"/>
                </a:cubicBezTo>
                <a:cubicBezTo>
                  <a:pt x="19272" y="11979"/>
                  <a:pt x="19568" y="12008"/>
                  <a:pt x="19447" y="11807"/>
                </a:cubicBezTo>
                <a:cubicBezTo>
                  <a:pt x="19414" y="11782"/>
                  <a:pt x="19381" y="11758"/>
                  <a:pt x="19348" y="11733"/>
                </a:cubicBezTo>
              </a:path>
              <a:path w="4987" h="6004">
                <a:moveTo>
                  <a:pt x="17338" y="13692"/>
                </a:moveTo>
                <a:cubicBezTo>
                  <a:pt x="17248" y="13774"/>
                  <a:pt x="17233" y="13794"/>
                  <a:pt x="17214" y="13915"/>
                </a:cubicBezTo>
                <a:cubicBezTo>
                  <a:pt x="17345" y="13930"/>
                  <a:pt x="17586" y="13960"/>
                  <a:pt x="17487" y="13742"/>
                </a:cubicBezTo>
                <a:cubicBezTo>
                  <a:pt x="17462" y="13709"/>
                  <a:pt x="17438" y="13676"/>
                  <a:pt x="17413" y="13643"/>
                </a:cubicBezTo>
              </a:path>
              <a:path w="4987" h="6004">
                <a:moveTo>
                  <a:pt x="17611" y="12799"/>
                </a:moveTo>
                <a:cubicBezTo>
                  <a:pt x="17671" y="12789"/>
                  <a:pt x="17759" y="12775"/>
                  <a:pt x="17785" y="12750"/>
                </a:cubicBezTo>
              </a:path>
              <a:path w="4987" h="6004">
                <a:moveTo>
                  <a:pt x="17983" y="12650"/>
                </a:moveTo>
                <a:cubicBezTo>
                  <a:pt x="17983" y="12736"/>
                  <a:pt x="17958" y="12815"/>
                  <a:pt x="18058" y="12824"/>
                </a:cubicBezTo>
                <a:cubicBezTo>
                  <a:pt x="18131" y="12824"/>
                  <a:pt x="18155" y="12825"/>
                  <a:pt x="18182" y="12774"/>
                </a:cubicBezTo>
              </a:path>
              <a:path w="4987" h="6004">
                <a:moveTo>
                  <a:pt x="18157" y="12700"/>
                </a:moveTo>
                <a:cubicBezTo>
                  <a:pt x="18157" y="12805"/>
                  <a:pt x="18146" y="12902"/>
                  <a:pt x="18182" y="12998"/>
                </a:cubicBezTo>
              </a:path>
              <a:path w="4987" h="6004">
                <a:moveTo>
                  <a:pt x="18380" y="13146"/>
                </a:moveTo>
                <a:cubicBezTo>
                  <a:pt x="18441" y="13146"/>
                  <a:pt x="18479" y="13146"/>
                  <a:pt x="18529" y="13171"/>
                </a:cubicBezTo>
              </a:path>
              <a:path w="4987" h="6004">
                <a:moveTo>
                  <a:pt x="18380" y="13271"/>
                </a:moveTo>
                <a:cubicBezTo>
                  <a:pt x="18490" y="13243"/>
                  <a:pt x="18533" y="13231"/>
                  <a:pt x="18604" y="13196"/>
                </a:cubicBezTo>
              </a:path>
              <a:path w="4987" h="6004">
                <a:moveTo>
                  <a:pt x="18604" y="13196"/>
                </a:moveTo>
                <a:lnTo>
                  <a:pt x="18604" y="13196"/>
                </a:lnTo>
              </a:path>
              <a:path w="4987" h="6004">
                <a:moveTo>
                  <a:pt x="18976" y="12700"/>
                </a:moveTo>
                <a:cubicBezTo>
                  <a:pt x="18976" y="12829"/>
                  <a:pt x="18941" y="12910"/>
                  <a:pt x="19100" y="12898"/>
                </a:cubicBezTo>
                <a:cubicBezTo>
                  <a:pt x="19141" y="12890"/>
                  <a:pt x="19183" y="12882"/>
                  <a:pt x="19224" y="12874"/>
                </a:cubicBezTo>
              </a:path>
              <a:path w="4987" h="6004">
                <a:moveTo>
                  <a:pt x="19248" y="12650"/>
                </a:moveTo>
                <a:cubicBezTo>
                  <a:pt x="19221" y="12810"/>
                  <a:pt x="19226" y="12966"/>
                  <a:pt x="19174" y="13122"/>
                </a:cubicBezTo>
              </a:path>
              <a:path w="4987" h="6004">
                <a:moveTo>
                  <a:pt x="17611" y="13742"/>
                </a:moveTo>
                <a:cubicBezTo>
                  <a:pt x="17677" y="13742"/>
                  <a:pt x="17744" y="13742"/>
                  <a:pt x="17810" y="13742"/>
                </a:cubicBezTo>
              </a:path>
              <a:path w="4987" h="6004">
                <a:moveTo>
                  <a:pt x="17711" y="13543"/>
                </a:moveTo>
                <a:cubicBezTo>
                  <a:pt x="17711" y="13594"/>
                  <a:pt x="17705" y="13627"/>
                  <a:pt x="17686" y="13667"/>
                </a:cubicBezTo>
              </a:path>
              <a:path w="4987" h="6004">
                <a:moveTo>
                  <a:pt x="17686" y="13667"/>
                </a:moveTo>
                <a:lnTo>
                  <a:pt x="17686" y="13667"/>
                </a:lnTo>
              </a:path>
              <a:path w="4987" h="6004">
                <a:moveTo>
                  <a:pt x="17661" y="13891"/>
                </a:moveTo>
                <a:cubicBezTo>
                  <a:pt x="17669" y="13891"/>
                  <a:pt x="17678" y="13891"/>
                  <a:pt x="17686" y="13891"/>
                </a:cubicBezTo>
              </a:path>
              <a:path w="4987" h="6004">
                <a:moveTo>
                  <a:pt x="17959" y="13692"/>
                </a:moveTo>
                <a:cubicBezTo>
                  <a:pt x="17975" y="13808"/>
                  <a:pt x="18024" y="13782"/>
                  <a:pt x="18132" y="13767"/>
                </a:cubicBezTo>
              </a:path>
              <a:path w="4987" h="6004">
                <a:moveTo>
                  <a:pt x="18182" y="13643"/>
                </a:moveTo>
                <a:cubicBezTo>
                  <a:pt x="18134" y="13772"/>
                  <a:pt x="18089" y="13885"/>
                  <a:pt x="18182" y="13915"/>
                </a:cubicBezTo>
              </a:path>
              <a:path w="4987" h="6004">
                <a:moveTo>
                  <a:pt x="18504" y="13742"/>
                </a:moveTo>
                <a:cubicBezTo>
                  <a:pt x="18492" y="13707"/>
                  <a:pt x="18442" y="13717"/>
                  <a:pt x="18479" y="13717"/>
                </a:cubicBezTo>
              </a:path>
              <a:path w="4987" h="6004">
                <a:moveTo>
                  <a:pt x="18479" y="13767"/>
                </a:moveTo>
                <a:cubicBezTo>
                  <a:pt x="18532" y="13756"/>
                  <a:pt x="18571" y="13742"/>
                  <a:pt x="18628" y="13742"/>
                </a:cubicBezTo>
              </a:path>
              <a:path w="4987" h="6004">
                <a:moveTo>
                  <a:pt x="18455" y="13841"/>
                </a:moveTo>
                <a:cubicBezTo>
                  <a:pt x="18539" y="13841"/>
                  <a:pt x="18603" y="13848"/>
                  <a:pt x="18678" y="13816"/>
                </a:cubicBezTo>
              </a:path>
              <a:path w="4987" h="6004">
                <a:moveTo>
                  <a:pt x="19224" y="13593"/>
                </a:moveTo>
                <a:cubicBezTo>
                  <a:pt x="19200" y="13641"/>
                  <a:pt x="19192" y="13655"/>
                  <a:pt x="19199" y="13692"/>
                </a:cubicBezTo>
                <a:cubicBezTo>
                  <a:pt x="19266" y="13692"/>
                  <a:pt x="19330" y="13710"/>
                  <a:pt x="19323" y="13791"/>
                </a:cubicBezTo>
                <a:cubicBezTo>
                  <a:pt x="19305" y="13994"/>
                  <a:pt x="19160" y="13844"/>
                  <a:pt x="19124" y="13767"/>
                </a:cubicBezTo>
              </a:path>
              <a:path w="4987" h="6004">
                <a:moveTo>
                  <a:pt x="19273" y="13543"/>
                </a:moveTo>
                <a:cubicBezTo>
                  <a:pt x="19355" y="13527"/>
                  <a:pt x="19473" y="13507"/>
                  <a:pt x="19521" y="13469"/>
                </a:cubicBezTo>
              </a:path>
              <a:path w="4987" h="6004">
                <a:moveTo>
                  <a:pt x="19000" y="13395"/>
                </a:moveTo>
                <a:cubicBezTo>
                  <a:pt x="19228" y="13334"/>
                  <a:pt x="19432" y="13271"/>
                  <a:pt x="19670" y="13271"/>
                </a:cubicBezTo>
              </a:path>
              <a:path w="4987" h="6004">
                <a:moveTo>
                  <a:pt x="17338" y="14660"/>
                </a:moveTo>
                <a:cubicBezTo>
                  <a:pt x="17319" y="14745"/>
                  <a:pt x="17277" y="14823"/>
                  <a:pt x="17239" y="14908"/>
                </a:cubicBezTo>
                <a:cubicBezTo>
                  <a:pt x="17365" y="14924"/>
                  <a:pt x="17488" y="14948"/>
                  <a:pt x="17537" y="14833"/>
                </a:cubicBezTo>
              </a:path>
              <a:path w="4987" h="6004">
                <a:moveTo>
                  <a:pt x="17487" y="14486"/>
                </a:moveTo>
                <a:cubicBezTo>
                  <a:pt x="17487" y="14727"/>
                  <a:pt x="17446" y="14996"/>
                  <a:pt x="17462" y="15230"/>
                </a:cubicBezTo>
                <a:cubicBezTo>
                  <a:pt x="17470" y="15238"/>
                  <a:pt x="17479" y="15247"/>
                  <a:pt x="17487" y="15255"/>
                </a:cubicBezTo>
              </a:path>
              <a:path w="4987" h="6004">
                <a:moveTo>
                  <a:pt x="16942" y="15429"/>
                </a:moveTo>
                <a:cubicBezTo>
                  <a:pt x="17248" y="15397"/>
                  <a:pt x="17549" y="15319"/>
                  <a:pt x="17859" y="15280"/>
                </a:cubicBezTo>
                <a:cubicBezTo>
                  <a:pt x="17884" y="15280"/>
                  <a:pt x="17892" y="15280"/>
                  <a:pt x="17859" y="15280"/>
                </a:cubicBezTo>
              </a:path>
              <a:path w="4987" h="6004">
                <a:moveTo>
                  <a:pt x="17462" y="15726"/>
                </a:moveTo>
                <a:cubicBezTo>
                  <a:pt x="17388" y="15746"/>
                  <a:pt x="17290" y="15749"/>
                  <a:pt x="17264" y="15825"/>
                </a:cubicBezTo>
                <a:cubicBezTo>
                  <a:pt x="17245" y="15903"/>
                  <a:pt x="17253" y="15920"/>
                  <a:pt x="17214" y="15949"/>
                </a:cubicBezTo>
                <a:cubicBezTo>
                  <a:pt x="17341" y="15962"/>
                  <a:pt x="17465" y="15979"/>
                  <a:pt x="17562" y="16073"/>
                </a:cubicBezTo>
                <a:cubicBezTo>
                  <a:pt x="17578" y="16098"/>
                  <a:pt x="17595" y="16123"/>
                  <a:pt x="17611" y="16148"/>
                </a:cubicBezTo>
                <a:cubicBezTo>
                  <a:pt x="17501" y="16235"/>
                  <a:pt x="17301" y="16372"/>
                  <a:pt x="17165" y="16222"/>
                </a:cubicBezTo>
                <a:cubicBezTo>
                  <a:pt x="17119" y="16107"/>
                  <a:pt x="17095" y="16072"/>
                  <a:pt x="17190" y="16024"/>
                </a:cubicBezTo>
              </a:path>
              <a:path w="4987" h="6004">
                <a:moveTo>
                  <a:pt x="16942" y="12626"/>
                </a:moveTo>
                <a:cubicBezTo>
                  <a:pt x="17051" y="12650"/>
                  <a:pt x="17135" y="12712"/>
                  <a:pt x="17239" y="12774"/>
                </a:cubicBezTo>
                <a:cubicBezTo>
                  <a:pt x="17585" y="12980"/>
                  <a:pt x="17879" y="13240"/>
                  <a:pt x="18207" y="13469"/>
                </a:cubicBezTo>
                <a:cubicBezTo>
                  <a:pt x="18253" y="13501"/>
                  <a:pt x="18480" y="13680"/>
                  <a:pt x="18554" y="13667"/>
                </a:cubicBezTo>
                <a:cubicBezTo>
                  <a:pt x="18510" y="13581"/>
                  <a:pt x="18479" y="13530"/>
                  <a:pt x="18430" y="13469"/>
                </a:cubicBezTo>
              </a:path>
              <a:path w="4987" h="6004">
                <a:moveTo>
                  <a:pt x="18281" y="12427"/>
                </a:moveTo>
                <a:cubicBezTo>
                  <a:pt x="18122" y="12598"/>
                  <a:pt x="17824" y="12800"/>
                  <a:pt x="17661" y="12973"/>
                </a:cubicBezTo>
                <a:cubicBezTo>
                  <a:pt x="17428" y="13221"/>
                  <a:pt x="17279" y="13537"/>
                  <a:pt x="17090" y="13791"/>
                </a:cubicBezTo>
                <a:cubicBezTo>
                  <a:pt x="17082" y="13791"/>
                  <a:pt x="17074" y="13791"/>
                  <a:pt x="17066" y="13791"/>
                </a:cubicBezTo>
              </a:path>
              <a:path w="4987" h="6004">
                <a:moveTo>
                  <a:pt x="15701" y="15354"/>
                </a:moveTo>
                <a:cubicBezTo>
                  <a:pt x="15826" y="15292"/>
                  <a:pt x="15890" y="15257"/>
                  <a:pt x="16024" y="15230"/>
                </a:cubicBezTo>
                <a:cubicBezTo>
                  <a:pt x="16085" y="15549"/>
                  <a:pt x="16030" y="15780"/>
                  <a:pt x="15652" y="15850"/>
                </a:cubicBezTo>
                <a:cubicBezTo>
                  <a:pt x="15602" y="15842"/>
                  <a:pt x="15553" y="15833"/>
                  <a:pt x="15503" y="15825"/>
                </a:cubicBezTo>
                <a:cubicBezTo>
                  <a:pt x="15588" y="15689"/>
                  <a:pt x="15767" y="15701"/>
                  <a:pt x="15925" y="15776"/>
                </a:cubicBezTo>
                <a:cubicBezTo>
                  <a:pt x="16007" y="15815"/>
                  <a:pt x="16018" y="15859"/>
                  <a:pt x="16098" y="15875"/>
                </a:cubicBezTo>
              </a:path>
              <a:path w="4987" h="6004">
                <a:moveTo>
                  <a:pt x="16446" y="15255"/>
                </a:moveTo>
                <a:cubicBezTo>
                  <a:pt x="16292" y="15475"/>
                  <a:pt x="16167" y="15590"/>
                  <a:pt x="16321" y="15801"/>
                </a:cubicBezTo>
                <a:cubicBezTo>
                  <a:pt x="16512" y="15735"/>
                  <a:pt x="16846" y="15551"/>
                  <a:pt x="16495" y="15379"/>
                </a:cubicBezTo>
                <a:cubicBezTo>
                  <a:pt x="16445" y="15371"/>
                  <a:pt x="16396" y="15362"/>
                  <a:pt x="16346" y="15354"/>
                </a:cubicBezTo>
              </a:path>
              <a:path w="4987" h="6004">
                <a:moveTo>
                  <a:pt x="15032" y="16371"/>
                </a:moveTo>
                <a:cubicBezTo>
                  <a:pt x="15166" y="16475"/>
                  <a:pt x="15275" y="16513"/>
                  <a:pt x="15453" y="16570"/>
                </a:cubicBezTo>
                <a:cubicBezTo>
                  <a:pt x="15791" y="16678"/>
                  <a:pt x="16145" y="16785"/>
                  <a:pt x="16495" y="16842"/>
                </a:cubicBezTo>
                <a:cubicBezTo>
                  <a:pt x="16912" y="16909"/>
                  <a:pt x="17282" y="16862"/>
                  <a:pt x="17661" y="16694"/>
                </a:cubicBezTo>
                <a:cubicBezTo>
                  <a:pt x="17967" y="16558"/>
                  <a:pt x="18124" y="16422"/>
                  <a:pt x="18306" y="16148"/>
                </a:cubicBezTo>
                <a:cubicBezTo>
                  <a:pt x="18434" y="15956"/>
                  <a:pt x="18529" y="15789"/>
                  <a:pt x="18554" y="15553"/>
                </a:cubicBezTo>
                <a:cubicBezTo>
                  <a:pt x="18572" y="15377"/>
                  <a:pt x="18496" y="15166"/>
                  <a:pt x="18430" y="15007"/>
                </a:cubicBezTo>
                <a:cubicBezTo>
                  <a:pt x="18346" y="14803"/>
                  <a:pt x="18212" y="14594"/>
                  <a:pt x="18058" y="14436"/>
                </a:cubicBezTo>
                <a:cubicBezTo>
                  <a:pt x="17875" y="14249"/>
                  <a:pt x="17593" y="14157"/>
                  <a:pt x="17338" y="14139"/>
                </a:cubicBezTo>
                <a:cubicBezTo>
                  <a:pt x="16972" y="14113"/>
                  <a:pt x="16641" y="14241"/>
                  <a:pt x="16297" y="14337"/>
                </a:cubicBezTo>
                <a:cubicBezTo>
                  <a:pt x="15897" y="14449"/>
                  <a:pt x="15583" y="14574"/>
                  <a:pt x="15255" y="14833"/>
                </a:cubicBezTo>
                <a:cubicBezTo>
                  <a:pt x="15007" y="15029"/>
                  <a:pt x="14713" y="15266"/>
                  <a:pt x="14684" y="15602"/>
                </a:cubicBezTo>
                <a:cubicBezTo>
                  <a:pt x="14658" y="15897"/>
                  <a:pt x="14880" y="16191"/>
                  <a:pt x="15131" y="16321"/>
                </a:cubicBezTo>
                <a:cubicBezTo>
                  <a:pt x="15273" y="16350"/>
                  <a:pt x="15331" y="16353"/>
                  <a:pt x="15429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45000"/>
            <a:ext cx="4044960" cy="250920"/>
          </a:xfrm>
          <a:custGeom>
            <a:avLst/>
            <a:gdLst/>
            <a:ahLst/>
            <a:rect l="l" t="t" r="r" b="b"/>
            <a:pathLst>
              <a:path w="11237" h="695">
                <a:moveTo>
                  <a:pt x="6499" y="13171"/>
                </a:moveTo>
                <a:cubicBezTo>
                  <a:pt x="6559" y="13166"/>
                  <a:pt x="6593" y="13157"/>
                  <a:pt x="6648" y="13146"/>
                </a:cubicBezTo>
              </a:path>
              <a:path w="11237" h="695">
                <a:moveTo>
                  <a:pt x="6548" y="13320"/>
                </a:moveTo>
                <a:cubicBezTo>
                  <a:pt x="6556" y="13312"/>
                  <a:pt x="6565" y="13303"/>
                  <a:pt x="6573" y="13295"/>
                </a:cubicBezTo>
              </a:path>
              <a:path w="11237" h="695">
                <a:moveTo>
                  <a:pt x="6573" y="13295"/>
                </a:moveTo>
                <a:lnTo>
                  <a:pt x="6573" y="13295"/>
                </a:lnTo>
              </a:path>
              <a:path w="11237" h="695">
                <a:moveTo>
                  <a:pt x="17686" y="12626"/>
                </a:moveTo>
                <a:cubicBezTo>
                  <a:pt x="17686" y="12634"/>
                  <a:pt x="17686" y="12642"/>
                  <a:pt x="17686" y="12650"/>
                </a:cubicBezTo>
              </a:path>
              <a:path w="11237" h="695">
                <a:moveTo>
                  <a:pt x="17686" y="12650"/>
                </a:moveTo>
                <a:lnTo>
                  <a:pt x="17686" y="12650"/>
                </a:lnTo>
              </a:path>
              <a:path w="11237" h="695">
                <a:moveTo>
                  <a:pt x="17711" y="12898"/>
                </a:moveTo>
                <a:cubicBezTo>
                  <a:pt x="17719" y="12898"/>
                  <a:pt x="17727" y="12898"/>
                  <a:pt x="1773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324480" y="2057400"/>
          <a:ext cx="1447920" cy="76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2057400"/>
                    <a:ext cx="14479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85800" y="685800"/>
            <a:ext cx="1371600" cy="838080"/>
          </a:xfrm>
          <a:prstGeom prst="wedgeEllipseCallout">
            <a:avLst>
              <a:gd name="adj1" fmla="val 25578"/>
              <a:gd name="adj2" fmla="val 109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90720" y="838080"/>
          <a:ext cx="863640" cy="66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838080"/>
                    <a:ext cx="863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600200" y="1981080"/>
          <a:ext cx="1143000" cy="75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1981080"/>
                    <a:ext cx="114300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312920" y="2982960"/>
            <a:ext cx="1116000" cy="1438200"/>
          </a:xfrm>
          <a:custGeom>
            <a:avLst/>
            <a:gdLst/>
            <a:ahLst/>
            <a:rect l="l" t="t" r="r" b="b"/>
            <a:pathLst>
              <a:path w="3102" h="3994">
                <a:moveTo>
                  <a:pt x="4614" y="9401"/>
                </a:moveTo>
                <a:cubicBezTo>
                  <a:pt x="4635" y="9648"/>
                  <a:pt x="4597" y="9759"/>
                  <a:pt x="4465" y="9971"/>
                </a:cubicBezTo>
                <a:cubicBezTo>
                  <a:pt x="4540" y="9917"/>
                  <a:pt x="4643" y="9913"/>
                  <a:pt x="4738" y="9922"/>
                </a:cubicBezTo>
                <a:cubicBezTo>
                  <a:pt x="4909" y="9939"/>
                  <a:pt x="4916" y="10029"/>
                  <a:pt x="4986" y="9847"/>
                </a:cubicBezTo>
              </a:path>
              <a:path w="3102" h="3994">
                <a:moveTo>
                  <a:pt x="4911" y="9227"/>
                </a:moveTo>
                <a:cubicBezTo>
                  <a:pt x="4929" y="9575"/>
                  <a:pt x="4936" y="9920"/>
                  <a:pt x="4936" y="10269"/>
                </a:cubicBezTo>
                <a:cubicBezTo>
                  <a:pt x="4936" y="10377"/>
                  <a:pt x="4936" y="10385"/>
                  <a:pt x="4936" y="10443"/>
                </a:cubicBezTo>
              </a:path>
              <a:path w="3102" h="3994">
                <a:moveTo>
                  <a:pt x="3646" y="11609"/>
                </a:moveTo>
                <a:cubicBezTo>
                  <a:pt x="3755" y="11591"/>
                  <a:pt x="3883" y="11531"/>
                  <a:pt x="3994" y="11534"/>
                </a:cubicBezTo>
                <a:cubicBezTo>
                  <a:pt x="4027" y="11542"/>
                  <a:pt x="4060" y="11551"/>
                  <a:pt x="4093" y="11559"/>
                </a:cubicBezTo>
              </a:path>
              <a:path w="3102" h="3994">
                <a:moveTo>
                  <a:pt x="4862" y="11336"/>
                </a:moveTo>
                <a:cubicBezTo>
                  <a:pt x="4878" y="11574"/>
                  <a:pt x="4896" y="11819"/>
                  <a:pt x="4936" y="12055"/>
                </a:cubicBezTo>
                <a:cubicBezTo>
                  <a:pt x="4961" y="12202"/>
                  <a:pt x="4951" y="12195"/>
                  <a:pt x="4986" y="12080"/>
                </a:cubicBezTo>
              </a:path>
              <a:path w="3102" h="3994">
                <a:moveTo>
                  <a:pt x="6003" y="10666"/>
                </a:moveTo>
                <a:cubicBezTo>
                  <a:pt x="6085" y="10652"/>
                  <a:pt x="6166" y="10627"/>
                  <a:pt x="6251" y="10616"/>
                </a:cubicBezTo>
                <a:cubicBezTo>
                  <a:pt x="6288" y="10702"/>
                  <a:pt x="6259" y="10757"/>
                  <a:pt x="6176" y="10815"/>
                </a:cubicBezTo>
                <a:cubicBezTo>
                  <a:pt x="6147" y="10836"/>
                  <a:pt x="6146" y="10833"/>
                  <a:pt x="6127" y="10864"/>
                </a:cubicBezTo>
                <a:cubicBezTo>
                  <a:pt x="6094" y="10918"/>
                  <a:pt x="6010" y="10978"/>
                  <a:pt x="6003" y="11038"/>
                </a:cubicBezTo>
                <a:cubicBezTo>
                  <a:pt x="6003" y="11073"/>
                  <a:pt x="5998" y="11090"/>
                  <a:pt x="5978" y="11112"/>
                </a:cubicBezTo>
                <a:cubicBezTo>
                  <a:pt x="6039" y="11097"/>
                  <a:pt x="6083" y="11075"/>
                  <a:pt x="6152" y="11063"/>
                </a:cubicBezTo>
                <a:cubicBezTo>
                  <a:pt x="6266" y="11044"/>
                  <a:pt x="6446" y="10965"/>
                  <a:pt x="6548" y="10964"/>
                </a:cubicBezTo>
                <a:cubicBezTo>
                  <a:pt x="6548" y="10972"/>
                  <a:pt x="6548" y="10980"/>
                  <a:pt x="6548" y="10988"/>
                </a:cubicBezTo>
              </a:path>
              <a:path w="3102" h="3994">
                <a:moveTo>
                  <a:pt x="5904" y="11435"/>
                </a:moveTo>
                <a:cubicBezTo>
                  <a:pt x="6173" y="11348"/>
                  <a:pt x="6445" y="11272"/>
                  <a:pt x="6722" y="11212"/>
                </a:cubicBezTo>
                <a:cubicBezTo>
                  <a:pt x="6730" y="11212"/>
                  <a:pt x="6739" y="11212"/>
                  <a:pt x="6747" y="11212"/>
                </a:cubicBezTo>
              </a:path>
              <a:path w="3102" h="3994">
                <a:moveTo>
                  <a:pt x="6152" y="11708"/>
                </a:moveTo>
                <a:cubicBezTo>
                  <a:pt x="6152" y="11894"/>
                  <a:pt x="6147" y="12071"/>
                  <a:pt x="6127" y="12254"/>
                </a:cubicBezTo>
                <a:cubicBezTo>
                  <a:pt x="6127" y="12307"/>
                  <a:pt x="6140" y="12289"/>
                  <a:pt x="6176" y="12179"/>
                </a:cubicBezTo>
              </a:path>
              <a:path w="3102" h="3994">
                <a:moveTo>
                  <a:pt x="6573" y="11658"/>
                </a:moveTo>
                <a:cubicBezTo>
                  <a:pt x="6573" y="11840"/>
                  <a:pt x="6573" y="12336"/>
                  <a:pt x="6573" y="12154"/>
                </a:cubicBezTo>
                <a:cubicBezTo>
                  <a:pt x="6573" y="12146"/>
                  <a:pt x="6573" y="12137"/>
                  <a:pt x="6573" y="12129"/>
                </a:cubicBezTo>
              </a:path>
              <a:path w="3102" h="3994">
                <a:moveTo>
                  <a:pt x="4316" y="9376"/>
                </a:moveTo>
                <a:cubicBezTo>
                  <a:pt x="4569" y="9600"/>
                  <a:pt x="4771" y="9862"/>
                  <a:pt x="5011" y="10096"/>
                </a:cubicBezTo>
                <a:cubicBezTo>
                  <a:pt x="5119" y="10202"/>
                  <a:pt x="5116" y="10229"/>
                  <a:pt x="5060" y="10145"/>
                </a:cubicBezTo>
              </a:path>
              <a:path w="3102" h="3994">
                <a:moveTo>
                  <a:pt x="4291" y="8458"/>
                </a:moveTo>
                <a:cubicBezTo>
                  <a:pt x="4371" y="8339"/>
                  <a:pt x="4477" y="8309"/>
                  <a:pt x="4614" y="8285"/>
                </a:cubicBezTo>
                <a:cubicBezTo>
                  <a:pt x="4600" y="8376"/>
                  <a:pt x="4571" y="8598"/>
                  <a:pt x="4465" y="8632"/>
                </a:cubicBezTo>
                <a:cubicBezTo>
                  <a:pt x="4465" y="8624"/>
                  <a:pt x="4465" y="8615"/>
                  <a:pt x="4465" y="8607"/>
                </a:cubicBezTo>
                <a:cubicBezTo>
                  <a:pt x="4624" y="8589"/>
                  <a:pt x="4832" y="8586"/>
                  <a:pt x="4762" y="8830"/>
                </a:cubicBezTo>
                <a:cubicBezTo>
                  <a:pt x="4726" y="8956"/>
                  <a:pt x="4434" y="9242"/>
                  <a:pt x="4291" y="9103"/>
                </a:cubicBezTo>
                <a:cubicBezTo>
                  <a:pt x="4282" y="9094"/>
                  <a:pt x="4506" y="9079"/>
                  <a:pt x="4539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1720" y="5000760"/>
            <a:ext cx="26640" cy="1602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6300" y="13891"/>
                </a:moveTo>
                <a:cubicBezTo>
                  <a:pt x="6277" y="14030"/>
                  <a:pt x="6245" y="14171"/>
                  <a:pt x="6226" y="14312"/>
                </a:cubicBezTo>
                <a:cubicBezTo>
                  <a:pt x="6226" y="14340"/>
                  <a:pt x="6228" y="14346"/>
                  <a:pt x="6251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6080" y="3071880"/>
            <a:ext cx="277920" cy="554040"/>
          </a:xfrm>
          <a:custGeom>
            <a:avLst/>
            <a:gdLst/>
            <a:ahLst/>
            <a:rect l="l" t="t" r="r" b="b"/>
            <a:pathLst>
              <a:path w="770" h="1539">
                <a:moveTo>
                  <a:pt x="6028" y="8731"/>
                </a:moveTo>
                <a:cubicBezTo>
                  <a:pt x="6049" y="8841"/>
                  <a:pt x="6068" y="8962"/>
                  <a:pt x="6052" y="9079"/>
                </a:cubicBezTo>
                <a:cubicBezTo>
                  <a:pt x="6044" y="9104"/>
                  <a:pt x="6036" y="9128"/>
                  <a:pt x="6028" y="9153"/>
                </a:cubicBezTo>
              </a:path>
              <a:path w="770" h="1539">
                <a:moveTo>
                  <a:pt x="6350" y="8533"/>
                </a:moveTo>
                <a:cubicBezTo>
                  <a:pt x="6364" y="8740"/>
                  <a:pt x="6393" y="8945"/>
                  <a:pt x="6400" y="9153"/>
                </a:cubicBezTo>
                <a:cubicBezTo>
                  <a:pt x="6400" y="9161"/>
                  <a:pt x="6400" y="9170"/>
                  <a:pt x="6400" y="9178"/>
                </a:cubicBezTo>
              </a:path>
              <a:path w="770" h="1539">
                <a:moveTo>
                  <a:pt x="5879" y="9426"/>
                </a:moveTo>
                <a:cubicBezTo>
                  <a:pt x="6128" y="9339"/>
                  <a:pt x="6417" y="9293"/>
                  <a:pt x="6648" y="9178"/>
                </a:cubicBezTo>
              </a:path>
              <a:path w="770" h="1539">
                <a:moveTo>
                  <a:pt x="6102" y="9599"/>
                </a:moveTo>
                <a:cubicBezTo>
                  <a:pt x="6102" y="9741"/>
                  <a:pt x="6089" y="9884"/>
                  <a:pt x="6052" y="10021"/>
                </a:cubicBezTo>
                <a:cubicBezTo>
                  <a:pt x="6020" y="10088"/>
                  <a:pt x="6020" y="10088"/>
                  <a:pt x="6077" y="9971"/>
                </a:cubicBezTo>
              </a:path>
              <a:path w="770" h="1539">
                <a:moveTo>
                  <a:pt x="6375" y="9451"/>
                </a:moveTo>
                <a:cubicBezTo>
                  <a:pt x="6377" y="9498"/>
                  <a:pt x="6390" y="9927"/>
                  <a:pt x="6375" y="9922"/>
                </a:cubicBezTo>
                <a:cubicBezTo>
                  <a:pt x="6367" y="9905"/>
                  <a:pt x="6358" y="9889"/>
                  <a:pt x="6350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1000" y="4367160"/>
            <a:ext cx="1481040" cy="1071720"/>
          </a:xfrm>
          <a:custGeom>
            <a:avLst/>
            <a:gdLst/>
            <a:ahLst/>
            <a:rect l="l" t="t" r="r" b="b"/>
            <a:pathLst>
              <a:path w="4118" h="2978">
                <a:moveTo>
                  <a:pt x="3473" y="13022"/>
                </a:moveTo>
                <a:cubicBezTo>
                  <a:pt x="3811" y="12933"/>
                  <a:pt x="4171" y="12857"/>
                  <a:pt x="4514" y="12774"/>
                </a:cubicBezTo>
                <a:cubicBezTo>
                  <a:pt x="5441" y="12550"/>
                  <a:pt x="6356" y="12353"/>
                  <a:pt x="7293" y="12179"/>
                </a:cubicBezTo>
                <a:cubicBezTo>
                  <a:pt x="7474" y="12142"/>
                  <a:pt x="7489" y="12126"/>
                  <a:pt x="7590" y="12129"/>
                </a:cubicBezTo>
              </a:path>
              <a:path w="4118" h="2978">
                <a:moveTo>
                  <a:pt x="6400" y="12874"/>
                </a:moveTo>
                <a:cubicBezTo>
                  <a:pt x="6442" y="12845"/>
                  <a:pt x="6426" y="12762"/>
                  <a:pt x="6350" y="12750"/>
                </a:cubicBezTo>
                <a:cubicBezTo>
                  <a:pt x="6181" y="12724"/>
                  <a:pt x="6156" y="12805"/>
                  <a:pt x="6077" y="12923"/>
                </a:cubicBezTo>
                <a:cubicBezTo>
                  <a:pt x="6199" y="12964"/>
                  <a:pt x="6318" y="12999"/>
                  <a:pt x="6400" y="12849"/>
                </a:cubicBezTo>
                <a:cubicBezTo>
                  <a:pt x="6415" y="12822"/>
                  <a:pt x="6402" y="12777"/>
                  <a:pt x="6424" y="12824"/>
                </a:cubicBezTo>
                <a:cubicBezTo>
                  <a:pt x="6442" y="12955"/>
                  <a:pt x="6424" y="13083"/>
                  <a:pt x="6424" y="13221"/>
                </a:cubicBezTo>
                <a:cubicBezTo>
                  <a:pt x="6424" y="13229"/>
                  <a:pt x="6424" y="13238"/>
                  <a:pt x="6424" y="13246"/>
                </a:cubicBezTo>
              </a:path>
              <a:path w="4118" h="2978">
                <a:moveTo>
                  <a:pt x="6003" y="13643"/>
                </a:moveTo>
                <a:cubicBezTo>
                  <a:pt x="6301" y="13565"/>
                  <a:pt x="6602" y="13485"/>
                  <a:pt x="6896" y="13395"/>
                </a:cubicBezTo>
                <a:cubicBezTo>
                  <a:pt x="6912" y="13387"/>
                  <a:pt x="6929" y="13378"/>
                  <a:pt x="6945" y="13370"/>
                </a:cubicBezTo>
              </a:path>
              <a:path w="4118" h="2978">
                <a:moveTo>
                  <a:pt x="6598" y="13767"/>
                </a:moveTo>
                <a:cubicBezTo>
                  <a:pt x="6592" y="13925"/>
                  <a:pt x="6573" y="14080"/>
                  <a:pt x="6573" y="14238"/>
                </a:cubicBezTo>
                <a:cubicBezTo>
                  <a:pt x="6573" y="14230"/>
                  <a:pt x="6573" y="14221"/>
                  <a:pt x="6573" y="14213"/>
                </a:cubicBezTo>
              </a:path>
              <a:path w="4118" h="2978">
                <a:moveTo>
                  <a:pt x="5432" y="13395"/>
                </a:moveTo>
                <a:cubicBezTo>
                  <a:pt x="5424" y="13340"/>
                  <a:pt x="5459" y="13277"/>
                  <a:pt x="5531" y="13196"/>
                </a:cubicBezTo>
                <a:cubicBezTo>
                  <a:pt x="5554" y="13173"/>
                  <a:pt x="5558" y="13165"/>
                  <a:pt x="5581" y="13171"/>
                </a:cubicBezTo>
                <a:cubicBezTo>
                  <a:pt x="5703" y="13434"/>
                  <a:pt x="5599" y="13599"/>
                  <a:pt x="5507" y="13866"/>
                </a:cubicBezTo>
                <a:cubicBezTo>
                  <a:pt x="5439" y="14062"/>
                  <a:pt x="5383" y="14283"/>
                  <a:pt x="5283" y="14461"/>
                </a:cubicBezTo>
                <a:cubicBezTo>
                  <a:pt x="5295" y="14323"/>
                  <a:pt x="5316" y="14209"/>
                  <a:pt x="5383" y="14089"/>
                </a:cubicBezTo>
                <a:cubicBezTo>
                  <a:pt x="5473" y="14117"/>
                  <a:pt x="5618" y="14224"/>
                  <a:pt x="5705" y="14213"/>
                </a:cubicBezTo>
                <a:cubicBezTo>
                  <a:pt x="5773" y="14204"/>
                  <a:pt x="5789" y="14185"/>
                  <a:pt x="5854" y="14163"/>
                </a:cubicBezTo>
              </a:path>
              <a:path w="4118" h="2978">
                <a:moveTo>
                  <a:pt x="4787" y="14982"/>
                </a:moveTo>
                <a:cubicBezTo>
                  <a:pt x="4944" y="15032"/>
                  <a:pt x="5106" y="15039"/>
                  <a:pt x="5283" y="15056"/>
                </a:cubicBezTo>
                <a:cubicBezTo>
                  <a:pt x="5643" y="15090"/>
                  <a:pt x="6016" y="15122"/>
                  <a:pt x="6375" y="15081"/>
                </a:cubicBezTo>
                <a:cubicBezTo>
                  <a:pt x="6729" y="15041"/>
                  <a:pt x="7158" y="14927"/>
                  <a:pt x="7367" y="14610"/>
                </a:cubicBezTo>
                <a:cubicBezTo>
                  <a:pt x="7521" y="14378"/>
                  <a:pt x="7541" y="14178"/>
                  <a:pt x="7565" y="13915"/>
                </a:cubicBezTo>
                <a:cubicBezTo>
                  <a:pt x="7587" y="13673"/>
                  <a:pt x="7573" y="13454"/>
                  <a:pt x="7491" y="13221"/>
                </a:cubicBezTo>
                <a:cubicBezTo>
                  <a:pt x="7420" y="13021"/>
                  <a:pt x="7320" y="12828"/>
                  <a:pt x="7144" y="12700"/>
                </a:cubicBezTo>
                <a:cubicBezTo>
                  <a:pt x="7020" y="12610"/>
                  <a:pt x="6796" y="12514"/>
                  <a:pt x="6648" y="12477"/>
                </a:cubicBezTo>
                <a:cubicBezTo>
                  <a:pt x="6414" y="12419"/>
                  <a:pt x="6139" y="12444"/>
                  <a:pt x="5904" y="12477"/>
                </a:cubicBezTo>
                <a:cubicBezTo>
                  <a:pt x="5673" y="12510"/>
                  <a:pt x="5474" y="12675"/>
                  <a:pt x="5283" y="12799"/>
                </a:cubicBezTo>
                <a:cubicBezTo>
                  <a:pt x="5042" y="12956"/>
                  <a:pt x="4943" y="13116"/>
                  <a:pt x="4862" y="13395"/>
                </a:cubicBezTo>
                <a:cubicBezTo>
                  <a:pt x="4753" y="13768"/>
                  <a:pt x="4741" y="14162"/>
                  <a:pt x="4911" y="14511"/>
                </a:cubicBezTo>
                <a:cubicBezTo>
                  <a:pt x="5026" y="14748"/>
                  <a:pt x="5144" y="14952"/>
                  <a:pt x="5432" y="14957"/>
                </a:cubicBezTo>
                <a:cubicBezTo>
                  <a:pt x="5590" y="14960"/>
                  <a:pt x="5565" y="14900"/>
                  <a:pt x="5631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5120" y="4062240"/>
            <a:ext cx="250920" cy="98640"/>
          </a:xfrm>
          <a:custGeom>
            <a:avLst/>
            <a:gdLst/>
            <a:ahLst/>
            <a:rect l="l" t="t" r="r" b="b"/>
            <a:pathLst>
              <a:path w="696" h="274">
                <a:moveTo>
                  <a:pt x="20092" y="11559"/>
                </a:moveTo>
                <a:cubicBezTo>
                  <a:pt x="20188" y="11510"/>
                  <a:pt x="20218" y="11494"/>
                  <a:pt x="20290" y="11485"/>
                </a:cubicBezTo>
              </a:path>
              <a:path w="696" h="274">
                <a:moveTo>
                  <a:pt x="20290" y="11485"/>
                </a:moveTo>
                <a:lnTo>
                  <a:pt x="20290" y="11485"/>
                </a:lnTo>
              </a:path>
              <a:path w="696" h="274">
                <a:moveTo>
                  <a:pt x="20042" y="11336"/>
                </a:moveTo>
                <a:cubicBezTo>
                  <a:pt x="20090" y="11309"/>
                  <a:pt x="20133" y="11294"/>
                  <a:pt x="20191" y="11286"/>
                </a:cubicBezTo>
              </a:path>
              <a:path w="696" h="274">
                <a:moveTo>
                  <a:pt x="20489" y="11311"/>
                </a:moveTo>
                <a:cubicBezTo>
                  <a:pt x="20562" y="11295"/>
                  <a:pt x="20634" y="11248"/>
                  <a:pt x="20613" y="11311"/>
                </a:cubicBezTo>
              </a:path>
              <a:path w="696" h="274">
                <a:moveTo>
                  <a:pt x="20538" y="11410"/>
                </a:moveTo>
                <a:cubicBezTo>
                  <a:pt x="20618" y="11370"/>
                  <a:pt x="20667" y="11351"/>
                  <a:pt x="20737" y="11336"/>
                </a:cubicBezTo>
              </a:path>
              <a:path w="696" h="274">
                <a:moveTo>
                  <a:pt x="20737" y="11336"/>
                </a:moveTo>
                <a:lnTo>
                  <a:pt x="20737" y="113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7800" y="3813120"/>
            <a:ext cx="1071360" cy="1108080"/>
          </a:xfrm>
          <a:custGeom>
            <a:avLst/>
            <a:gdLst/>
            <a:ahLst/>
            <a:rect l="l" t="t" r="r" b="b"/>
            <a:pathLst>
              <a:path w="2977" h="3076">
                <a:moveTo>
                  <a:pt x="19174" y="11807"/>
                </a:moveTo>
                <a:cubicBezTo>
                  <a:pt x="19158" y="11925"/>
                  <a:pt x="19114" y="12160"/>
                  <a:pt x="19174" y="12179"/>
                </a:cubicBezTo>
              </a:path>
              <a:path w="2977" h="3076">
                <a:moveTo>
                  <a:pt x="19720" y="11410"/>
                </a:moveTo>
                <a:cubicBezTo>
                  <a:pt x="19731" y="11494"/>
                  <a:pt x="19756" y="11576"/>
                  <a:pt x="19769" y="11658"/>
                </a:cubicBezTo>
              </a:path>
              <a:path w="2977" h="3076">
                <a:moveTo>
                  <a:pt x="19794" y="11460"/>
                </a:moveTo>
                <a:cubicBezTo>
                  <a:pt x="19760" y="11553"/>
                  <a:pt x="19662" y="11691"/>
                  <a:pt x="19745" y="11708"/>
                </a:cubicBezTo>
              </a:path>
              <a:path w="2977" h="3076">
                <a:moveTo>
                  <a:pt x="20042" y="11633"/>
                </a:moveTo>
                <a:cubicBezTo>
                  <a:pt x="19953" y="11663"/>
                  <a:pt x="20146" y="11761"/>
                  <a:pt x="20166" y="11807"/>
                </a:cubicBezTo>
                <a:cubicBezTo>
                  <a:pt x="20225" y="11941"/>
                  <a:pt x="20066" y="11889"/>
                  <a:pt x="20017" y="11881"/>
                </a:cubicBezTo>
              </a:path>
              <a:path w="2977" h="3076">
                <a:moveTo>
                  <a:pt x="20017" y="11013"/>
                </a:moveTo>
                <a:cubicBezTo>
                  <a:pt x="20019" y="11024"/>
                  <a:pt x="20139" y="11097"/>
                  <a:pt x="20092" y="11162"/>
                </a:cubicBezTo>
                <a:cubicBezTo>
                  <a:pt x="20032" y="11245"/>
                  <a:pt x="19974" y="11140"/>
                  <a:pt x="19943" y="11112"/>
                </a:cubicBezTo>
              </a:path>
              <a:path w="2977" h="3076">
                <a:moveTo>
                  <a:pt x="20042" y="10988"/>
                </a:moveTo>
                <a:cubicBezTo>
                  <a:pt x="20157" y="10952"/>
                  <a:pt x="20175" y="10939"/>
                  <a:pt x="20290" y="10939"/>
                </a:cubicBezTo>
              </a:path>
              <a:path w="2977" h="3076">
                <a:moveTo>
                  <a:pt x="21158" y="10765"/>
                </a:moveTo>
                <a:cubicBezTo>
                  <a:pt x="21126" y="10799"/>
                  <a:pt x="21109" y="10816"/>
                  <a:pt x="21084" y="10840"/>
                </a:cubicBezTo>
                <a:cubicBezTo>
                  <a:pt x="21154" y="10909"/>
                  <a:pt x="21316" y="10903"/>
                  <a:pt x="21307" y="11038"/>
                </a:cubicBezTo>
                <a:cubicBezTo>
                  <a:pt x="21301" y="11125"/>
                  <a:pt x="21175" y="11045"/>
                  <a:pt x="21109" y="10988"/>
                </a:cubicBezTo>
              </a:path>
              <a:path w="2977" h="3076">
                <a:moveTo>
                  <a:pt x="21233" y="10691"/>
                </a:moveTo>
                <a:cubicBezTo>
                  <a:pt x="21355" y="10691"/>
                  <a:pt x="21465" y="10687"/>
                  <a:pt x="21580" y="10716"/>
                </a:cubicBezTo>
              </a:path>
              <a:path w="2977" h="3076">
                <a:moveTo>
                  <a:pt x="18604" y="11162"/>
                </a:moveTo>
                <a:cubicBezTo>
                  <a:pt x="18974" y="11178"/>
                  <a:pt x="19299" y="11300"/>
                  <a:pt x="19645" y="11435"/>
                </a:cubicBezTo>
                <a:cubicBezTo>
                  <a:pt x="19842" y="11512"/>
                  <a:pt x="20046" y="11599"/>
                  <a:pt x="20241" y="11683"/>
                </a:cubicBezTo>
              </a:path>
              <a:path w="2977" h="3076">
                <a:moveTo>
                  <a:pt x="20166" y="10592"/>
                </a:moveTo>
                <a:cubicBezTo>
                  <a:pt x="19993" y="10936"/>
                  <a:pt x="19696" y="11217"/>
                  <a:pt x="19447" y="11509"/>
                </a:cubicBezTo>
                <a:cubicBezTo>
                  <a:pt x="19242" y="11750"/>
                  <a:pt x="19047" y="11965"/>
                  <a:pt x="18951" y="12254"/>
                </a:cubicBezTo>
                <a:cubicBezTo>
                  <a:pt x="18951" y="12246"/>
                  <a:pt x="18951" y="12237"/>
                  <a:pt x="18951" y="12229"/>
                </a:cubicBezTo>
              </a:path>
              <a:path w="2977" h="3076">
                <a:moveTo>
                  <a:pt x="18876" y="13097"/>
                </a:moveTo>
                <a:cubicBezTo>
                  <a:pt x="18919" y="13083"/>
                  <a:pt x="18915" y="13073"/>
                  <a:pt x="18876" y="13171"/>
                </a:cubicBezTo>
                <a:cubicBezTo>
                  <a:pt x="18833" y="13279"/>
                  <a:pt x="18652" y="13643"/>
                  <a:pt x="18926" y="13593"/>
                </a:cubicBezTo>
                <a:cubicBezTo>
                  <a:pt x="19048" y="13544"/>
                  <a:pt x="19089" y="13530"/>
                  <a:pt x="19075" y="13419"/>
                </a:cubicBezTo>
                <a:cubicBezTo>
                  <a:pt x="19067" y="13411"/>
                  <a:pt x="19058" y="13403"/>
                  <a:pt x="19050" y="13395"/>
                </a:cubicBezTo>
                <a:cubicBezTo>
                  <a:pt x="19019" y="13423"/>
                  <a:pt x="18810" y="13624"/>
                  <a:pt x="18951" y="13667"/>
                </a:cubicBezTo>
                <a:cubicBezTo>
                  <a:pt x="18984" y="13667"/>
                  <a:pt x="19017" y="13667"/>
                  <a:pt x="19050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24800" y="3197160"/>
            <a:ext cx="196560" cy="2894040"/>
          </a:xfrm>
          <a:custGeom>
            <a:avLst/>
            <a:gdLst/>
            <a:ahLst/>
            <a:rect l="l" t="t" r="r" b="b"/>
            <a:pathLst>
              <a:path w="547" h="8038">
                <a:moveTo>
                  <a:pt x="18926" y="8880"/>
                </a:moveTo>
                <a:cubicBezTo>
                  <a:pt x="18967" y="9051"/>
                  <a:pt x="18989" y="9225"/>
                  <a:pt x="19000" y="9401"/>
                </a:cubicBezTo>
              </a:path>
              <a:path w="547" h="8038">
                <a:moveTo>
                  <a:pt x="18951" y="11857"/>
                </a:moveTo>
                <a:cubicBezTo>
                  <a:pt x="18905" y="11970"/>
                  <a:pt x="18889" y="12000"/>
                  <a:pt x="18901" y="12080"/>
                </a:cubicBezTo>
                <a:cubicBezTo>
                  <a:pt x="19054" y="12108"/>
                  <a:pt x="19050" y="12076"/>
                  <a:pt x="19174" y="11981"/>
                </a:cubicBezTo>
              </a:path>
              <a:path w="547" h="8038">
                <a:moveTo>
                  <a:pt x="18777" y="13816"/>
                </a:moveTo>
                <a:cubicBezTo>
                  <a:pt x="18931" y="13783"/>
                  <a:pt x="19076" y="13744"/>
                  <a:pt x="19224" y="13692"/>
                </a:cubicBezTo>
              </a:path>
              <a:path w="547" h="8038">
                <a:moveTo>
                  <a:pt x="18802" y="16470"/>
                </a:moveTo>
                <a:cubicBezTo>
                  <a:pt x="18779" y="16598"/>
                  <a:pt x="18741" y="16862"/>
                  <a:pt x="18678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45120" y="3429000"/>
            <a:ext cx="920880" cy="938160"/>
          </a:xfrm>
          <a:custGeom>
            <a:avLst/>
            <a:gdLst/>
            <a:ahLst/>
            <a:rect l="l" t="t" r="r" b="b"/>
            <a:pathLst>
              <a:path w="2556" h="2605">
                <a:moveTo>
                  <a:pt x="18504" y="9723"/>
                </a:moveTo>
                <a:cubicBezTo>
                  <a:pt x="18734" y="9634"/>
                  <a:pt x="18953" y="9558"/>
                  <a:pt x="19199" y="9525"/>
                </a:cubicBezTo>
                <a:cubicBezTo>
                  <a:pt x="19248" y="9525"/>
                  <a:pt x="19264" y="9525"/>
                  <a:pt x="19199" y="9525"/>
                </a:cubicBezTo>
              </a:path>
              <a:path w="2556" h="2605">
                <a:moveTo>
                  <a:pt x="18355" y="10021"/>
                </a:moveTo>
                <a:cubicBezTo>
                  <a:pt x="18452" y="9999"/>
                  <a:pt x="18554" y="9970"/>
                  <a:pt x="18653" y="9947"/>
                </a:cubicBezTo>
                <a:cubicBezTo>
                  <a:pt x="18703" y="10093"/>
                  <a:pt x="18501" y="10242"/>
                  <a:pt x="18405" y="10344"/>
                </a:cubicBezTo>
                <a:cubicBezTo>
                  <a:pt x="18366" y="10382"/>
                  <a:pt x="18349" y="10384"/>
                  <a:pt x="18355" y="10418"/>
                </a:cubicBezTo>
                <a:cubicBezTo>
                  <a:pt x="18542" y="10373"/>
                  <a:pt x="18644" y="10328"/>
                  <a:pt x="18802" y="10220"/>
                </a:cubicBezTo>
              </a:path>
              <a:path w="2556" h="2605">
                <a:moveTo>
                  <a:pt x="19124" y="9872"/>
                </a:moveTo>
                <a:cubicBezTo>
                  <a:pt x="18970" y="10072"/>
                  <a:pt x="18961" y="10072"/>
                  <a:pt x="19000" y="10319"/>
                </a:cubicBezTo>
                <a:cubicBezTo>
                  <a:pt x="19235" y="10285"/>
                  <a:pt x="19429" y="10191"/>
                  <a:pt x="19248" y="9922"/>
                </a:cubicBezTo>
                <a:cubicBezTo>
                  <a:pt x="19215" y="9897"/>
                  <a:pt x="19182" y="9872"/>
                  <a:pt x="19149" y="9847"/>
                </a:cubicBezTo>
              </a:path>
              <a:path w="2556" h="2605">
                <a:moveTo>
                  <a:pt x="16793" y="11609"/>
                </a:moveTo>
                <a:cubicBezTo>
                  <a:pt x="16935" y="11609"/>
                  <a:pt x="17053" y="11563"/>
                  <a:pt x="17190" y="11534"/>
                </a:cubicBezTo>
                <a:cubicBezTo>
                  <a:pt x="17198" y="11534"/>
                  <a:pt x="17206" y="11534"/>
                  <a:pt x="17214" y="11534"/>
                </a:cubicBezTo>
              </a:path>
              <a:path w="2556" h="2605">
                <a:moveTo>
                  <a:pt x="17711" y="11385"/>
                </a:moveTo>
                <a:cubicBezTo>
                  <a:pt x="17762" y="11232"/>
                  <a:pt x="17867" y="11251"/>
                  <a:pt x="18008" y="11237"/>
                </a:cubicBezTo>
                <a:cubicBezTo>
                  <a:pt x="18048" y="11474"/>
                  <a:pt x="17926" y="11525"/>
                  <a:pt x="17735" y="11633"/>
                </a:cubicBezTo>
                <a:cubicBezTo>
                  <a:pt x="17835" y="11633"/>
                  <a:pt x="17961" y="11609"/>
                  <a:pt x="18033" y="11708"/>
                </a:cubicBezTo>
                <a:cubicBezTo>
                  <a:pt x="18206" y="11944"/>
                  <a:pt x="17896" y="12213"/>
                  <a:pt x="17661" y="12129"/>
                </a:cubicBezTo>
                <a:cubicBezTo>
                  <a:pt x="17580" y="12021"/>
                  <a:pt x="17563" y="11978"/>
                  <a:pt x="17686" y="11906"/>
                </a:cubicBezTo>
              </a:path>
              <a:path w="2556" h="2605">
                <a:moveTo>
                  <a:pt x="19025" y="11088"/>
                </a:moveTo>
                <a:cubicBezTo>
                  <a:pt x="19025" y="11203"/>
                  <a:pt x="19036" y="11298"/>
                  <a:pt x="19050" y="11410"/>
                </a:cubicBezTo>
              </a:path>
              <a:path w="2556" h="2605">
                <a:moveTo>
                  <a:pt x="18728" y="11609"/>
                </a:moveTo>
                <a:cubicBezTo>
                  <a:pt x="18928" y="11595"/>
                  <a:pt x="19173" y="11518"/>
                  <a:pt x="19348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65920" y="5340240"/>
            <a:ext cx="1303200" cy="1009800"/>
          </a:xfrm>
          <a:custGeom>
            <a:avLst/>
            <a:gdLst/>
            <a:ahLst/>
            <a:rect l="l" t="t" r="r" b="b"/>
            <a:pathLst>
              <a:path w="3622" h="2804">
                <a:moveTo>
                  <a:pt x="19100" y="16545"/>
                </a:moveTo>
                <a:cubicBezTo>
                  <a:pt x="19056" y="16677"/>
                  <a:pt x="19044" y="16708"/>
                  <a:pt x="19025" y="16793"/>
                </a:cubicBezTo>
                <a:cubicBezTo>
                  <a:pt x="19143" y="16801"/>
                  <a:pt x="19400" y="16763"/>
                  <a:pt x="19298" y="16570"/>
                </a:cubicBezTo>
                <a:cubicBezTo>
                  <a:pt x="19198" y="16469"/>
                  <a:pt x="19164" y="16435"/>
                  <a:pt x="19075" y="16396"/>
                </a:cubicBezTo>
              </a:path>
              <a:path w="3622" h="2804">
                <a:moveTo>
                  <a:pt x="17835" y="15776"/>
                </a:moveTo>
                <a:cubicBezTo>
                  <a:pt x="17758" y="15804"/>
                  <a:pt x="17598" y="15838"/>
                  <a:pt x="17562" y="15900"/>
                </a:cubicBezTo>
                <a:cubicBezTo>
                  <a:pt x="17519" y="15975"/>
                  <a:pt x="17478" y="16021"/>
                  <a:pt x="17462" y="16098"/>
                </a:cubicBezTo>
                <a:cubicBezTo>
                  <a:pt x="17596" y="16054"/>
                  <a:pt x="17661" y="15990"/>
                  <a:pt x="17810" y="16073"/>
                </a:cubicBezTo>
                <a:cubicBezTo>
                  <a:pt x="18008" y="16183"/>
                  <a:pt x="18091" y="16411"/>
                  <a:pt x="17810" y="16495"/>
                </a:cubicBezTo>
                <a:cubicBezTo>
                  <a:pt x="17605" y="16557"/>
                  <a:pt x="17479" y="16528"/>
                  <a:pt x="17338" y="16421"/>
                </a:cubicBezTo>
              </a:path>
              <a:path w="3622" h="2804">
                <a:moveTo>
                  <a:pt x="16594" y="16942"/>
                </a:moveTo>
                <a:cubicBezTo>
                  <a:pt x="16688" y="17105"/>
                  <a:pt x="16740" y="17148"/>
                  <a:pt x="16991" y="17239"/>
                </a:cubicBezTo>
                <a:cubicBezTo>
                  <a:pt x="17301" y="17351"/>
                  <a:pt x="17613" y="17461"/>
                  <a:pt x="17934" y="17537"/>
                </a:cubicBezTo>
                <a:cubicBezTo>
                  <a:pt x="18322" y="17629"/>
                  <a:pt x="18777" y="17699"/>
                  <a:pt x="19174" y="17611"/>
                </a:cubicBezTo>
                <a:cubicBezTo>
                  <a:pt x="19550" y="17528"/>
                  <a:pt x="19818" y="17286"/>
                  <a:pt x="20017" y="16966"/>
                </a:cubicBezTo>
                <a:cubicBezTo>
                  <a:pt x="20200" y="16673"/>
                  <a:pt x="20242" y="16396"/>
                  <a:pt x="20117" y="16073"/>
                </a:cubicBezTo>
                <a:cubicBezTo>
                  <a:pt x="19947" y="15633"/>
                  <a:pt x="19607" y="15472"/>
                  <a:pt x="19248" y="15205"/>
                </a:cubicBezTo>
                <a:cubicBezTo>
                  <a:pt x="18873" y="14926"/>
                  <a:pt x="18616" y="14800"/>
                  <a:pt x="18132" y="14833"/>
                </a:cubicBezTo>
                <a:cubicBezTo>
                  <a:pt x="17565" y="14872"/>
                  <a:pt x="17151" y="15232"/>
                  <a:pt x="16892" y="15726"/>
                </a:cubicBezTo>
                <a:cubicBezTo>
                  <a:pt x="16750" y="15997"/>
                  <a:pt x="16457" y="16754"/>
                  <a:pt x="16867" y="16966"/>
                </a:cubicBezTo>
                <a:cubicBezTo>
                  <a:pt x="17056" y="17064"/>
                  <a:pt x="17369" y="17009"/>
                  <a:pt x="17562" y="17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69040" y="3276720"/>
            <a:ext cx="455760" cy="403200"/>
          </a:xfrm>
          <a:custGeom>
            <a:avLst/>
            <a:gdLst/>
            <a:ahLst/>
            <a:rect l="l" t="t" r="r" b="b"/>
            <a:pathLst>
              <a:path w="1266" h="1118">
                <a:moveTo>
                  <a:pt x="17934" y="9327"/>
                </a:moveTo>
                <a:cubicBezTo>
                  <a:pt x="17782" y="9327"/>
                  <a:pt x="17704" y="9323"/>
                  <a:pt x="17562" y="9401"/>
                </a:cubicBezTo>
                <a:cubicBezTo>
                  <a:pt x="17471" y="9468"/>
                  <a:pt x="17444" y="9483"/>
                  <a:pt x="17413" y="9550"/>
                </a:cubicBezTo>
                <a:cubicBezTo>
                  <a:pt x="17548" y="9685"/>
                  <a:pt x="17944" y="9891"/>
                  <a:pt x="17785" y="10145"/>
                </a:cubicBezTo>
                <a:cubicBezTo>
                  <a:pt x="17667" y="10334"/>
                  <a:pt x="17505" y="10171"/>
                  <a:pt x="17413" y="10096"/>
                </a:cubicBezTo>
                <a:cubicBezTo>
                  <a:pt x="17501" y="9918"/>
                  <a:pt x="17788" y="9683"/>
                  <a:pt x="17760" y="9500"/>
                </a:cubicBezTo>
                <a:cubicBezTo>
                  <a:pt x="17760" y="9492"/>
                  <a:pt x="17760" y="9483"/>
                  <a:pt x="17760" y="9475"/>
                </a:cubicBezTo>
              </a:path>
              <a:path w="1266" h="1118">
                <a:moveTo>
                  <a:pt x="18604" y="9103"/>
                </a:moveTo>
                <a:cubicBezTo>
                  <a:pt x="18604" y="9218"/>
                  <a:pt x="18582" y="9315"/>
                  <a:pt x="18604" y="9426"/>
                </a:cubicBezTo>
                <a:cubicBezTo>
                  <a:pt x="18604" y="9361"/>
                  <a:pt x="18624" y="9319"/>
                  <a:pt x="18678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12000" y="4044960"/>
            <a:ext cx="874800" cy="1152360"/>
          </a:xfrm>
          <a:custGeom>
            <a:avLst/>
            <a:gdLst/>
            <a:ahLst/>
            <a:rect l="l" t="t" r="r" b="b"/>
            <a:pathLst>
              <a:path w="2432" h="3200">
                <a:moveTo>
                  <a:pt x="20985" y="11410"/>
                </a:moveTo>
                <a:cubicBezTo>
                  <a:pt x="21202" y="11388"/>
                  <a:pt x="21370" y="11289"/>
                  <a:pt x="21580" y="11237"/>
                </a:cubicBezTo>
                <a:cubicBezTo>
                  <a:pt x="21597" y="11237"/>
                  <a:pt x="21613" y="11237"/>
                  <a:pt x="21630" y="11237"/>
                </a:cubicBezTo>
              </a:path>
              <a:path w="2432" h="3200">
                <a:moveTo>
                  <a:pt x="19224" y="13295"/>
                </a:moveTo>
                <a:cubicBezTo>
                  <a:pt x="19274" y="13287"/>
                  <a:pt x="19428" y="13273"/>
                  <a:pt x="19323" y="13246"/>
                </a:cubicBezTo>
              </a:path>
              <a:path w="2432" h="3200">
                <a:moveTo>
                  <a:pt x="19224" y="13122"/>
                </a:moveTo>
                <a:cubicBezTo>
                  <a:pt x="19216" y="13163"/>
                  <a:pt x="19207" y="13205"/>
                  <a:pt x="19199" y="13246"/>
                </a:cubicBezTo>
              </a:path>
              <a:path w="2432" h="3200">
                <a:moveTo>
                  <a:pt x="19273" y="13469"/>
                </a:moveTo>
                <a:lnTo>
                  <a:pt x="19273" y="13469"/>
                </a:lnTo>
                <a:lnTo>
                  <a:pt x="19273" y="13469"/>
                </a:lnTo>
              </a:path>
              <a:path w="2432" h="3200">
                <a:moveTo>
                  <a:pt x="19273" y="13469"/>
                </a:moveTo>
                <a:lnTo>
                  <a:pt x="19273" y="13469"/>
                </a:lnTo>
              </a:path>
              <a:path w="2432" h="3200">
                <a:moveTo>
                  <a:pt x="19596" y="14114"/>
                </a:moveTo>
                <a:lnTo>
                  <a:pt x="19596" y="14114"/>
                </a:lnTo>
                <a:lnTo>
                  <a:pt x="19596" y="14114"/>
                </a:lnTo>
              </a:path>
              <a:path w="2432" h="3200">
                <a:moveTo>
                  <a:pt x="19596" y="14114"/>
                </a:moveTo>
                <a:lnTo>
                  <a:pt x="19596" y="14114"/>
                </a:lnTo>
              </a:path>
              <a:path w="2432" h="3200">
                <a:moveTo>
                  <a:pt x="19596" y="14412"/>
                </a:moveTo>
                <a:cubicBezTo>
                  <a:pt x="19596" y="14420"/>
                  <a:pt x="19596" y="14428"/>
                  <a:pt x="19596" y="14436"/>
                </a:cubicBezTo>
              </a:path>
              <a:path w="2432" h="3200">
                <a:moveTo>
                  <a:pt x="20166" y="13940"/>
                </a:moveTo>
                <a:cubicBezTo>
                  <a:pt x="20207" y="13930"/>
                  <a:pt x="20217" y="13922"/>
                  <a:pt x="20265" y="13915"/>
                </a:cubicBezTo>
              </a:path>
              <a:path w="2432" h="3200">
                <a:moveTo>
                  <a:pt x="20687" y="13643"/>
                </a:moveTo>
                <a:cubicBezTo>
                  <a:pt x="20947" y="13550"/>
                  <a:pt x="21179" y="13506"/>
                  <a:pt x="21456" y="13494"/>
                </a:cubicBezTo>
              </a:path>
              <a:path w="2432" h="3200">
                <a:moveTo>
                  <a:pt x="21034" y="13841"/>
                </a:moveTo>
                <a:cubicBezTo>
                  <a:pt x="21015" y="13898"/>
                  <a:pt x="20754" y="14446"/>
                  <a:pt x="20737" y="14412"/>
                </a:cubicBezTo>
                <a:cubicBezTo>
                  <a:pt x="20753" y="14379"/>
                  <a:pt x="20770" y="14345"/>
                  <a:pt x="20786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4960" y="4152960"/>
            <a:ext cx="268200" cy="169920"/>
          </a:xfrm>
          <a:custGeom>
            <a:avLst/>
            <a:gdLst/>
            <a:ahLst/>
            <a:rect l="l" t="t" r="r" b="b"/>
            <a:pathLst>
              <a:path w="745" h="472">
                <a:moveTo>
                  <a:pt x="21059" y="11658"/>
                </a:moveTo>
                <a:cubicBezTo>
                  <a:pt x="21127" y="11658"/>
                  <a:pt x="21170" y="11662"/>
                  <a:pt x="21233" y="11683"/>
                </a:cubicBezTo>
                <a:cubicBezTo>
                  <a:pt x="21233" y="11869"/>
                  <a:pt x="21150" y="11877"/>
                  <a:pt x="21010" y="11981"/>
                </a:cubicBezTo>
                <a:cubicBezTo>
                  <a:pt x="21002" y="11989"/>
                  <a:pt x="20993" y="11997"/>
                  <a:pt x="20985" y="12005"/>
                </a:cubicBezTo>
                <a:cubicBezTo>
                  <a:pt x="21129" y="12005"/>
                  <a:pt x="21225" y="11986"/>
                  <a:pt x="21357" y="11931"/>
                </a:cubicBezTo>
              </a:path>
              <a:path w="745" h="472">
                <a:moveTo>
                  <a:pt x="21555" y="11534"/>
                </a:moveTo>
                <a:cubicBezTo>
                  <a:pt x="21416" y="11646"/>
                  <a:pt x="21408" y="11677"/>
                  <a:pt x="21382" y="11857"/>
                </a:cubicBezTo>
                <a:cubicBezTo>
                  <a:pt x="21484" y="11880"/>
                  <a:pt x="21907" y="11913"/>
                  <a:pt x="21704" y="11658"/>
                </a:cubicBezTo>
                <a:cubicBezTo>
                  <a:pt x="21654" y="11625"/>
                  <a:pt x="21605" y="11592"/>
                  <a:pt x="21555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80160" y="4599000"/>
            <a:ext cx="1008000" cy="1231920"/>
          </a:xfrm>
          <a:custGeom>
            <a:avLst/>
            <a:gdLst/>
            <a:ahLst/>
            <a:rect l="l" t="t" r="r" b="b"/>
            <a:pathLst>
              <a:path w="2804" h="3424">
                <a:moveTo>
                  <a:pt x="18703" y="14188"/>
                </a:moveTo>
                <a:cubicBezTo>
                  <a:pt x="18761" y="14188"/>
                  <a:pt x="18818" y="14188"/>
                  <a:pt x="18876" y="14188"/>
                </a:cubicBezTo>
                <a:cubicBezTo>
                  <a:pt x="18828" y="14358"/>
                  <a:pt x="18696" y="14513"/>
                  <a:pt x="18579" y="14660"/>
                </a:cubicBezTo>
                <a:cubicBezTo>
                  <a:pt x="18515" y="14740"/>
                  <a:pt x="18851" y="14612"/>
                  <a:pt x="18901" y="14585"/>
                </a:cubicBezTo>
              </a:path>
              <a:path w="2804" h="3424">
                <a:moveTo>
                  <a:pt x="19100" y="14238"/>
                </a:moveTo>
                <a:cubicBezTo>
                  <a:pt x="19023" y="14399"/>
                  <a:pt x="18995" y="14423"/>
                  <a:pt x="19050" y="14585"/>
                </a:cubicBezTo>
                <a:cubicBezTo>
                  <a:pt x="19195" y="14534"/>
                  <a:pt x="19465" y="14422"/>
                  <a:pt x="19248" y="14238"/>
                </a:cubicBezTo>
                <a:cubicBezTo>
                  <a:pt x="19199" y="14213"/>
                  <a:pt x="19149" y="14188"/>
                  <a:pt x="19100" y="14163"/>
                </a:cubicBezTo>
              </a:path>
              <a:path w="2804" h="3424">
                <a:moveTo>
                  <a:pt x="19546" y="13072"/>
                </a:moveTo>
                <a:cubicBezTo>
                  <a:pt x="19447" y="13105"/>
                  <a:pt x="19645" y="13074"/>
                  <a:pt x="19670" y="13072"/>
                </a:cubicBezTo>
                <a:cubicBezTo>
                  <a:pt x="19661" y="13184"/>
                  <a:pt x="19636" y="13250"/>
                  <a:pt x="19571" y="13345"/>
                </a:cubicBezTo>
                <a:cubicBezTo>
                  <a:pt x="19554" y="13370"/>
                  <a:pt x="19538" y="13394"/>
                  <a:pt x="19521" y="13419"/>
                </a:cubicBezTo>
                <a:cubicBezTo>
                  <a:pt x="19589" y="13412"/>
                  <a:pt x="19650" y="13395"/>
                  <a:pt x="19720" y="13395"/>
                </a:cubicBezTo>
                <a:cubicBezTo>
                  <a:pt x="19728" y="13395"/>
                  <a:pt x="19737" y="13395"/>
                  <a:pt x="19745" y="13395"/>
                </a:cubicBezTo>
              </a:path>
              <a:path w="2804" h="3424">
                <a:moveTo>
                  <a:pt x="19447" y="14263"/>
                </a:moveTo>
                <a:cubicBezTo>
                  <a:pt x="19516" y="14263"/>
                  <a:pt x="19577" y="14244"/>
                  <a:pt x="19645" y="14238"/>
                </a:cubicBezTo>
                <a:cubicBezTo>
                  <a:pt x="19653" y="14238"/>
                  <a:pt x="19662" y="14238"/>
                  <a:pt x="19670" y="14238"/>
                </a:cubicBezTo>
              </a:path>
              <a:path w="2804" h="3424">
                <a:moveTo>
                  <a:pt x="19893" y="14163"/>
                </a:moveTo>
                <a:cubicBezTo>
                  <a:pt x="19918" y="14163"/>
                  <a:pt x="19943" y="14163"/>
                  <a:pt x="19968" y="14163"/>
                </a:cubicBezTo>
                <a:cubicBezTo>
                  <a:pt x="19979" y="14282"/>
                  <a:pt x="19926" y="14370"/>
                  <a:pt x="19869" y="14486"/>
                </a:cubicBezTo>
                <a:cubicBezTo>
                  <a:pt x="20036" y="14472"/>
                  <a:pt x="20107" y="14469"/>
                  <a:pt x="20191" y="14337"/>
                </a:cubicBezTo>
              </a:path>
              <a:path w="2804" h="3424">
                <a:moveTo>
                  <a:pt x="20117" y="13643"/>
                </a:moveTo>
                <a:cubicBezTo>
                  <a:pt x="20109" y="13643"/>
                  <a:pt x="20100" y="13643"/>
                  <a:pt x="20092" y="13643"/>
                </a:cubicBezTo>
                <a:cubicBezTo>
                  <a:pt x="20126" y="13676"/>
                  <a:pt x="20197" y="13667"/>
                  <a:pt x="20265" y="13667"/>
                </a:cubicBezTo>
              </a:path>
              <a:path w="2804" h="3424">
                <a:moveTo>
                  <a:pt x="20910" y="13022"/>
                </a:moveTo>
                <a:cubicBezTo>
                  <a:pt x="20864" y="13022"/>
                  <a:pt x="20990" y="12979"/>
                  <a:pt x="21010" y="12973"/>
                </a:cubicBezTo>
                <a:cubicBezTo>
                  <a:pt x="21026" y="12973"/>
                  <a:pt x="21043" y="12973"/>
                  <a:pt x="21059" y="12973"/>
                </a:cubicBezTo>
                <a:cubicBezTo>
                  <a:pt x="21032" y="13097"/>
                  <a:pt x="20962" y="13167"/>
                  <a:pt x="20910" y="13271"/>
                </a:cubicBezTo>
                <a:cubicBezTo>
                  <a:pt x="20980" y="13215"/>
                  <a:pt x="21084" y="13174"/>
                  <a:pt x="21134" y="13295"/>
                </a:cubicBezTo>
                <a:cubicBezTo>
                  <a:pt x="21194" y="13440"/>
                  <a:pt x="21019" y="13579"/>
                  <a:pt x="20886" y="13519"/>
                </a:cubicBezTo>
                <a:cubicBezTo>
                  <a:pt x="20861" y="13494"/>
                  <a:pt x="20836" y="13469"/>
                  <a:pt x="20811" y="13444"/>
                </a:cubicBezTo>
              </a:path>
              <a:path w="2804" h="3424">
                <a:moveTo>
                  <a:pt x="21208" y="13841"/>
                </a:moveTo>
                <a:cubicBezTo>
                  <a:pt x="21114" y="13935"/>
                  <a:pt x="21100" y="14078"/>
                  <a:pt x="21109" y="14213"/>
                </a:cubicBezTo>
                <a:cubicBezTo>
                  <a:pt x="21214" y="14191"/>
                  <a:pt x="21519" y="14054"/>
                  <a:pt x="21307" y="13891"/>
                </a:cubicBezTo>
                <a:cubicBezTo>
                  <a:pt x="21257" y="13874"/>
                  <a:pt x="21208" y="13858"/>
                  <a:pt x="21158" y="13841"/>
                </a:cubicBezTo>
              </a:path>
              <a:path w="2804" h="3424">
                <a:moveTo>
                  <a:pt x="18604" y="13122"/>
                </a:moveTo>
                <a:cubicBezTo>
                  <a:pt x="18889" y="13389"/>
                  <a:pt x="19221" y="13652"/>
                  <a:pt x="19546" y="13891"/>
                </a:cubicBezTo>
                <a:cubicBezTo>
                  <a:pt x="19723" y="14021"/>
                  <a:pt x="20095" y="14357"/>
                  <a:pt x="20315" y="14461"/>
                </a:cubicBezTo>
                <a:cubicBezTo>
                  <a:pt x="20315" y="14453"/>
                  <a:pt x="20315" y="14444"/>
                  <a:pt x="20315" y="14436"/>
                </a:cubicBezTo>
              </a:path>
              <a:path w="2804" h="3424">
                <a:moveTo>
                  <a:pt x="19794" y="12774"/>
                </a:moveTo>
                <a:cubicBezTo>
                  <a:pt x="19717" y="13218"/>
                  <a:pt x="19456" y="13548"/>
                  <a:pt x="19248" y="13940"/>
                </a:cubicBezTo>
                <a:cubicBezTo>
                  <a:pt x="19171" y="14085"/>
                  <a:pt x="19036" y="14300"/>
                  <a:pt x="19100" y="14461"/>
                </a:cubicBezTo>
                <a:cubicBezTo>
                  <a:pt x="19108" y="14453"/>
                  <a:pt x="19116" y="14444"/>
                  <a:pt x="19124" y="14436"/>
                </a:cubicBezTo>
              </a:path>
              <a:path w="2804" h="3424">
                <a:moveTo>
                  <a:pt x="18777" y="15528"/>
                </a:moveTo>
                <a:cubicBezTo>
                  <a:pt x="18875" y="15508"/>
                  <a:pt x="18975" y="15458"/>
                  <a:pt x="19075" y="15429"/>
                </a:cubicBezTo>
                <a:cubicBezTo>
                  <a:pt x="19059" y="15605"/>
                  <a:pt x="19004" y="15635"/>
                  <a:pt x="18876" y="15751"/>
                </a:cubicBezTo>
                <a:cubicBezTo>
                  <a:pt x="18965" y="15691"/>
                  <a:pt x="19117" y="15689"/>
                  <a:pt x="19100" y="15850"/>
                </a:cubicBezTo>
                <a:cubicBezTo>
                  <a:pt x="19084" y="16005"/>
                  <a:pt x="18891" y="15979"/>
                  <a:pt x="18827" y="15925"/>
                </a:cubicBezTo>
              </a:path>
              <a:path w="2804" h="3424">
                <a:moveTo>
                  <a:pt x="18554" y="16197"/>
                </a:moveTo>
                <a:cubicBezTo>
                  <a:pt x="18819" y="16131"/>
                  <a:pt x="19086" y="16072"/>
                  <a:pt x="19348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84920" y="4483080"/>
            <a:ext cx="1901880" cy="249120"/>
          </a:xfrm>
          <a:custGeom>
            <a:avLst/>
            <a:gdLst/>
            <a:ahLst/>
            <a:rect l="l" t="t" r="r" b="b"/>
            <a:pathLst>
              <a:path w="5285" h="695">
                <a:moveTo>
                  <a:pt x="16346" y="13122"/>
                </a:moveTo>
                <a:cubicBezTo>
                  <a:pt x="16384" y="13119"/>
                  <a:pt x="16763" y="13077"/>
                  <a:pt x="16793" y="13072"/>
                </a:cubicBezTo>
                <a:cubicBezTo>
                  <a:pt x="17843" y="12882"/>
                  <a:pt x="18882" y="12757"/>
                  <a:pt x="19943" y="12650"/>
                </a:cubicBezTo>
                <a:cubicBezTo>
                  <a:pt x="20488" y="12595"/>
                  <a:pt x="21091" y="12573"/>
                  <a:pt x="21630" y="12477"/>
                </a:cubicBezTo>
                <a:cubicBezTo>
                  <a:pt x="21630" y="12469"/>
                  <a:pt x="21630" y="12460"/>
                  <a:pt x="21630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99"/>
                </a:solidFill>
                <a:latin typeface="Arial"/>
              </a:rPr>
              <a:t>PW 5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01T19:20:56Z</dcterms:modified>
  <cp:revision>36</cp:revision>
  <dc:subject/>
  <dc:title>Unit 1 – Variables and Equations </dc:title>
</cp:coreProperties>
</file>